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8A85-38E4-4971-8CDE-638C8B760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A5D4-F4D8-4A46-8ED0-B8DBC2EA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5EDB-05F4-4940-9CE7-09FBB0CD6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A81F-FCDF-4E80-B176-B62AD3737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E9CF-ADFC-4261-8FAF-4C347B2C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BB38-9A4F-468C-8E24-8660ED81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13B1-D734-4876-8322-6DF5E878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34E8-567E-4052-9890-219F3F8A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1BA0-CC81-48B5-B594-ABCB58C4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9D60-56D2-43BB-909B-66550749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4C24-33DA-4F42-A0E2-7631556F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8716-460D-48DF-B321-1BD0F590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cc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cc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cc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3D27-0873-48CB-A1BD-6CFA9FFA9521}" type="slidenum"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underlandschools.org/mfl-sunderland" TargetMode="External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cc0000"/>
                </a:solidFill>
                <a:latin typeface="Jokerman"/>
              </a:rPr>
              <a:t>Los 12 días de Navidad </a:t>
            </a: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095880" cy="4398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43280" y="6453360"/>
            <a:ext cx="630072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cc0000"/>
                </a:solidFill>
                <a:latin typeface="Arial Rounded MT Bold"/>
              </a:rPr>
              <a:t>©MFL Sunderland 2008 AG </a:t>
            </a:r>
            <a:r>
              <a:rPr b="0" lang="de-DE" sz="1000" spc="-1" strike="noStrike" u="sng">
                <a:solidFill>
                  <a:srgbClr val="ccccff"/>
                </a:solidFill>
                <a:uFillTx/>
                <a:latin typeface="Arial Rounded MT Bold"/>
                <a:hlinkClick r:id="rId2"/>
              </a:rPr>
              <a:t>http://www.sunderlandschools.org/mfl-sunderland</a:t>
            </a:r>
            <a:r>
              <a:rPr b="0" lang="en-US" sz="1000" spc="-1" strike="noStrike">
                <a:solidFill>
                  <a:srgbClr val="cc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5943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nueve bailarinas, </a:t>
            </a:r>
            <a:br>
              <a:rPr sz="4400"/>
            </a:b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ocho lecheritas, siete cisnitos, seis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, cinco anillos dorados, cuatro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, tres gallinitas, dos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 y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. 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30492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Comic Sans MS"/>
              </a:rPr>
              <a:t>El noveno día de Navidad, mi amante me mandó…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70" name="" descr="12 Days of Christmas: 9 Ladies Dancing"/>
          <p:cNvPicPr/>
          <p:nvPr/>
        </p:nvPicPr>
        <p:blipFill>
          <a:blip r:embed="rId1"/>
          <a:stretch/>
        </p:blipFill>
        <p:spPr>
          <a:xfrm>
            <a:off x="6400800" y="2514600"/>
            <a:ext cx="246528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523520"/>
            <a:ext cx="6553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diez señores saltando, nueve bailarinas, ocho lecheritas, siete cisnitos, seis mamá gansas, cinco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, cuatro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, tres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, dos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 y una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. 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30492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Comic Sans MS"/>
              </a:rPr>
              <a:t>El décimo día de Navidad, mi amante me mandó…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73" name="" descr="12 Days of Christmas: 10 Lords A Leaping"/>
          <p:cNvPicPr/>
          <p:nvPr/>
        </p:nvPicPr>
        <p:blipFill>
          <a:blip r:embed="rId1"/>
          <a:stretch/>
        </p:blipFill>
        <p:spPr>
          <a:xfrm>
            <a:off x="6477120" y="2743200"/>
            <a:ext cx="239544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6019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once gaiteritos, </a:t>
            </a:r>
            <a:br>
              <a:rPr sz="4400"/>
            </a:b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diez señores saltando, nueve bailarinas, ocho lecheritas, siete cisnitos, seis mamá gansas,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,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,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,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 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y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. 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304920"/>
            <a:ext cx="838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Comic Sans MS"/>
              </a:rPr>
              <a:t>El undécimo día de Navidad, mi amante me mandó…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76" name="" descr="12 Days of Christmas: 11 Pipers Piping"/>
          <p:cNvPicPr/>
          <p:nvPr/>
        </p:nvPicPr>
        <p:blipFill>
          <a:blip r:embed="rId1"/>
          <a:stretch/>
        </p:blipFill>
        <p:spPr>
          <a:xfrm>
            <a:off x="6248520" y="2666880"/>
            <a:ext cx="267156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6324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doce tamborileros, once gaiteritos, diez señores saltando, nueve bailarinas, ocho lecheritas, siete cisnitos,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,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,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,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,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 y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. 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0492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Comic Sans MS"/>
              </a:rPr>
              <a:t>El duodécimo día de Navidad, mi amante me mandó…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79" name="" descr="12 Days of Christmas: 12 Drummers Drumming"/>
          <p:cNvPicPr/>
          <p:nvPr/>
        </p:nvPicPr>
        <p:blipFill>
          <a:blip r:embed="rId1"/>
          <a:stretch/>
        </p:blipFill>
        <p:spPr>
          <a:xfrm>
            <a:off x="6477120" y="2743200"/>
            <a:ext cx="240336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971800"/>
            <a:ext cx="5029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una perdiz picando peras del peral. 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45" name="" descr="Partridge in a Pear Tree"/>
          <p:cNvPicPr/>
          <p:nvPr/>
        </p:nvPicPr>
        <p:blipFill>
          <a:blip r:embed="rId1"/>
          <a:stretch/>
        </p:blipFill>
        <p:spPr>
          <a:xfrm>
            <a:off x="6019920" y="26668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120" y="68580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Comic Sans MS"/>
              </a:rPr>
              <a:t>El primer día de Navidad, mi amante me mandó…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51055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dos tortolitas y una perdiz picando peras del peral. 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48" name="" descr="Turteltauben"/>
          <p:cNvPicPr/>
          <p:nvPr/>
        </p:nvPicPr>
        <p:blipFill>
          <a:blip r:embed="rId1"/>
          <a:stretch/>
        </p:blipFill>
        <p:spPr>
          <a:xfrm>
            <a:off x="6095880" y="2819520"/>
            <a:ext cx="2819520" cy="2819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2120" y="685800"/>
            <a:ext cx="7238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Comic Sans MS"/>
              </a:rPr>
              <a:t>El segundo día de Navidad, mi amante me mandó…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2819520"/>
            <a:ext cx="4800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tres gallinitas, dos tortolitas y una perdiz picando peras del peral. 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51" name="" descr="3 French Hens"/>
          <p:cNvPicPr/>
          <p:nvPr/>
        </p:nvPicPr>
        <p:blipFill>
          <a:blip r:embed="rId1"/>
          <a:stretch/>
        </p:blipFill>
        <p:spPr>
          <a:xfrm>
            <a:off x="6019920" y="2666880"/>
            <a:ext cx="2895480" cy="2895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68580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Comic Sans MS"/>
              </a:rPr>
              <a:t>El tercer día de Navidad, mi amante me mandó…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49528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cuatro pajaritos, tres gallinitas, dos tortolitas y una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. 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54" name="" descr="4 Calling Birds"/>
          <p:cNvPicPr/>
          <p:nvPr/>
        </p:nvPicPr>
        <p:blipFill>
          <a:blip r:embed="rId1"/>
          <a:stretch/>
        </p:blipFill>
        <p:spPr>
          <a:xfrm>
            <a:off x="6095880" y="266688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62120" y="68580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Comic Sans MS"/>
              </a:rPr>
              <a:t>El cuarto día de Navidad, mi amante me mandó…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cinco anillos dorados, cuatro pajaritos, </a:t>
            </a:r>
            <a:br>
              <a:rPr sz="4400"/>
            </a:b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tres gallinitas, dos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 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y una perdiz picando peras del peral. 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68580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Comic Sans MS"/>
              </a:rPr>
              <a:t>El quinto día de Navidad, mi amante me mandó…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58" name="" descr="5 Gold Rings"/>
          <p:cNvPicPr/>
          <p:nvPr/>
        </p:nvPicPr>
        <p:blipFill>
          <a:blip r:embed="rId1"/>
          <a:stretch/>
        </p:blipFill>
        <p:spPr>
          <a:xfrm>
            <a:off x="6400800" y="3048120"/>
            <a:ext cx="25146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7432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seis mamá gansas, cinco anillos dorados, cuatro pajaritos, tres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, dos tortolitas y una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. 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685800"/>
            <a:ext cx="701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Comic Sans MS"/>
              </a:rPr>
              <a:t>El sexto día de Navidad, mi amante me mandó…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61" name="" descr="6 Geese a laying"/>
          <p:cNvPicPr/>
          <p:nvPr/>
        </p:nvPicPr>
        <p:blipFill>
          <a:blip r:embed="rId1"/>
          <a:stretch/>
        </p:blipFill>
        <p:spPr>
          <a:xfrm>
            <a:off x="6553080" y="33526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siete cisnitos, </a:t>
            </a:r>
            <a:br>
              <a:rPr sz="4400"/>
            </a:b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seis mamá gansas, cinco anillos dorados, cuatro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, tres gallinitas, dos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 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y una perdiz picando peras del peral. 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30492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Comic Sans MS"/>
              </a:rPr>
              <a:t>El séptimo día de Navidad, mi amante me mandó…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64" name="" descr="7 Swans a swimming"/>
          <p:cNvPicPr/>
          <p:nvPr/>
        </p:nvPicPr>
        <p:blipFill>
          <a:blip r:embed="rId1"/>
          <a:stretch/>
        </p:blipFill>
        <p:spPr>
          <a:xfrm>
            <a:off x="6324480" y="259092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1981080"/>
            <a:ext cx="5715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ocho lecheritas, siete cisnitos, seis mamá gansas, cinco anillos dorados, cuatro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, tres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, dos tortolitas y una 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" sz="4400" spc="-1" strike="noStrike">
                <a:solidFill>
                  <a:srgbClr val="cc0000"/>
                </a:solidFill>
                <a:latin typeface="Comic Sans MS"/>
              </a:rPr>
              <a:t>. 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92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Comic Sans MS"/>
              </a:rPr>
              <a:t>El octavo día de Navidad, mi amante me mandó…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67" name="" descr="12 Days of Christmas: 8 Maids A Milking"/>
          <p:cNvPicPr/>
          <p:nvPr/>
        </p:nvPicPr>
        <p:blipFill>
          <a:blip r:embed="rId1"/>
          <a:stretch/>
        </p:blipFill>
        <p:spPr>
          <a:xfrm>
            <a:off x="6324480" y="2590920"/>
            <a:ext cx="240372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5:38:40Z</dcterms:created>
  <dc:creator>Administrator</dc:creator>
  <dc:description/>
  <dc:language>en-US</dc:language>
  <cp:lastModifiedBy>CSeccombe</cp:lastModifiedBy>
  <dcterms:modified xsi:type="dcterms:W3CDTF">2008-01-11T10:29:16Z</dcterms:modified>
  <cp:revision>8</cp:revision>
  <dc:subject/>
  <dc:title>Los 12 días de Navidad  </dc:title>
</cp:coreProperties>
</file>