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078-02F0-4A9F-A1C6-1E541C4F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7B5-0351-4142-8803-1879F751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67E-8528-4EC7-B185-6C76EF72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C1C-0ABE-4561-8ADD-EB5C8D5C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C40-B58E-47B3-8CCC-D9304015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430-F9EE-4A51-896F-3DCFE5A1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B77-370E-4FFE-B70A-84C71A0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C06-AAB0-42E6-8292-04E1D7A8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235-CA85-416C-AB9F-1EB913C6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22F-913A-49D3-9B41-FB1D100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04F-35C8-40C0-8C2B-A275D5C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FB5-332A-43D2-94F3-B7CB1018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0161-156D-4B18-BA1A-89D264AE896A}" type="slidenum"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Los 12 días de Navidad 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9588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43280" y="6453360"/>
            <a:ext cx="6300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0000"/>
                </a:solidFill>
                <a:latin typeface="Arial Rounded MT Bold"/>
              </a:rPr>
              <a:t>©MFL Sunderland 2008 AG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cc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nueve bailarina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ocho lecheritas, siete cisnitos, sei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cinco anillos dorados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gallinitas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 y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noven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0" name="" descr="12 Days of Christmas: 9 Ladies Dancing"/>
          <p:cNvPicPr/>
          <p:nvPr/>
        </p:nvPicPr>
        <p:blipFill>
          <a:blip r:embed="rId1"/>
          <a:stretch/>
        </p:blipFill>
        <p:spPr>
          <a:xfrm>
            <a:off x="6400800" y="2514600"/>
            <a:ext cx="24652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iez señores saltando, nueve bailarinas, ocho lecheritas, siete cisnitos, seis mamá gansas, cinc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déc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3" name="" descr="12 Days of Christmas: 10 Lords A Leaping"/>
          <p:cNvPicPr/>
          <p:nvPr/>
        </p:nvPicPr>
        <p:blipFill>
          <a:blip r:embed="rId1"/>
          <a:stretch/>
        </p:blipFill>
        <p:spPr>
          <a:xfrm>
            <a:off x="6477120" y="2743200"/>
            <a:ext cx="23954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once gaiterito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iez señores saltando, nueve bailarinas, ocho lecheritas, siete cisnitos, seis mamá gansas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y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49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undéc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6" name="" descr="12 Days of Christmas: 11 Pipers Piping"/>
          <p:cNvPicPr/>
          <p:nvPr/>
        </p:nvPicPr>
        <p:blipFill>
          <a:blip r:embed="rId1"/>
          <a:stretch/>
        </p:blipFill>
        <p:spPr>
          <a:xfrm>
            <a:off x="6248520" y="2666880"/>
            <a:ext cx="26715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632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oce tamborileros, once gaiteritos, diez señores saltando, nueve bailarinas, ocho lecheritas, siete cisnitos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 y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049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duodéc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9" name="" descr="12 Days of Christmas: 12 Drummers Drumming"/>
          <p:cNvPicPr/>
          <p:nvPr/>
        </p:nvPicPr>
        <p:blipFill>
          <a:blip r:embed="rId1"/>
          <a:stretch/>
        </p:blipFill>
        <p:spPr>
          <a:xfrm>
            <a:off x="6477120" y="2743200"/>
            <a:ext cx="2403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5" name="" descr="Partridge in a Pear Tree"/>
          <p:cNvPicPr/>
          <p:nvPr/>
        </p:nvPicPr>
        <p:blipFill>
          <a:blip r:embed="rId1"/>
          <a:stretch/>
        </p:blipFill>
        <p:spPr>
          <a:xfrm>
            <a:off x="6019920" y="2666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primer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os tortolitas 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8" name="" descr="Turteltauben"/>
          <p:cNvPicPr/>
          <p:nvPr/>
        </p:nvPicPr>
        <p:blipFill>
          <a:blip r:embed="rId1"/>
          <a:stretch/>
        </p:blipFill>
        <p:spPr>
          <a:xfrm>
            <a:off x="6095880" y="2819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6858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segund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4800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tres gallinitas, dos tortolitas 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1" name="" descr="3 French Hens"/>
          <p:cNvPicPr/>
          <p:nvPr/>
        </p:nvPicPr>
        <p:blipFill>
          <a:blip r:embed="rId1"/>
          <a:stretch/>
        </p:blipFill>
        <p:spPr>
          <a:xfrm>
            <a:off x="6019920" y="26668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tercer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4952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cuatro pajaritos, tres gallinitas, dos tortolitas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4" name="" descr="4 Calling Birds"/>
          <p:cNvPicPr/>
          <p:nvPr/>
        </p:nvPicPr>
        <p:blipFill>
          <a:blip r:embed="rId1"/>
          <a:stretch/>
        </p:blipFill>
        <p:spPr>
          <a:xfrm>
            <a:off x="6095880" y="26668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cuart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cinco anillos dorados, cuatro pajarito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tres gallinitas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quint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8" name="" descr="5 Gold Rings"/>
          <p:cNvPicPr/>
          <p:nvPr/>
        </p:nvPicPr>
        <p:blipFill>
          <a:blip r:embed="rId1"/>
          <a:stretch/>
        </p:blipFill>
        <p:spPr>
          <a:xfrm>
            <a:off x="6400800" y="3048120"/>
            <a:ext cx="2514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7432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seis mamá gansas, cinco anillos dorados, cuatro pajaritos, tre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dos tortolitas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8580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sext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61" name="" descr="6 Geese a laying"/>
          <p:cNvPicPr/>
          <p:nvPr/>
        </p:nvPicPr>
        <p:blipFill>
          <a:blip r:embed="rId1"/>
          <a:stretch/>
        </p:blipFill>
        <p:spPr>
          <a:xfrm>
            <a:off x="6553080" y="3352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siete cisnito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seis mamá gansas, cinco anillos dorados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gallinitas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sépt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64" name="" descr="7 Swans a swimming"/>
          <p:cNvPicPr/>
          <p:nvPr/>
        </p:nvPicPr>
        <p:blipFill>
          <a:blip r:embed="rId1"/>
          <a:stretch/>
        </p:blipFill>
        <p:spPr>
          <a:xfrm>
            <a:off x="6324480" y="2590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ocho lecheritas, siete cisnitos, seis mamá gansas, cinco anillos dorados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dos tortolitas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octav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67" name="" descr="12 Days of Christmas: 8 Maids A Milking"/>
          <p:cNvPicPr/>
          <p:nvPr/>
        </p:nvPicPr>
        <p:blipFill>
          <a:blip r:embed="rId1"/>
          <a:stretch/>
        </p:blipFill>
        <p:spPr>
          <a:xfrm>
            <a:off x="6324480" y="2590920"/>
            <a:ext cx="2403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5:38:40Z</dcterms:created>
  <dc:creator>Administrator</dc:creator>
  <dc:description/>
  <dc:language>en-US</dc:language>
  <cp:lastModifiedBy>CSeccombe</cp:lastModifiedBy>
  <dcterms:modified xsi:type="dcterms:W3CDTF">2008-01-11T10:29:16Z</dcterms:modified>
  <cp:revision>8</cp:revision>
  <dc:subject/>
  <dc:title>Los 12 días de Navidad  </dc:title>
</cp:coreProperties>
</file>