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F97-D90B-466E-BB9F-65CE7634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6C1-27CF-4343-B0E0-BB305C4C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8DD-A000-4178-9E32-60A5D1AE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FCA9-7E86-4440-B3B9-C0CE61AF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C709-D317-481A-9013-0793696F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AF7C-05A8-4FD9-862D-22087394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3C24-2CF9-449A-B7FB-4AC0D57E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1476-645E-446E-9D64-78E625A9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2B09-9261-405F-A8D5-BD248C7C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876E-C619-40F1-9F59-542FDBA0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79A7-E4EF-4C1C-9639-A4F5E00F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8C75-D92A-496F-8D40-87A4C446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9529-37E3-4167-A179-9FFB62A2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99AA-8F69-4381-8744-8C39A878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8CAD-8D13-4433-8636-4C49184A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F991-78BF-45FF-8F79-8DED821D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3ED6-AEAE-4601-87DA-B07548F2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86ED-01F5-40F0-865A-2840A14E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5527-71FB-4FB7-9D9B-2DA8EB45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4396-279C-4194-B2E6-9AB59616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226-A5CC-4834-9D6C-04AA6EF7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1875-7671-49F9-8203-27E4DBF5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A49B-5A24-4BC6-9F25-030B4519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AFD7-4E74-4832-8C15-8B9ED5F5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08B8-E85B-4B4C-990B-53C1523065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48D5-043E-4D07-8544-C38D98E4460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tholic.net/RCC/Christmas97/1997/advent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ristmas in the German speaking countr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6453360"/>
            <a:ext cx="72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6649920"/>
            <a:ext cx="399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 Rounded MT Bold"/>
              </a:rPr>
              <a:t>©MFL Sunderland 2007 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DF </a:t>
            </a:r>
            <a:r>
              <a:rPr b="0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sz="800" spc="-1" strike="noStrike" u="sng">
                <a:solidFill>
                  <a:srgbClr val="ffcc66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1471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ingle Bel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784872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Jingle Bells, Jingle Bells,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klingt es weit und breit.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Schön ist eine Schlittenfahrt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im Winter wenn es schneit.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Jingle Bells, Jingle Bells,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klingt es weit und breit.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Mach' mit mir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  'ne Schneeballschlacht,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der Winter steht bereit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dventskranz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69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Germany Christmas celebrations start a lot earlier than in England.  Most German families have an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entskranz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(a type of wreath).  There are four candles on the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entskranz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nd one is lit on each of the four Sundays leading up to Christmas 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advent wrea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916280"/>
            <a:ext cx="31528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dventskalend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st German children also have an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dventskalende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  These are also popular in England now.  For each day up to Christmas, there is a door to be opened.  Sometimes behind this door you will find a picture or sometimes a piece of chocola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2389320"/>
            <a:ext cx="403848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t. Nikla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n the eve of the 6th December, German children are visited by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t. Niklau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Santa Claus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leave their shoes or boots out and when they wake up they find them filled with chocolates, fruit, nuts, sweets and St Niklaus figure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91080" y="1628640"/>
            <a:ext cx="4311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Der heilige Abe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erman speaking families celebrate Christmas on Christmas Eve (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er heilige Aben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parents decorate the tree in the ‘Weihnachtszimmer’ (Christmas room) with apples, sometimes with real candles, baubles (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Kugel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 and with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Engelshaa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‘angel’s hair’ – tinsel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78320" y="1484280"/>
            <a:ext cx="2556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Der Weihnachtsbau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he top of the tree the parents put a star (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Ster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d at the foot of the tree is the crib (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die Krippe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867280" y="1700280"/>
            <a:ext cx="1390680" cy="1800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37623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Das Christki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w it’s time for the Christ Child (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as Christkin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 or the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Weihnachtsman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Father Christmas) to bring the present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en he has been, the children are allowed into the Weihnachtszimmer for die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escherung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distribution of presents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88000" y="1603440"/>
            <a:ext cx="4105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Das Weihnachtsess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Germans and Austrians often eat carp (Karpfen) for their Christmas me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is usually followed by goose (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er Weihnachtsgan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36738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Das Weihnachtsess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ther Christmas foods are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Lebkuche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which are spicy ginger biscuits, and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Stolle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which is the German Christmas cak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2951280" cy="2212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27640" y="4005360"/>
            <a:ext cx="450684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9:38:46Z</dcterms:created>
  <dc:creator>Lumley</dc:creator>
  <dc:description/>
  <dc:language>en-US</dc:language>
  <cp:lastModifiedBy>CSeccombe</cp:lastModifiedBy>
  <dcterms:modified xsi:type="dcterms:W3CDTF">2007-12-18T09:57:57Z</dcterms:modified>
  <cp:revision>7</cp:revision>
  <dc:subject/>
  <dc:title>Christmas in Germany</dc:title>
</cp:coreProperties>
</file>