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173-D476-4DCF-AE99-72F4AECD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0C3B-1279-41B0-976F-F6A9417B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362-070B-4028-85FF-7FA29AD3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F1D-C4AE-4716-9884-04DAFDA7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03BC-476C-4F17-89E8-3B2F280E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2326-F880-44E0-B3BC-9E8EAF13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C86C-FCE3-486F-9557-1D62B58E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9A47-B72B-4390-8E4C-912B0F2D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8FB4-A861-4200-BDB8-C7A8EDAF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3016-F2F7-405E-829B-C2707B39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D3C4-C87E-49D7-AEEC-0A8A5C4C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1B7-DAE1-45D5-9A5A-1ED91A67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164B-066B-4289-823F-FEB475F8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C0B7-3EB6-4F10-9F5B-79F6ABD9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90C2-7553-4184-B8DF-8599D94D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5522-0E57-4EB4-A1B1-59FD3EF4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2251-352B-4BFB-A810-F43E8B1B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C51-3CC9-49DE-9AD1-BF875E68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FD6-E90A-45F7-97CE-0A8D5EFA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377-65EA-4FBB-9D9A-A207D935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505-8178-4738-9F8B-F526482C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D007-24D8-4D9C-A05A-CA6A37E1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765-7495-4A50-9055-1B7ACDD3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6C8-2E11-4741-826E-FBF7676C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9CD4-092E-45FD-BBDD-FFB22C95BDD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FD7D-2833-45BC-B431-C1E1FFB252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tholic.net/RCC/Christmas97/1997/advent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ristmas in the German speaking countr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6453360"/>
            <a:ext cx="72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6649920"/>
            <a:ext cx="39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 Rounded MT Bold"/>
              </a:rPr>
              <a:t>©MFL Sunderland 2007 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DF </a:t>
            </a:r>
            <a:r>
              <a:rPr b="0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sz="800" spc="-1" strike="noStrike" u="sng">
                <a:solidFill>
                  <a:srgbClr val="ffcc66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1471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ingle Bel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784872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Jingle Bells, Jingle Bells,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klingt es weit und breit.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Schön ist eine Schlittenfahrt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im Winter wenn es schneit.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Jingle Bells, Jingle Bells,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klingt es weit und breit.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Mach' mit mir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  'ne Schneeballschlacht,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der Winter steht bereit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dventskranz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69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Germany Christmas celebrations start a lot earlier than in England.  Most German families have an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entskranz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(a type of wreath).  There are four candles on the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entskranz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one is lit on each of the four Sundays leading up to Christmas 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advent wrea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916280"/>
            <a:ext cx="31528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dventskalend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st German children also have an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dventskalende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  These are also popular in England now.  For each day up to Christmas, there is a door to be opened.  Sometimes behind this door you will find a picture or sometimes a piece of chocola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2389320"/>
            <a:ext cx="403848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t. Nikla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n the eve of the 6th December, German children are visited by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t. Niklau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Santa Claus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leave their shoes or boots out and when they wake up they find them filled with chocolates, fruit, nuts, sweets and St Niklaus figure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91080" y="1628640"/>
            <a:ext cx="4311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Der heilige Abe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erman speaking families celebrate Christmas on Christmas Eve (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er heilige Aben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parents decorate the tree in the ‘Weihnachtszimmer’ (Christmas room) with apples, sometimes with real candles, baubles (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Kugel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and with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Engelshaa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‘angel’s hair’ – tinsel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78320" y="1484280"/>
            <a:ext cx="2556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Der Weihnachtsba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he top of the tree the parents put a star (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ter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d at the foot of the tree is the crib (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ie Krippe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867280" y="1700280"/>
            <a:ext cx="1390680" cy="1800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37623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Das Christki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w it’s time for the Christ Child (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as Christkin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or the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Weihnachtsman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Father Christmas) to bring the presen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he has been, the children are allowed into the Weihnachtszimmer for die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escherung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distribution of presents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1603440"/>
            <a:ext cx="4105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Das Weihnachtsess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Germans and Austrians often eat carp (Karpfen) for their Christmas me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is usually followed by goose (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er Weihnachtsgan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36738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Das Weihnachtsess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ther Christmas foods are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Lebkuche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which are spicy ginger biscuits, and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tolle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which is the German Christmas cak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2951280" cy="221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27640" y="4005360"/>
            <a:ext cx="450684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9:38:46Z</dcterms:created>
  <dc:creator>Lumley</dc:creator>
  <dc:description/>
  <dc:language>en-US</dc:language>
  <cp:lastModifiedBy>CSeccombe</cp:lastModifiedBy>
  <dcterms:modified xsi:type="dcterms:W3CDTF">2007-12-18T09:57:57Z</dcterms:modified>
  <cp:revision>7</cp:revision>
  <dc:subject/>
  <dc:title>Christmas in Germany</dc:title>
</cp:coreProperties>
</file>