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B94-BB8A-4FF7-A183-0AA58A1A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7C7-8BDB-44A9-A0C7-CDE77513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BCB-CB82-4A2E-8ED4-7C064630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A44-D726-4C89-995A-F5DD17AC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454-D787-4010-AA4A-4CFB98B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306-6054-4F60-BB60-F7E9C25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41F-320A-48BD-8547-F35C8A86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BA6-673C-432C-827D-9177C33B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5F0-E4FF-4A5B-8924-030F50B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47E-14CE-4154-A44A-583B9C3C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F71-5BAA-4B5D-A82E-5841D58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A8B-A785-4FB8-9AB3-F1A92B3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49D2-9DDB-4881-98F5-E1B2E692F33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flickr.com/59/177009618_fa9f842071_o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¡Feliz navidad!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Tempus Sans ITC"/>
              </a:rPr>
              <a:t>Objectivos</a:t>
            </a: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: Hoy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Aprenderéis algo sobre las costumbres navideños en Españ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Contestaráis unas preguntas para ver qué recordái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Cantaráis </a:t>
            </a:r>
            <a:r>
              <a:rPr b="1" i="1" lang="es-ES" sz="2800" spc="-1" strike="noStrike">
                <a:solidFill>
                  <a:srgbClr val="000066"/>
                </a:solidFill>
                <a:latin typeface="Tempus Sans ITC"/>
              </a:rPr>
              <a:t>Los 12 días de Navidad </a:t>
            </a: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en españo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34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08040" y="6602760"/>
            <a:ext cx="4869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66"/>
                </a:solidFill>
                <a:latin typeface="Arial Rounded MT Bold"/>
              </a:rPr>
              <a:t>©MFL Sunderland 2008 AG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La Nochebuena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El 24 de diciembre se llama </a:t>
            </a:r>
            <a:r>
              <a:rPr b="0" i="1" lang="es-ES" sz="2800" spc="-1" strike="noStrike">
                <a:solidFill>
                  <a:srgbClr val="000066"/>
                </a:solidFill>
                <a:latin typeface="Comic Sans MS"/>
              </a:rPr>
              <a:t>La Nochebuena</a:t>
            </a: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. Todas las familias españolas se reúnen para la cena más importante del año. Se come mariscos, pavo, turrones y mazapanes. Se bebe vino, sidra y cav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8" name="ChristmasTurkey2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" name="" descr="Torta Turrón de Alicante"/>
          <p:cNvPicPr/>
          <p:nvPr/>
        </p:nvPicPr>
        <p:blipFill>
          <a:blip r:embed="rId2"/>
          <a:stretch/>
        </p:blipFill>
        <p:spPr>
          <a:xfrm>
            <a:off x="4267080" y="5051520"/>
            <a:ext cx="2857680" cy="180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4320" y="1981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El pav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5791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El turr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342900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91320" y="40384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La ca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La Navidad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El 25 de diciembre se celebra con una comida familial más tranquila y menos grande que la cena de Nochebuena. En algunas familias les dan regalos a los niños para disfrutar durante las vacaciones.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34340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3047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Nochevieja y Año Nuevo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Nochevieja es la noche del 31 de diciembre, que empieza con una cena en familia. Luego, los jóvenes se despiden del año con amigos. A las doce se toma 12 uvas al ritmo de las campanadas del reloj que indican el fin del año. Después se felicita el año nuevo con un beso y una copa de cav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¡Feliz Año Nuevo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676520"/>
            <a:ext cx="289584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10080" y="57150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Las uvas de la suer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Los Reyes Magos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0066"/>
                </a:solidFill>
                <a:latin typeface="Comic Sans MS"/>
              </a:rPr>
              <a:t>El día de los Reyes</a:t>
            </a: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 se celebra el 6 de enero. Los Reyes Magos que vienen del Oriente son Melchor, Gaspar y Baltasar. El 5 de enero se organizan cabalgatas en las que desfilan los tres Reyes magos en camellos o caballos. Esa noche los niños cenan temprano y se acuestan. Los Reyes Magos dejan los regalos: juguetes para los niños buenos y carbón para los niños malo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717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5" name="ThreeKings2005NSW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314880" cy="227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10280" y="5410080"/>
            <a:ext cx="1789200" cy="116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571500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empus Sans ITC"/>
              </a:rPr>
              <a:t>El carbón para los malo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42670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66"/>
                </a:solidFill>
                <a:latin typeface="Tempus Sans ITC"/>
              </a:rPr>
              <a:t>Los juguetes para los bueno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17064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¿Qué recordáis?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Comic Sans MS"/>
              </a:rPr>
              <a:t>Contestad las preguntas que siguen con una compañera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True or false: In Spain, they celebrate Christmas on 25th December, like we do in England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at day is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Nochevieja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 celebrat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Give the Spanish names for 2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Reyes Magos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 do Spanish people drink instead of “champagne”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True or false: Naughty children in Spain receive a lump of coal for Christma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’s the Spanish word for camel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How many grapes do they eat on New Year’s Eve and wh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ich 2 dates do Spanish Children receive presents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’s the Spanish word for turke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at day is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Nochebuena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 celebrat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206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1237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0000"/>
                </a:solidFill>
                <a:latin typeface="Jokerman"/>
              </a:rPr>
              <a:t>¡Feliz navidad y  un próspero año nuevo!</a:t>
            </a:r>
            <a:endParaRPr b="0" lang="en-US" sz="6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3352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empus Sans ITC"/>
              </a:rPr>
              <a:t>Papa Noel os desea…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2041560" cy="188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147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7" name="so00733_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158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50:13Z</dcterms:created>
  <dc:creator>Administrator</dc:creator>
  <dc:description/>
  <dc:language>en-US</dc:language>
  <cp:lastModifiedBy>Clare Seccombe</cp:lastModifiedBy>
  <dcterms:modified xsi:type="dcterms:W3CDTF">2014-04-28T10:14:41Z</dcterms:modified>
  <cp:revision>12</cp:revision>
  <dc:subject/>
  <dc:title>¡Feliz navidad!</dc:title>
</cp:coreProperties>
</file>