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1.wmf" ContentType="image/x-wmf"/>
  <Override PartName="/ppt/media/image12.png" ContentType="image/png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FA68-ABDE-432C-9243-F564612EC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3C1C-ED7C-42BF-B57A-7CF29DC5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D725-BC41-4DD0-B232-5F33AC039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4140-9983-4713-A95F-C8F452A48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5977-C9FB-4AF9-B56B-D7DF78FF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DD54-9A30-432F-8399-2274A888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A9DE-CA42-4A3A-9204-99009D31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63F3-F77F-4D06-8C21-90CE4F1E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70CD-4B75-4428-A639-4E0B74DB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D013-D58B-4E27-BE98-FAC03DB2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6F14-D713-460D-B3B4-9C1B51E5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93FC-656E-480F-88BD-8E8A9DA1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9DB8-A1E9-4CA6-ACDF-730D9DD16A3A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underlandschools.org/mfl-sunderland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tatic.flickr.com/59/177009618_fa9f842071_o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cc0000"/>
                </a:solidFill>
                <a:latin typeface="Jokerman"/>
              </a:rPr>
              <a:t>¡Feliz navidad!</a:t>
            </a:r>
            <a:endParaRPr b="0" lang="en-US" sz="5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66"/>
                </a:solidFill>
                <a:uFillTx/>
                <a:latin typeface="Tempus Sans ITC"/>
              </a:rPr>
              <a:t>Objectivos</a:t>
            </a:r>
            <a:r>
              <a:rPr b="1" lang="es-ES" sz="2800" spc="-1" strike="noStrike">
                <a:solidFill>
                  <a:srgbClr val="000066"/>
                </a:solidFill>
                <a:latin typeface="Tempus Sans ITC"/>
              </a:rPr>
              <a:t>: Hoy..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Tempus Sans ITC"/>
              </a:rPr>
              <a:t>Aprenderéis algo sobre las costumbres navideños en España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Tempus Sans ITC"/>
              </a:rPr>
              <a:t>Contestaráis unas preguntas para ver qué recordái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Tempus Sans ITC"/>
              </a:rPr>
              <a:t>Cantaráis </a:t>
            </a:r>
            <a:r>
              <a:rPr b="1" i="1" lang="es-ES" sz="2800" spc="-1" strike="noStrike">
                <a:solidFill>
                  <a:srgbClr val="000066"/>
                </a:solidFill>
                <a:latin typeface="Tempus Sans ITC"/>
              </a:rPr>
              <a:t>Los 12 días de Navidad </a:t>
            </a:r>
            <a:r>
              <a:rPr b="1" lang="es-ES" sz="2800" spc="-1" strike="noStrike">
                <a:solidFill>
                  <a:srgbClr val="000066"/>
                </a:solidFill>
                <a:latin typeface="Tempus Sans ITC"/>
              </a:rPr>
              <a:t>en español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3809880" cy="3492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208040" y="6602760"/>
            <a:ext cx="486972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66"/>
                </a:solidFill>
                <a:latin typeface="Arial Rounded MT Bold"/>
              </a:rPr>
              <a:t>©MFL Sunderland 2008 AG </a:t>
            </a:r>
            <a:r>
              <a:rPr b="0" lang="de-DE" sz="1000" spc="-1" strike="noStrike" u="sng">
                <a:solidFill>
                  <a:srgbClr val="ccccff"/>
                </a:solidFill>
                <a:uFillTx/>
                <a:latin typeface="Arial Rounded MT Bold"/>
                <a:hlinkClick r:id="rId2"/>
              </a:rPr>
              <a:t>http://www.sunderlandschools.org/mfl-sunderland</a:t>
            </a:r>
            <a:r>
              <a:rPr b="0" lang="en-US" sz="1000" spc="-1" strike="noStrike">
                <a:solidFill>
                  <a:srgbClr val="000066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cc0000"/>
                </a:solidFill>
                <a:latin typeface="Jokerman"/>
              </a:rPr>
              <a:t>La Nochebuena</a:t>
            </a:r>
            <a:endParaRPr b="0" lang="en-US" sz="5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ctr" anchorCtr="1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s-ES" sz="2800" spc="-1" strike="noStrike">
                <a:solidFill>
                  <a:srgbClr val="000066"/>
                </a:solidFill>
                <a:latin typeface="Comic Sans MS"/>
              </a:rPr>
              <a:t>El 24 de diciembre se llama </a:t>
            </a:r>
            <a:r>
              <a:rPr b="0" i="1" lang="es-ES" sz="2800" spc="-1" strike="noStrike">
                <a:solidFill>
                  <a:srgbClr val="000066"/>
                </a:solidFill>
                <a:latin typeface="Comic Sans MS"/>
              </a:rPr>
              <a:t>La Nochebuena</a:t>
            </a:r>
            <a:r>
              <a:rPr b="0" lang="es-ES" sz="2800" spc="-1" strike="noStrike">
                <a:solidFill>
                  <a:srgbClr val="000066"/>
                </a:solidFill>
                <a:latin typeface="Comic Sans MS"/>
              </a:rPr>
              <a:t>. Todas las familias españolas se reúnen para la cena más importante del año. Se come mariscos, pavo, turrones y mazapanes. Se bebe vino, sidra y cava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5760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8" name="ChristmasTurkey2" descr=""/>
          <p:cNvPicPr/>
          <p:nvPr/>
        </p:nvPicPr>
        <p:blipFill>
          <a:blip r:embed="rId1"/>
          <a:stretch/>
        </p:blipFill>
        <p:spPr>
          <a:xfrm>
            <a:off x="4724280" y="1752480"/>
            <a:ext cx="2133720" cy="1600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42900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0" name="" descr="Torta Turrón de Alicante"/>
          <p:cNvPicPr/>
          <p:nvPr/>
        </p:nvPicPr>
        <p:blipFill>
          <a:blip r:embed="rId2"/>
          <a:stretch/>
        </p:blipFill>
        <p:spPr>
          <a:xfrm>
            <a:off x="4267080" y="5051520"/>
            <a:ext cx="2857680" cy="1806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934320" y="198108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Tempus Sans ITC"/>
              </a:rPr>
              <a:t>El pav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8880" y="57913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Tempus Sans ITC"/>
              </a:rPr>
              <a:t>El turró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3429000"/>
            <a:ext cx="1511280" cy="1828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791320" y="403848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Tempus Sans ITC"/>
              </a:rPr>
              <a:t>La cav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5280" y="685440"/>
            <a:ext cx="4724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cc0000"/>
                </a:solidFill>
                <a:latin typeface="Jokerman"/>
              </a:rPr>
              <a:t>La Navidad</a:t>
            </a:r>
            <a:endParaRPr b="0" lang="en-US" sz="5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ctr" anchorCtr="1">
            <a:normAutofit/>
          </a:bodyPr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s-ES" sz="2600" spc="-1" strike="noStrike">
                <a:solidFill>
                  <a:srgbClr val="000066"/>
                </a:solidFill>
                <a:latin typeface="Comic Sans MS"/>
              </a:rPr>
              <a:t>El 25 de diciembre se celebra con una comida familial más tranquila y menos grande que la cena de Nochebuena. En algunas familias les dan regalos a los niños para disfrutar durante las vacaciones. 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5760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0" y="2971800"/>
            <a:ext cx="4343400" cy="3024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619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791320" y="304920"/>
            <a:ext cx="30477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cc0000"/>
                </a:solidFill>
                <a:latin typeface="Jokerman"/>
              </a:rPr>
              <a:t>Nochevieja y Año Nuevo</a:t>
            </a: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572000" cy="464832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ctr" anchorCtr="1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s-ES" sz="2600" spc="-1" strike="noStrike">
                <a:solidFill>
                  <a:srgbClr val="000066"/>
                </a:solidFill>
                <a:latin typeface="Comic Sans MS"/>
              </a:rPr>
              <a:t>Nochevieja es la noche del 31 de diciembre, que empieza con una cena en familia. Luego, los jóvenes se despiden del año con amigos. A las doce se toma 12 uvas al ritmo de las campanadas del reloj que indican el fin del año. Después se felicita el año nuevo con un beso y una copa de cava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cc0000"/>
                </a:solidFill>
                <a:latin typeface="Comic Sans MS"/>
              </a:rPr>
              <a:t>¡Feliz Año Nuevo!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19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1676520"/>
            <a:ext cx="2895840" cy="3886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410080" y="5715000"/>
            <a:ext cx="275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Tempus Sans ITC"/>
              </a:rPr>
              <a:t>Las uvas de la suert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cc0000"/>
                </a:solidFill>
                <a:latin typeface="Jokerman"/>
              </a:rPr>
              <a:t>Los Reyes Magos</a:t>
            </a: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572000" cy="4647960"/>
          </a:xfrm>
          <a:prstGeom prst="rect">
            <a:avLst/>
          </a:prstGeom>
          <a:noFill/>
          <a:ln w="0">
            <a:noFill/>
          </a:ln>
        </p:spPr>
        <p:txBody>
          <a:bodyPr lIns="18000" rIns="90000" tIns="46800" bIns="46800" anchor="ctr" anchorCtr="1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0066"/>
                </a:solidFill>
                <a:latin typeface="Comic Sans MS"/>
              </a:rPr>
              <a:t>El día de los Reyes</a:t>
            </a:r>
            <a:r>
              <a:rPr b="0" lang="es-ES" sz="2400" spc="-1" strike="noStrike">
                <a:solidFill>
                  <a:srgbClr val="000066"/>
                </a:solidFill>
                <a:latin typeface="Comic Sans MS"/>
              </a:rPr>
              <a:t> se celebra el 6 de enero. Los Reyes Magos que vienen del Oriente son Melchor, Gaspar y Baltasar. El 5 de enero se organizan cabalgatas en las que desfilan los tres Reyes magos en camellos o caballos. Esa noche los niños cenan temprano y se acuestan. Los Reyes Magos dejan los regalos: juguetes para los niños buenos y carbón para los niños malo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19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7176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5" name="ThreeKings2005NSW" descr=""/>
          <p:cNvPicPr/>
          <p:nvPr/>
        </p:nvPicPr>
        <p:blipFill>
          <a:blip r:embed="rId1"/>
          <a:stretch/>
        </p:blipFill>
        <p:spPr>
          <a:xfrm>
            <a:off x="5410080" y="1371600"/>
            <a:ext cx="3314880" cy="2276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010280" y="5410080"/>
            <a:ext cx="1789200" cy="1160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029200" y="5715000"/>
            <a:ext cx="2057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empus Sans ITC"/>
              </a:rPr>
              <a:t>El carbón para los malos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86600" y="4267080"/>
            <a:ext cx="2057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66"/>
                </a:solidFill>
                <a:latin typeface="Tempus Sans ITC"/>
              </a:rPr>
              <a:t>Los juguetes para los buenos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5334120" y="3962520"/>
            <a:ext cx="1706400" cy="13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cc0000"/>
                </a:solidFill>
                <a:latin typeface="Jokerman"/>
              </a:rPr>
              <a:t>¿Qué recordáis?</a:t>
            </a: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66"/>
                </a:solidFill>
                <a:latin typeface="Comic Sans MS"/>
              </a:rPr>
              <a:t>Contestad las preguntas que siguen con una compañera: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66"/>
                </a:solidFill>
                <a:latin typeface="Comic Sans MS"/>
              </a:rPr>
              <a:t>True or false: In Spain, they celebrate Christmas on 25th December, like we do in England.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66"/>
                </a:solidFill>
                <a:latin typeface="Comic Sans MS"/>
              </a:rPr>
              <a:t>On what day is </a:t>
            </a:r>
            <a:r>
              <a:rPr b="0" i="1" lang="es-ES" sz="2200" spc="-1" strike="noStrike">
                <a:solidFill>
                  <a:srgbClr val="000066"/>
                </a:solidFill>
                <a:latin typeface="Comic Sans MS"/>
              </a:rPr>
              <a:t>Nochevieja</a:t>
            </a:r>
            <a:r>
              <a:rPr b="0" lang="es-ES" sz="2200" spc="-1" strike="noStrike">
                <a:solidFill>
                  <a:srgbClr val="000066"/>
                </a:solidFill>
                <a:latin typeface="Comic Sans MS"/>
              </a:rPr>
              <a:t> celebrated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66"/>
                </a:solidFill>
                <a:latin typeface="Comic Sans MS"/>
              </a:rPr>
              <a:t>Give the Spanish names for 2 </a:t>
            </a:r>
            <a:r>
              <a:rPr b="0" i="1" lang="es-ES" sz="2200" spc="-1" strike="noStrike">
                <a:solidFill>
                  <a:srgbClr val="000066"/>
                </a:solidFill>
                <a:latin typeface="Comic Sans MS"/>
              </a:rPr>
              <a:t>Reyes Magos</a:t>
            </a:r>
            <a:r>
              <a:rPr b="0" lang="es-ES" sz="2200" spc="-1" strike="noStrike">
                <a:solidFill>
                  <a:srgbClr val="000066"/>
                </a:solidFill>
                <a:latin typeface="Comic Sans MS"/>
              </a:rPr>
              <a:t>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66"/>
                </a:solidFill>
                <a:latin typeface="Comic Sans MS"/>
              </a:rPr>
              <a:t>What do Spanish people drink instead of “champagne”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66"/>
                </a:solidFill>
                <a:latin typeface="Comic Sans MS"/>
              </a:rPr>
              <a:t>True or false: Naughty children in Spain receive a lump of coal for Christma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66"/>
                </a:solidFill>
                <a:latin typeface="Comic Sans MS"/>
              </a:rPr>
              <a:t>What’s the Spanish word for camel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66"/>
                </a:solidFill>
                <a:latin typeface="Comic Sans MS"/>
              </a:rPr>
              <a:t>How many grapes do they eat on New Year’s Eve and why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66"/>
                </a:solidFill>
                <a:latin typeface="Comic Sans MS"/>
              </a:rPr>
              <a:t>On which 2 dates do Spanish Children receive presents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66"/>
                </a:solidFill>
                <a:latin typeface="Comic Sans MS"/>
              </a:rPr>
              <a:t>What’s the Spanish word for turkey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66"/>
                </a:solidFill>
                <a:latin typeface="Comic Sans MS"/>
              </a:rPr>
              <a:t>On what day is </a:t>
            </a:r>
            <a:r>
              <a:rPr b="0" i="1" lang="es-ES" sz="2200" spc="-1" strike="noStrike">
                <a:solidFill>
                  <a:srgbClr val="000066"/>
                </a:solidFill>
                <a:latin typeface="Comic Sans MS"/>
              </a:rPr>
              <a:t>Nochebuena</a:t>
            </a:r>
            <a:r>
              <a:rPr b="0" lang="es-ES" sz="2200" spc="-1" strike="noStrike">
                <a:solidFill>
                  <a:srgbClr val="000066"/>
                </a:solidFill>
                <a:latin typeface="Comic Sans MS"/>
              </a:rPr>
              <a:t> celebrated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543800" y="228600"/>
            <a:ext cx="112068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2480" y="3123720"/>
            <a:ext cx="69343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cc0000"/>
                </a:solidFill>
                <a:latin typeface="Jokerman"/>
              </a:rPr>
              <a:t>¡Feliz navidad y  un próspero año nuevo!</a:t>
            </a:r>
            <a:endParaRPr b="0" lang="en-US" sz="6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533520"/>
            <a:ext cx="70102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Tempus Sans ITC"/>
              </a:rPr>
              <a:t>Papa Noel os desea…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58000" y="685800"/>
            <a:ext cx="2041560" cy="1881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01472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87" name="so00733_" descr=""/>
          <p:cNvPicPr/>
          <p:nvPr/>
        </p:nvPicPr>
        <p:blipFill>
          <a:blip r:embed="rId2"/>
          <a:stretch/>
        </p:blipFill>
        <p:spPr>
          <a:xfrm>
            <a:off x="380880" y="3048120"/>
            <a:ext cx="1581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10:50:13Z</dcterms:created>
  <dc:creator>Administrator</dc:creator>
  <dc:description/>
  <dc:language>en-US</dc:language>
  <cp:lastModifiedBy>Clare Seccombe</cp:lastModifiedBy>
  <dcterms:modified xsi:type="dcterms:W3CDTF">2014-04-28T10:14:41Z</dcterms:modified>
  <cp:revision>12</cp:revision>
  <dc:subject/>
  <dc:title>¡Feliz navidad!</dc:title>
</cp:coreProperties>
</file>