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2E5-B867-4139-8818-7FA7CDE3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E02-0FBE-422E-B20A-E6A35F61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6B3-FDAC-4D7D-886A-3BDE8D72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290-A8AC-49F2-BFEB-82A42C44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97F1-3A8F-496B-BDDF-F6606A62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FA9A-C830-40A4-8370-42ED72A1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91E4-809E-4818-85A9-2EEC4A88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9555-F762-475C-B32E-7D159E1B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8396-5D5E-454C-86D4-DFB05DD7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76E0-4402-456E-855C-34461B63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3292-0A96-4A61-B971-66C6147C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838-0B13-4223-B098-809AC0EC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FC1F-A991-4BB3-BADB-82756112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4407-3E5F-42D7-950E-8B8DAFB3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2859-7C7E-4520-8703-ABF122ED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6F6B-3160-4FB6-B8C6-687D8DC9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2CA4-CD21-4347-812B-CFE8D2F2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131-FB39-45D7-A0DE-05284B16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457-9179-460E-9E45-0461A0F1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173-BCFF-4B7C-B6E1-BFA23BB5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63A-BA88-43DB-88F1-5C147648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CB6-22D3-4C09-81BF-2C92AE6A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EDD-1FD0-4A98-928F-DBC0C01D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643-A52E-41EE-9088-83942BB9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9681-00A5-4814-B269-C704803DAE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BEB0-E06C-4335-87EA-394C035E97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9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68400"/>
            <a:ext cx="77724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NOCHEVIEJ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Year’s resolutions in Span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657600" y="533520"/>
            <a:ext cx="1477800" cy="1523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58920" y="6643800"/>
            <a:ext cx="7885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ahoma"/>
                <a:ea typeface="Arial"/>
              </a:rPr>
              <a:t>©MFL Sunderland 2008 MC </a:t>
            </a:r>
            <a:r>
              <a:rPr b="0" lang="de-DE" sz="800" spc="-1" strike="noStrike" u="sng">
                <a:solidFill>
                  <a:srgbClr val="00ccff"/>
                </a:solidFill>
                <a:uFillTx/>
                <a:latin typeface="Tahoma"/>
                <a:ea typeface="Arial"/>
                <a:hlinkClick r:id="rId3"/>
              </a:rPr>
              <a:t>http://www.sunderlandschools.org/mfl-sunderland</a:t>
            </a:r>
            <a:r>
              <a:rPr b="0" lang="de-DE" sz="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VOY A AHORRAR PARA MIS VACACIONES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81080" y="2286000"/>
            <a:ext cx="1981440" cy="1930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00600" y="2362320"/>
            <a:ext cx="1508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VOY A HACER DEPORTE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146052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724280" y="2438280"/>
            <a:ext cx="1535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VOY A LAVAR LOS PLATOS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48120" y="21337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VOY A PRACTICAR EL CICLISMO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8120" y="2057400"/>
            <a:ext cx="27702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564000" y="692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724360" y="692280"/>
            <a:ext cx="124308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066680" y="2133720"/>
            <a:ext cx="1143000" cy="1114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7164360" y="765000"/>
            <a:ext cx="817560" cy="1067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3492360" y="2205000"/>
            <a:ext cx="119700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012000" y="2276640"/>
            <a:ext cx="1371600" cy="917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7596360" y="2421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1066680" y="3809880"/>
            <a:ext cx="914400" cy="774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3809880" y="3809880"/>
            <a:ext cx="1752840" cy="925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7162920" y="3733920"/>
            <a:ext cx="70956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1066680" y="5105520"/>
            <a:ext cx="1295640" cy="887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3657600" y="5105520"/>
            <a:ext cx="1600200" cy="1062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6477120" y="4876920"/>
            <a:ext cx="1114200" cy="152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76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68280" y="692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8640" y="76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9000" y="220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96640" y="22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17720" y="234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900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85720" y="39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97360" y="3716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200" y="5157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48560" y="5157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6920" y="5084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LEVANTARME T_________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352680" y="838080"/>
            <a:ext cx="2286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PREPARAR EL D_________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971800" y="1371600"/>
            <a:ext cx="29494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HACER LOS D_________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971800" y="1371600"/>
            <a:ext cx="32004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JUGAR AL B____________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124080" y="304920"/>
            <a:ext cx="2838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LAVAR EL C________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86000" y="1371600"/>
            <a:ext cx="2438280" cy="1287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952880" y="243828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LEVANTARME TEMPRANO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352680" y="190512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PONER LA M_______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438280" y="1143000"/>
            <a:ext cx="1600200" cy="1355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24382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ACOSTARME P_________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638680" y="175248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PASAR LA A___________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743200" y="1066680"/>
            <a:ext cx="35164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VOY A AHORRAR PARA MIS V___________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286000"/>
            <a:ext cx="1981440" cy="1930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800600" y="2362320"/>
            <a:ext cx="1508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VOY A HACER D____________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1460520" cy="19051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724280" y="2438280"/>
            <a:ext cx="1535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VOY A LAVAR LOS P__________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124080" y="1295280"/>
            <a:ext cx="2895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VOY A PRACTICAR EL C____________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27702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¿QUÉ TAL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1) practicar el cicli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2) lavar el coc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3) hacer depo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4) acostarme pro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5) levantarme tempr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6) preparar el desayu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26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7)  hacer los debe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8)  pasar la aspirad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9)  poner la me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0) lavar los pl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1) jugar al balonc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2) ahorrar para mis vac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OS BUENOS PROP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  <a:ea typeface="Tahoma"/>
              </a:rPr>
              <a:t>ÓSITO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…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lks about saving up for their holi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planning to do more s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going to help out more at h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going to get up and go to bed earl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going to study 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956720" y="549360"/>
            <a:ext cx="89820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OS BUENOS PROP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  <a:ea typeface="Tahoma"/>
              </a:rPr>
              <a:t>ÓSITO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w listen 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st TWO of the sports mentio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ISN’T Javier going to d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ame TWO of the jobs Mari Vi will 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 is Marina going to earn mone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en is Beg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ña going to get up ear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956720" y="549360"/>
            <a:ext cx="89820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PREPARAR EL DESAYUNO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9494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HACER LOS DEBERES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971800" y="2133720"/>
            <a:ext cx="3200400" cy="21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JUGAR AL BALONCESTO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00400" y="2133720"/>
            <a:ext cx="2838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LAVAR EL COCHE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2438280" cy="1287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876920" y="3657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PONER LA MESA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1143000" cy="968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24382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ACOSTARME PRONTO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486400" y="2590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PASAR LA ASPIRADORA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00400" y="2133720"/>
            <a:ext cx="2468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6:31:10Z</dcterms:created>
  <dc:creator>Home</dc:creator>
  <dc:description/>
  <dc:language>en-US</dc:language>
  <cp:lastModifiedBy>Clare</cp:lastModifiedBy>
  <dcterms:modified xsi:type="dcterms:W3CDTF">2008-12-15T20:00:41Z</dcterms:modified>
  <cp:revision>5</cp:revision>
  <dc:subject/>
  <dc:title>NOCHEVIEJA</dc:title>
</cp:coreProperties>
</file>