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4CA-BA7F-4C1B-9222-2D585DDD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24E-CAD3-4A88-AE1B-5FF82A38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229-DD04-4EC9-AD21-AD88ECF0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9BA-1177-4EAC-BD49-042CDE67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22C-9250-4D2B-A092-322B9C5C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D4C-B3A3-4741-8141-0538E7E7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254-A309-4A26-A026-C883003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8568-E3A1-4788-ABE4-397E9F8C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52D6-24E7-4EF1-ABC5-B288A8AD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5863-2ED3-405C-B7B3-FC49A2E5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F110-1E6E-4BF0-AAA6-7CCBC00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5CC-7D86-410D-A205-7E0401CC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E5C5-8726-4DA8-9859-AE9E6D3B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FB62-B757-4E3D-9007-5ECF0CF3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F79-791E-4063-9250-756F68DD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B751-B32D-446A-A790-4FEFDBF8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F71A-C2BF-44AA-961A-D8FA846E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4B7-C508-4B3A-900B-D818F33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35A-7DA2-4627-AC8B-EEAA5830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4A7-BB6F-4276-8E02-81EF1A37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A32-160D-4B86-B2D5-4B209AB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C94-00DE-488B-A2C7-88F6F71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761-6FD9-430C-A466-34C80D4A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3EC-A4FF-4BE7-BAB1-7D3B172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5576-3A8B-475E-98D6-3BEADE4D00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3B9D-CC2E-4713-9B05-674C30ACE9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NOCHEVIE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ear’s resolutions in Span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147780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8920" y="6643800"/>
            <a:ext cx="7885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ahoma"/>
                <a:ea typeface="Arial"/>
              </a:rPr>
              <a:t>©MFL Sunderland 2008 MC </a:t>
            </a:r>
            <a:r>
              <a:rPr b="0" lang="de-DE" sz="800" spc="-1" strike="noStrike" u="sng">
                <a:solidFill>
                  <a:srgbClr val="00ccff"/>
                </a:solidFill>
                <a:uFillTx/>
                <a:latin typeface="Tahoma"/>
                <a:ea typeface="Arial"/>
                <a:hlinkClick r:id="rId3"/>
              </a:rPr>
              <a:t>http://www.sunderlandschools.org/mfl-sunderland</a:t>
            </a:r>
            <a:r>
              <a:rPr b="0" lang="de-DE" sz="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AHORRAR PARA MIS VACACIONE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981440" cy="1930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1508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HACER DEPORTE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1535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LAVAR LOS PLATO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PRACTICAR EL CICLISMO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7702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564000" y="692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24360" y="692280"/>
            <a:ext cx="124308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066680" y="2133720"/>
            <a:ext cx="1143000" cy="111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164360" y="765000"/>
            <a:ext cx="81756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492360" y="2205000"/>
            <a:ext cx="119700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012000" y="2276640"/>
            <a:ext cx="1371600" cy="91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7596360" y="242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1066680" y="3809880"/>
            <a:ext cx="914400" cy="77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809880" y="3809880"/>
            <a:ext cx="1752840" cy="925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7162920" y="3733920"/>
            <a:ext cx="70956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1066680" y="5105520"/>
            <a:ext cx="1295640" cy="88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3657600" y="5105520"/>
            <a:ext cx="1600200" cy="106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6477120" y="4876920"/>
            <a:ext cx="111420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76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68280" y="6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8640" y="76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9000" y="220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664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17720" y="234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00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572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736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00" y="5157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48560" y="5157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6920" y="5084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EVANTARME T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352680" y="838080"/>
            <a:ext cx="22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REPARAR EL D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29494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HACER LOS D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32004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JUGAR AL B___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283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AVAR EL C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2438280" cy="128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952880" y="24382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EVANTARME TEMPRAN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ONER LA M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1600200" cy="1355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24382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ACOSTARME P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638680" y="17524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ASAR LA A___________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3516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AHORRAR PARA MIS V_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981440" cy="1930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1508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HACER D__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1535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LAVAR LOS P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VOY A PRACTICAR EL C____________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27702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1) practicar el cic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2) lavar el co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3) hacer depo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4) acostarme pro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5) levantarme tempr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6) preparar el desayu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26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7)  hacer los debe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8)  pasar la aspirad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9)  poner la m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) lavar los pl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1) jugar al balonc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2) ahorrar para mis va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OS BUENOS PRO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ÓSITO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…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s about saving up for their holi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planning to do more 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going to help out more at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going to get up and go to bed ear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going to study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8982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OS BUENOS PRO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ÓSITO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w listen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st TWO of the sports mentio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SN’T Javier going to d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ame TWO of the jobs Mari Vi will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is Marina going to earn mon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 is Be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a going to get up ear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8982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REPARAR EL DESAYUN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494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HACER LOS DEBERES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320040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JUGAR AL BALONCEST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283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LAVAR EL COCHE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2438280" cy="128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ONER LA MESA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1143000" cy="968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24382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ACOSTARME PRONTO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86400" y="2590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VOY A PASAR LA ASPIRADORA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2468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6:31:10Z</dcterms:created>
  <dc:creator>Home</dc:creator>
  <dc:description/>
  <dc:language>en-US</dc:language>
  <cp:lastModifiedBy>Clare</cp:lastModifiedBy>
  <dcterms:modified xsi:type="dcterms:W3CDTF">2008-12-15T20:00:41Z</dcterms:modified>
  <cp:revision>5</cp:revision>
  <dc:subject/>
  <dc:title>NOCHEVIEJA</dc:title>
</cp:coreProperties>
</file>