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image15.gif" ContentType="image/gif"/>
  <Override PartName="/ppt/media/image14.gif" ContentType="image/gif"/>
  <Override PartName="/ppt/media/image13.gif" ContentType="image/gif"/>
  <Override PartName="/ppt/media/image1.gif" ContentType="image/gif"/>
  <Override PartName="/ppt/media/image2.png" ContentType="image/png"/>
  <Override PartName="/ppt/media/whoosh.wav" ContentType="audio/x-wav"/>
  <Override PartName="/ppt/media/image3.wmf" ContentType="image/x-wm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48E-7BF7-4344-819C-BB330FA6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849-18E6-47D8-9855-2B06BD36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39B-ED85-4040-B697-416F6BA3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37D-290B-47F1-A813-9E33B746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8BE-377E-4B24-8BCE-44375C46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08E-25E6-4CAF-AA73-6AFD2461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EA1-75D9-4D3E-A371-24551DC3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24C9-2EA9-434F-97D3-F0F664BF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C8B-95EC-4470-A7E5-E0D417BC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867-074A-49BA-A993-00FCC2DB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2C8-204C-4E8E-A36D-1525B127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023-2BF3-465F-9C7B-958F7651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00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0206-A670-4BD9-B534-54397F29C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www.sunderlandschools.org/mfl-sunderland" TargetMode="External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00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Arial"/>
              </a:rPr>
              <a:t>Deutsche Weihnachtslie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26828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bbe0e3"/>
                </a:solidFill>
                <a:latin typeface="Tempus Sans ITC"/>
              </a:rPr>
              <a:t>Stille Nacht, Heilige Nach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3141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bbe0e3"/>
                </a:solidFill>
                <a:latin typeface="Tempus Sans ITC"/>
              </a:rPr>
              <a:t>Oh, Tannenbaum Oh, Tannenbau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797360"/>
            <a:ext cx="31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bbe0e3"/>
                </a:solidFill>
                <a:latin typeface="Tempus Sans ITC"/>
              </a:rPr>
              <a:t>Kleiner Esel, Kleiner Esel, auf dem staubigen Weg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1413000"/>
            <a:ext cx="39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bbe0e3"/>
                </a:solidFill>
                <a:latin typeface="Tempus Sans ITC"/>
              </a:rPr>
              <a:t>Am ersten Weihnachtstag hat meine Verliebte mir verschenk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2997360"/>
            <a:ext cx="36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bbe0e3"/>
                </a:solidFill>
                <a:latin typeface="Tempus Sans ITC"/>
              </a:rPr>
              <a:t>Guter K</a:t>
            </a:r>
            <a:r>
              <a:rPr b="1" lang="en-US" sz="2200" spc="-1" strike="noStrike">
                <a:solidFill>
                  <a:srgbClr val="bbe0e3"/>
                </a:solidFill>
                <a:latin typeface="Tempus Sans ITC"/>
              </a:rPr>
              <a:t>önig Wenceslas</a:t>
            </a:r>
            <a:r>
              <a:rPr b="1" lang="en-GB" sz="2200" spc="-1" strike="noStrike">
                <a:solidFill>
                  <a:srgbClr val="bbe0e3"/>
                </a:solidFill>
                <a:latin typeface="Tempus Sans ITC"/>
              </a:rPr>
              <a:t> hat nachgeschaut auf dem Fest Steph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472428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bbe0e3"/>
                </a:solidFill>
                <a:latin typeface="Tempus Sans ITC"/>
              </a:rPr>
              <a:t>Oh kleine Stadt Bethleh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5880" y="5334120"/>
            <a:ext cx="23781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1822680"/>
            <a:ext cx="1582920" cy="1036440"/>
          </a:xfrm>
          <a:prstGeom prst="ellipse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mpus Sans ITC"/>
              </a:rPr>
              <a:t>Silent Night, Holy N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2901240"/>
            <a:ext cx="1582920" cy="1940760"/>
          </a:xfrm>
          <a:prstGeom prst="ellipse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mpus Sans ITC"/>
              </a:rPr>
              <a:t>Oh Christmas tre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mpus Sans ITC"/>
              </a:rPr>
              <a:t>oh Christmas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3840" y="5538240"/>
            <a:ext cx="2376360" cy="1036440"/>
          </a:xfrm>
          <a:prstGeom prst="ellipse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mpus Sans ITC"/>
              </a:rPr>
              <a:t>Little donkey, Little donkey on the dusty r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2117520"/>
            <a:ext cx="3886200" cy="735480"/>
          </a:xfrm>
          <a:prstGeom prst="ellipse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mpus Sans ITC"/>
              </a:rPr>
              <a:t>On the first day of Christmas my true love gave to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3845160"/>
            <a:ext cx="3886200" cy="735480"/>
          </a:xfrm>
          <a:prstGeom prst="ellipse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mpus Sans ITC"/>
              </a:rPr>
              <a:t>Good King Wenceslas looked out on the feast of Step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5074920"/>
            <a:ext cx="2952720" cy="735480"/>
          </a:xfrm>
          <a:prstGeom prst="ellipse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mpus Sans ITC"/>
              </a:rPr>
              <a:t>Oh little town of Bethle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101080" y="299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195640" y="1484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812000" y="486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9640" y="6597720"/>
            <a:ext cx="57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MFL Sunderland 2006 ELA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sunderlandschools.org/mfl-sunderla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772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389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51418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71883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00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828800" cy="1377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Arial"/>
              </a:rPr>
              <a:t>Rudolf der 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2565360"/>
            <a:ext cx="604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Rudolf der rotn</a:t>
            </a:r>
            <a:r>
              <a:rPr b="0" lang="en-US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äsige 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hatte eine sehr gl</a:t>
            </a:r>
            <a:r>
              <a:rPr b="0" lang="en-US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änzende N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Und wenn man sie je sieht</a:t>
            </a:r>
            <a:r>
              <a:rPr b="0" lang="en-US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Wird man sagen, da</a:t>
            </a:r>
            <a:r>
              <a:rPr b="0" lang="el-GR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β</a:t>
            </a:r>
            <a:r>
              <a:rPr b="0" lang="en-GB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 sie gl</a:t>
            </a:r>
            <a:r>
              <a:rPr b="0" lang="en-US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ü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5105520"/>
            <a:ext cx="1676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00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Arial"/>
              </a:rPr>
              <a:t>Rudolf der 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4000" y="4508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Rudolf der rotn</a:t>
            </a: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äsige Ren</a:t>
            </a: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29242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hatte eine sehr gl</a:t>
            </a: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änzende N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2205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Und wenn man sie je sieht</a:t>
            </a: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37162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Wird man sagen, da</a:t>
            </a:r>
            <a:r>
              <a:rPr b="0" lang="el-GR" sz="2400" spc="-1" strike="noStrike">
                <a:solidFill>
                  <a:srgbClr val="bbe0e3"/>
                </a:solidFill>
                <a:latin typeface="Comic Sans MS"/>
              </a:rPr>
              <a:t>β</a:t>
            </a: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 sie gl</a:t>
            </a: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ü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828800" cy="1377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5105520"/>
            <a:ext cx="1676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00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Arial"/>
              </a:rPr>
              <a:t>Rudolf der 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7640" y="2349360"/>
            <a:ext cx="6048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Rudolf der rotn</a:t>
            </a:r>
            <a:r>
              <a:rPr b="0" lang="en-US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äsige 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hatte eine sehr gl</a:t>
            </a:r>
            <a:r>
              <a:rPr b="0" lang="en-US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änzende N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Und wenn man sie je sieht</a:t>
            </a:r>
            <a:r>
              <a:rPr b="0" lang="en-US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Wird man sagen, da</a:t>
            </a:r>
            <a:r>
              <a:rPr b="0" lang="el-GR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β</a:t>
            </a:r>
            <a:r>
              <a:rPr b="0" lang="en-GB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 sie gl</a:t>
            </a:r>
            <a:r>
              <a:rPr b="0" lang="en-US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ü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5105520"/>
            <a:ext cx="1676520" cy="1263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934320" y="533520"/>
            <a:ext cx="182880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00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Arial"/>
              </a:rPr>
              <a:t>Rudolf der 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060640"/>
            <a:ext cx="4249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Rudolf der rotn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äsige 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hatte eine sehr gl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änzende N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Und wenn man sie je sieht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Wird man sagen, da</a:t>
            </a:r>
            <a:r>
              <a:rPr b="0" lang="el-GR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β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 sie gl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üh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Die anderen Rene im ga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Haben ihm ausgelacht und beschw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Sie haben den armen Rudolf verbot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Bei den Renspielen teilzuneh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206064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Auf einem nebligen Heiligab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Santa kam zu ihm und sag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Rudolf, mit deiner gl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änzenden Nase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Wirst du sp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äter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meinen Schlitten f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ühr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Dann haben die anderen ihm verlieb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Und sie haben fr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ö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hlich gesun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Rudolf der rotn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äsige R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du wirst ja immer ber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ühmt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5105520"/>
            <a:ext cx="1676520" cy="1263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934320" y="533520"/>
            <a:ext cx="182880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00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00720" y="206064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Auf einem nebligen Heiligab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Santa kam zu ihm und sag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Rudolf, mit deiner gl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änzenden Nase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Wirst du sp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äter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meinen Schlitten f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ühr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Dann haben die anderen ihm verlieb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Und sie haben fr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ö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hlich gesun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Rudolf der rotn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äsige R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du wirst ja immer ber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ühmt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2060640"/>
            <a:ext cx="4249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Rudolf der rotn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äsige 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hatte eine sehr gl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änzende N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Und wenn man sie je sieht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Wird man sagen, da</a:t>
            </a:r>
            <a:r>
              <a:rPr b="0" lang="el-GR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β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 sie gl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üh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Die anderen Rene im ga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Haben ihm ausgelacht und beschw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Sie haben den armen Rudolf verbot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Bei den Renspielen teilzuneh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Arial"/>
              </a:rPr>
              <a:t>Rudolf der 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2421000"/>
            <a:ext cx="115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2743200"/>
            <a:ext cx="576360" cy="25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3048120"/>
            <a:ext cx="649080" cy="309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6165720"/>
            <a:ext cx="11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änz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5516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43640" y="6165720"/>
            <a:ext cx="72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3429000"/>
            <a:ext cx="93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551664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d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3733920"/>
            <a:ext cx="64944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6165720"/>
            <a:ext cx="72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5516640"/>
            <a:ext cx="72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4114800"/>
            <a:ext cx="649440" cy="2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4437000"/>
            <a:ext cx="1152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9640" y="6165720"/>
            <a:ext cx="11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nspi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2133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61657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ebl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5516640"/>
            <a:ext cx="719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2438280"/>
            <a:ext cx="64944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0360" y="2743200"/>
            <a:ext cx="649440" cy="25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6165720"/>
            <a:ext cx="72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5516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chl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80360" y="3068640"/>
            <a:ext cx="1008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551664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erli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3657600"/>
            <a:ext cx="792000" cy="27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6000" y="4038480"/>
            <a:ext cx="1008000" cy="25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5516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s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206064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6165720"/>
            <a:ext cx="79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ud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4365720"/>
            <a:ext cx="3888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5516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0720" y="4724280"/>
            <a:ext cx="6494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4720" y="6165720"/>
            <a:ext cx="72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82880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00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Arial"/>
              </a:rPr>
              <a:t>Rudolf der 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2060640"/>
            <a:ext cx="4321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udolf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der rotn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äsige 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hatte eine seh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gl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änzende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 N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U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wen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man sie je sieht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Wird ma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ag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, da</a:t>
            </a:r>
            <a:r>
              <a:rPr b="0" lang="el-GR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β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 sie gl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üh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Di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ander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Rene im ga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Hab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ihm ausgelacht und beschw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Sie haben de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arm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Rudolf verbot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Bei de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nspiel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teilzuneh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2060640"/>
            <a:ext cx="42624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Auf einem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neblig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Heiligab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anta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kam zu ihm und sag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Rudolf, mi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deiner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gl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änzenden Nase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Wirst du sp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äter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meine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chlitt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f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ühr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Dann haben die anderen ihm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verliebt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Und sie haben fr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ö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hlich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gesung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Rudol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de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rotn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äsige R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du wirst ja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immer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ber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ühmt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5105520"/>
            <a:ext cx="1676520" cy="1263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934320" y="533520"/>
            <a:ext cx="182880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00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3880" y="1981080"/>
            <a:ext cx="604836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Was sind wichtige Wörter für ein Weihnachtsl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Schreib eine Liste, auf Deutsch </a:t>
            </a:r>
            <a:r>
              <a:rPr b="1" lang="en-GB" sz="2800" spc="-1" strike="noStrike" u="sng">
                <a:solidFill>
                  <a:srgbClr val="bbe0e3"/>
                </a:solidFill>
                <a:uFillTx/>
                <a:latin typeface="Comic Sans MS"/>
              </a:rPr>
              <a:t>und</a:t>
            </a: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 auf Engl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Arial"/>
              </a:rPr>
              <a:t>Deutsche Weihnachtslie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785880" cy="195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14600" y="4343400"/>
            <a:ext cx="1131840" cy="1111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990720" y="4572000"/>
            <a:ext cx="838080" cy="803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28600" y="5638680"/>
            <a:ext cx="1096920" cy="881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7391520" y="5638680"/>
            <a:ext cx="1028520" cy="846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6095880" y="5410080"/>
            <a:ext cx="1143000" cy="110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5181480" y="5486400"/>
            <a:ext cx="711360" cy="1058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3886200" y="5562720"/>
            <a:ext cx="1292400" cy="799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2743200" y="5638680"/>
            <a:ext cx="925560" cy="857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>
            <a:off x="1600200" y="5486400"/>
            <a:ext cx="971640" cy="1017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1"/>
          <a:stretch/>
        </p:blipFill>
        <p:spPr>
          <a:xfrm>
            <a:off x="7010280" y="4495680"/>
            <a:ext cx="754200" cy="936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2"/>
          <a:stretch/>
        </p:blipFill>
        <p:spPr>
          <a:xfrm>
            <a:off x="5486400" y="434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3"/>
          <a:stretch/>
        </p:blipFill>
        <p:spPr>
          <a:xfrm>
            <a:off x="8101080" y="573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4"/>
          <a:stretch/>
        </p:blipFill>
        <p:spPr>
          <a:xfrm>
            <a:off x="442764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895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7012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17:34:14Z</dcterms:created>
  <dc:creator>Eleanor Abrahams </dc:creator>
  <dc:description/>
  <dc:language>en-US</dc:language>
  <cp:lastModifiedBy>CSeccombe</cp:lastModifiedBy>
  <dcterms:modified xsi:type="dcterms:W3CDTF">2006-12-01T14:31:38Z</dcterms:modified>
  <cp:revision>28</cp:revision>
  <dc:subject/>
  <dc:title>Rudolf der Ren</dc:title>
</cp:coreProperties>
</file>