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gif" ContentType="image/gif"/>
  <Override PartName="/ppt/media/image12.gif" ContentType="image/gif"/>
  <Override PartName="/ppt/media/image15.gif" ContentType="image/gif"/>
  <Override PartName="/ppt/media/image14.gif" ContentType="image/gif"/>
  <Override PartName="/ppt/media/image13.gif" ContentType="image/gif"/>
  <Override PartName="/ppt/media/image1.gif" ContentType="image/gif"/>
  <Override PartName="/ppt/media/image2.png" ContentType="image/png"/>
  <Override PartName="/ppt/media/whoosh.wav" ContentType="audio/x-wav"/>
  <Override PartName="/ppt/media/image3.wmf" ContentType="image/x-wm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1FB4-3403-4710-B690-EA0D630A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4FD9-1678-4463-ACA3-19A28D01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41FC-F8CA-4DEB-809B-83E58FD6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EEF6-546E-473E-8743-2DAEE5E0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D907-23C1-4886-B60A-6AABBD99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299D-2FFC-4C23-8550-50756BA7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F8F2-783F-42A2-ACE9-3BE547C6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4381-6788-440E-92DB-390192AD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FD11-3464-4736-9058-05376D7B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ED02-A25C-49BA-A8F8-1B4B9AF8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71E1-C1FE-42F8-BC7A-DC26F2B6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472C-59E2-4554-B6E7-DE5D1133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00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3C80-7032-4B74-ACE9-0F64CAFBE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http://www.sunderlandschools.org/mfl-sunderland" TargetMode="External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3.gif"/><Relationship Id="rId11" Type="http://schemas.openxmlformats.org/officeDocument/2006/relationships/image" Target="../media/image14.gif"/><Relationship Id="rId12" Type="http://schemas.openxmlformats.org/officeDocument/2006/relationships/image" Target="../media/image15.gif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00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Arial"/>
              </a:rPr>
              <a:t>Deutsche Weihnachtslie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26828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bbe0e3"/>
                </a:solidFill>
                <a:latin typeface="Tempus Sans ITC"/>
              </a:rPr>
              <a:t>Stille Nacht, Heilige Nach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3141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bbe0e3"/>
                </a:solidFill>
                <a:latin typeface="Tempus Sans ITC"/>
              </a:rPr>
              <a:t>Oh, Tannenbaum Oh, Tannenbau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797360"/>
            <a:ext cx="316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bbe0e3"/>
                </a:solidFill>
                <a:latin typeface="Tempus Sans ITC"/>
              </a:rPr>
              <a:t>Kleiner Esel, Kleiner Esel, auf dem staubigen Weg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1413000"/>
            <a:ext cx="396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bbe0e3"/>
                </a:solidFill>
                <a:latin typeface="Tempus Sans ITC"/>
              </a:rPr>
              <a:t>Am ersten Weihnachtstag hat meine Verliebte mir verschenk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16360" y="2997360"/>
            <a:ext cx="36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bbe0e3"/>
                </a:solidFill>
                <a:latin typeface="Tempus Sans ITC"/>
              </a:rPr>
              <a:t>Guter K</a:t>
            </a:r>
            <a:r>
              <a:rPr b="1" lang="en-US" sz="2200" spc="-1" strike="noStrike">
                <a:solidFill>
                  <a:srgbClr val="bbe0e3"/>
                </a:solidFill>
                <a:latin typeface="Tempus Sans ITC"/>
              </a:rPr>
              <a:t>önig Wenceslas</a:t>
            </a:r>
            <a:r>
              <a:rPr b="1" lang="en-GB" sz="2200" spc="-1" strike="noStrike">
                <a:solidFill>
                  <a:srgbClr val="bbe0e3"/>
                </a:solidFill>
                <a:latin typeface="Tempus Sans ITC"/>
              </a:rPr>
              <a:t> hat nachgeschaut auf dem Fest Steph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56000" y="4724280"/>
            <a:ext cx="36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bbe0e3"/>
                </a:solidFill>
                <a:latin typeface="Tempus Sans ITC"/>
              </a:rPr>
              <a:t>Oh kleine Stadt Bethleh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5880" y="5334120"/>
            <a:ext cx="23781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5280" y="1822680"/>
            <a:ext cx="1582920" cy="1036440"/>
          </a:xfrm>
          <a:prstGeom prst="ellipse">
            <a:avLst/>
          </a:prstGeom>
          <a:solidFill>
            <a:srgbClr val="bbe0e3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empus Sans ITC"/>
              </a:rPr>
              <a:t>Silent Night, Holy N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0920" y="2901240"/>
            <a:ext cx="1582920" cy="1940760"/>
          </a:xfrm>
          <a:prstGeom prst="ellipse">
            <a:avLst/>
          </a:prstGeom>
          <a:solidFill>
            <a:srgbClr val="bbe0e3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empus Sans ITC"/>
              </a:rPr>
              <a:t>Oh Christmas tre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empus Sans ITC"/>
              </a:rPr>
              <a:t>oh Christmas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3840" y="5538240"/>
            <a:ext cx="2376360" cy="1036440"/>
          </a:xfrm>
          <a:prstGeom prst="ellipse">
            <a:avLst/>
          </a:prstGeom>
          <a:solidFill>
            <a:srgbClr val="bbe0e3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empus Sans ITC"/>
              </a:rPr>
              <a:t>Little donkey, Little donkey on the dusty r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2117520"/>
            <a:ext cx="3886200" cy="735480"/>
          </a:xfrm>
          <a:prstGeom prst="ellipse">
            <a:avLst/>
          </a:prstGeom>
          <a:solidFill>
            <a:srgbClr val="bbe0e3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empus Sans ITC"/>
              </a:rPr>
              <a:t>On the first day of Christmas my true love gave to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3845160"/>
            <a:ext cx="3886200" cy="735480"/>
          </a:xfrm>
          <a:prstGeom prst="ellipse">
            <a:avLst/>
          </a:prstGeom>
          <a:solidFill>
            <a:srgbClr val="bbe0e3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empus Sans ITC"/>
              </a:rPr>
              <a:t>Good King Wenceslas looked out on the feast of Step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5074920"/>
            <a:ext cx="2952720" cy="735480"/>
          </a:xfrm>
          <a:prstGeom prst="ellipse">
            <a:avLst/>
          </a:prstGeom>
          <a:solidFill>
            <a:srgbClr val="bbe0e3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empus Sans ITC"/>
              </a:rPr>
              <a:t>Oh little town of Bethle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101080" y="299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195640" y="1484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7812000" y="486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19640" y="6597720"/>
            <a:ext cx="57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©MFL Sunderland 2006 ELA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sunderlandschools.org/mfl-sunderla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7725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389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51418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71883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00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1828800" cy="13777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Arial"/>
              </a:rPr>
              <a:t>Rudolf der 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2565360"/>
            <a:ext cx="604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be0e3"/>
                </a:solidFill>
                <a:latin typeface="Comic Sans MS"/>
              </a:rPr>
              <a:t>Rudolf der rotn</a:t>
            </a:r>
            <a:r>
              <a:rPr b="0" lang="en-US" sz="2800" spc="-1" strike="noStrike">
                <a:solidFill>
                  <a:srgbClr val="bbe0e3"/>
                </a:solidFill>
                <a:latin typeface="Comic Sans MS"/>
                <a:ea typeface="Arial"/>
              </a:rPr>
              <a:t>äsige 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be0e3"/>
                </a:solidFill>
                <a:latin typeface="Comic Sans MS"/>
              </a:rPr>
              <a:t>hatte eine sehr gl</a:t>
            </a:r>
            <a:r>
              <a:rPr b="0" lang="en-US" sz="2800" spc="-1" strike="noStrike">
                <a:solidFill>
                  <a:srgbClr val="bbe0e3"/>
                </a:solidFill>
                <a:latin typeface="Comic Sans MS"/>
                <a:ea typeface="Arial"/>
              </a:rPr>
              <a:t>änzende N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be0e3"/>
                </a:solidFill>
                <a:latin typeface="Comic Sans MS"/>
              </a:rPr>
              <a:t>Und wenn man sie je sieht</a:t>
            </a:r>
            <a:r>
              <a:rPr b="0" lang="en-US" sz="2800" spc="-1" strike="noStrike">
                <a:solidFill>
                  <a:srgbClr val="bbe0e3"/>
                </a:solidFill>
                <a:latin typeface="Comic Sans MS"/>
                <a:ea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be0e3"/>
                </a:solidFill>
                <a:latin typeface="Comic Sans MS"/>
              </a:rPr>
              <a:t>Wird man sagen, da</a:t>
            </a:r>
            <a:r>
              <a:rPr b="0" lang="el-GR" sz="2800" spc="-1" strike="noStrike">
                <a:solidFill>
                  <a:srgbClr val="bbe0e3"/>
                </a:solidFill>
                <a:latin typeface="Comic Sans MS"/>
                <a:ea typeface="Arial"/>
              </a:rPr>
              <a:t>β</a:t>
            </a:r>
            <a:r>
              <a:rPr b="0" lang="en-GB" sz="2800" spc="-1" strike="noStrike">
                <a:solidFill>
                  <a:srgbClr val="bbe0e3"/>
                </a:solidFill>
                <a:latin typeface="Comic Sans MS"/>
                <a:ea typeface="Arial"/>
              </a:rPr>
              <a:t> sie gl</a:t>
            </a:r>
            <a:r>
              <a:rPr b="0" lang="en-US" sz="2800" spc="-1" strike="noStrike">
                <a:solidFill>
                  <a:srgbClr val="bbe0e3"/>
                </a:solidFill>
                <a:latin typeface="Comic Sans MS"/>
                <a:ea typeface="Arial"/>
              </a:rPr>
              <a:t>ü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880" y="5105520"/>
            <a:ext cx="1676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00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Arial"/>
              </a:rPr>
              <a:t>Rudolf der 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24000" y="45086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Comic Sans MS"/>
              </a:rPr>
              <a:t>Rudolf der rotn</a:t>
            </a:r>
            <a:r>
              <a:rPr b="0" lang="en-US" sz="2400" spc="-1" strike="noStrike">
                <a:solidFill>
                  <a:srgbClr val="bbe0e3"/>
                </a:solidFill>
                <a:latin typeface="Comic Sans MS"/>
              </a:rPr>
              <a:t>äsige Ren</a:t>
            </a:r>
            <a:r>
              <a:rPr b="0" lang="en-GB" sz="2400" spc="-1" strike="noStrike">
                <a:solidFill>
                  <a:srgbClr val="bbe0e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29242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Comic Sans MS"/>
              </a:rPr>
              <a:t>hatte eine sehr gl</a:t>
            </a:r>
            <a:r>
              <a:rPr b="0" lang="en-US" sz="2400" spc="-1" strike="noStrike">
                <a:solidFill>
                  <a:srgbClr val="bbe0e3"/>
                </a:solidFill>
                <a:latin typeface="Comic Sans MS"/>
              </a:rPr>
              <a:t>änzende N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95640" y="2205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Comic Sans MS"/>
              </a:rPr>
              <a:t>Und wenn man sie je sieht</a:t>
            </a:r>
            <a:r>
              <a:rPr b="0" lang="en-US" sz="2400" spc="-1" strike="noStrike">
                <a:solidFill>
                  <a:srgbClr val="bbe0e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24000" y="37162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Comic Sans MS"/>
              </a:rPr>
              <a:t>Wird man sagen, da</a:t>
            </a:r>
            <a:r>
              <a:rPr b="0" lang="el-GR" sz="2400" spc="-1" strike="noStrike">
                <a:solidFill>
                  <a:srgbClr val="bbe0e3"/>
                </a:solidFill>
                <a:latin typeface="Comic Sans MS"/>
              </a:rPr>
              <a:t>β</a:t>
            </a:r>
            <a:r>
              <a:rPr b="0" lang="en-GB" sz="2400" spc="-1" strike="noStrike">
                <a:solidFill>
                  <a:srgbClr val="bbe0e3"/>
                </a:solidFill>
                <a:latin typeface="Comic Sans MS"/>
              </a:rPr>
              <a:t> sie gl</a:t>
            </a:r>
            <a:r>
              <a:rPr b="0" lang="en-US" sz="2400" spc="-1" strike="noStrike">
                <a:solidFill>
                  <a:srgbClr val="bbe0e3"/>
                </a:solidFill>
                <a:latin typeface="Comic Sans MS"/>
              </a:rPr>
              <a:t>ü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1828800" cy="1377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0880" y="5105520"/>
            <a:ext cx="1676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00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Arial"/>
              </a:rPr>
              <a:t>Rudolf der 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47640" y="2349360"/>
            <a:ext cx="6048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be0e3"/>
                </a:solidFill>
                <a:latin typeface="Comic Sans MS"/>
              </a:rPr>
              <a:t>Rudolf der rotn</a:t>
            </a:r>
            <a:r>
              <a:rPr b="0" lang="en-US" sz="2800" spc="-1" strike="noStrike">
                <a:solidFill>
                  <a:srgbClr val="bbe0e3"/>
                </a:solidFill>
                <a:latin typeface="Comic Sans MS"/>
                <a:ea typeface="Arial"/>
              </a:rPr>
              <a:t>äsige 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be0e3"/>
                </a:solidFill>
                <a:latin typeface="Comic Sans MS"/>
              </a:rPr>
              <a:t>hatte eine sehr gl</a:t>
            </a:r>
            <a:r>
              <a:rPr b="0" lang="en-US" sz="2800" spc="-1" strike="noStrike">
                <a:solidFill>
                  <a:srgbClr val="bbe0e3"/>
                </a:solidFill>
                <a:latin typeface="Comic Sans MS"/>
                <a:ea typeface="Arial"/>
              </a:rPr>
              <a:t>änzende N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be0e3"/>
                </a:solidFill>
                <a:latin typeface="Comic Sans MS"/>
              </a:rPr>
              <a:t>Und wenn man sie je sieht</a:t>
            </a:r>
            <a:r>
              <a:rPr b="0" lang="en-US" sz="2800" spc="-1" strike="noStrike">
                <a:solidFill>
                  <a:srgbClr val="bbe0e3"/>
                </a:solidFill>
                <a:latin typeface="Comic Sans MS"/>
                <a:ea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be0e3"/>
                </a:solidFill>
                <a:latin typeface="Comic Sans MS"/>
              </a:rPr>
              <a:t>Wird man sagen, da</a:t>
            </a:r>
            <a:r>
              <a:rPr b="0" lang="el-GR" sz="2800" spc="-1" strike="noStrike">
                <a:solidFill>
                  <a:srgbClr val="bbe0e3"/>
                </a:solidFill>
                <a:latin typeface="Comic Sans MS"/>
                <a:ea typeface="Arial"/>
              </a:rPr>
              <a:t>β</a:t>
            </a:r>
            <a:r>
              <a:rPr b="0" lang="en-GB" sz="2800" spc="-1" strike="noStrike">
                <a:solidFill>
                  <a:srgbClr val="bbe0e3"/>
                </a:solidFill>
                <a:latin typeface="Comic Sans MS"/>
                <a:ea typeface="Arial"/>
              </a:rPr>
              <a:t> sie gl</a:t>
            </a:r>
            <a:r>
              <a:rPr b="0" lang="en-US" sz="2800" spc="-1" strike="noStrike">
                <a:solidFill>
                  <a:srgbClr val="bbe0e3"/>
                </a:solidFill>
                <a:latin typeface="Comic Sans MS"/>
                <a:ea typeface="Arial"/>
              </a:rPr>
              <a:t>ü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5105520"/>
            <a:ext cx="1676520" cy="1263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934320" y="533520"/>
            <a:ext cx="182880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00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Arial"/>
              </a:rPr>
              <a:t>Rudolf der 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2060640"/>
            <a:ext cx="4249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Rudolf der rotn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äsige 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hatte eine sehr gl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änzende N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Und wenn man sie je sieht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Wird man sagen, da</a:t>
            </a:r>
            <a:r>
              <a:rPr b="0" lang="el-GR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β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 sie gl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üh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Die anderen Rene im gan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Haben ihm ausgelacht und beschw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Sie haben den armen Rudolf verbot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Bei den Renspielen teilzuneh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2060640"/>
            <a:ext cx="410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Auf einem nebligen Heiligab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Santa kam zu ihm und sag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“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Rudolf, mit deiner gl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änzenden Nase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Wirst du sp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äter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 meinen Schlitten f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ühr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Dann haben die anderen ihm verlieb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Und sie haben fr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ö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hlich gesun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“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Rudolf der rotn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äsige Ren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du wirst ja immer ber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ühmt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5105520"/>
            <a:ext cx="1676520" cy="1263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934320" y="533520"/>
            <a:ext cx="182880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00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00720" y="2060640"/>
            <a:ext cx="410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Auf einem nebligen Heiligab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Santa kam zu ihm und sag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“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Rudolf, mit deiner gl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änzenden Nase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Wirst du sp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äter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 meinen Schlitten f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ühr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Dann haben die anderen ihm verlieb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Und sie haben fr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ö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hlich gesun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“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Rudolf der rotn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äsige Ren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du wirst ja immer ber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ühmt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2060640"/>
            <a:ext cx="4249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Rudolf der rotn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äsige 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hatte eine sehr gl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änzende N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Und wenn man sie je sieht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Wird man sagen, da</a:t>
            </a:r>
            <a:r>
              <a:rPr b="0" lang="el-GR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β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 sie gl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üh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Die anderen Rene im gan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Haben ihm ausgelacht und beschw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Sie haben den armen Rudolf verbot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Bei den Renspielen teilzuneh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Arial"/>
              </a:rPr>
              <a:t>Rudolf der 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0000" y="2421000"/>
            <a:ext cx="1152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03280" y="2743200"/>
            <a:ext cx="576360" cy="254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35280" y="3048120"/>
            <a:ext cx="649080" cy="309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6165720"/>
            <a:ext cx="11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änz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5516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43640" y="6165720"/>
            <a:ext cx="720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3429000"/>
            <a:ext cx="93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80000" y="551664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d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3733920"/>
            <a:ext cx="64944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6165720"/>
            <a:ext cx="720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59640" y="5516640"/>
            <a:ext cx="720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r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8000" y="4114800"/>
            <a:ext cx="649440" cy="2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4437000"/>
            <a:ext cx="1152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19640" y="6165720"/>
            <a:ext cx="11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nspie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213372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61657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ebl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24720" y="5516640"/>
            <a:ext cx="719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2438280"/>
            <a:ext cx="649440" cy="2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40360" y="2743200"/>
            <a:ext cx="649440" cy="254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00" y="6165720"/>
            <a:ext cx="720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551664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chl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80360" y="3068640"/>
            <a:ext cx="1008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551664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erli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67640" y="3657600"/>
            <a:ext cx="792000" cy="276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6000" y="4038480"/>
            <a:ext cx="1008000" cy="254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56000" y="551664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es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206064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6165720"/>
            <a:ext cx="792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udo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4365720"/>
            <a:ext cx="3888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40000" y="5516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00720" y="4724280"/>
            <a:ext cx="6494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84720" y="6165720"/>
            <a:ext cx="720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182880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00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Arial"/>
              </a:rPr>
              <a:t>Rudolf der 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2060640"/>
            <a:ext cx="4321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Rudolf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 der rotn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äsige 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hatte eine sehr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gl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änzende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 N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Und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wenn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 man sie je sieht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Wird man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sagen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, da</a:t>
            </a:r>
            <a:r>
              <a:rPr b="0" lang="el-GR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β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 sie gl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üh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Di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anderen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 Rene im gan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Haben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 ihm ausgelacht und beschw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Sie haben den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armen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 Rudolf verbot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Bei den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Renspielen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 teilzuneh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2060640"/>
            <a:ext cx="42624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Auf einem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nebligen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 Heiligab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Santa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 kam zu ihm und sag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“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Rudolf, mi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deiner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 gl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änzenden Nase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Wirst du sp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äter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 meinen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Schlitten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 f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ühr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Dann haben die anderen ihm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verliebt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Und sie haben fr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ö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hlich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gesungen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“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Rudolf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de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rotn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äsige Ren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du wirst ja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immer</a:t>
            </a: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 ber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ühmt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0880" y="5105520"/>
            <a:ext cx="1676520" cy="1263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934320" y="533520"/>
            <a:ext cx="182880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0000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3880" y="1981080"/>
            <a:ext cx="604836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be0e3"/>
                </a:solidFill>
                <a:latin typeface="Comic Sans MS"/>
              </a:rPr>
              <a:t>Was sind wichtige Wörter für ein Weihnachtsl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be0e3"/>
                </a:solidFill>
                <a:latin typeface="Comic Sans MS"/>
              </a:rPr>
              <a:t>Schreib eine Liste, auf Deutsch </a:t>
            </a:r>
            <a:r>
              <a:rPr b="1" lang="en-GB" sz="2800" spc="-1" strike="noStrike" u="sng">
                <a:solidFill>
                  <a:srgbClr val="bbe0e3"/>
                </a:solidFill>
                <a:uFillTx/>
                <a:latin typeface="Comic Sans MS"/>
              </a:rPr>
              <a:t>und</a:t>
            </a:r>
            <a:r>
              <a:rPr b="0" lang="en-GB" sz="2800" spc="-1" strike="noStrike">
                <a:solidFill>
                  <a:srgbClr val="bbe0e3"/>
                </a:solidFill>
                <a:latin typeface="Comic Sans MS"/>
              </a:rPr>
              <a:t> auf Engl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be0e3"/>
                </a:solidFill>
                <a:latin typeface="Arial"/>
              </a:rPr>
              <a:t>Deutsche Weihnachtslie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505320"/>
            <a:ext cx="785880" cy="1954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14600" y="4343400"/>
            <a:ext cx="1131840" cy="1111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990720" y="4572000"/>
            <a:ext cx="838080" cy="803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28600" y="5638680"/>
            <a:ext cx="1096920" cy="881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7391520" y="5638680"/>
            <a:ext cx="1028520" cy="846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6095880" y="5410080"/>
            <a:ext cx="1143000" cy="1108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5181480" y="5486400"/>
            <a:ext cx="711360" cy="1058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3886200" y="5562720"/>
            <a:ext cx="1292400" cy="799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2743200" y="5638680"/>
            <a:ext cx="925560" cy="857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0"/>
          <a:stretch/>
        </p:blipFill>
        <p:spPr>
          <a:xfrm>
            <a:off x="1600200" y="5486400"/>
            <a:ext cx="971640" cy="1017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1"/>
          <a:stretch/>
        </p:blipFill>
        <p:spPr>
          <a:xfrm>
            <a:off x="7010280" y="4495680"/>
            <a:ext cx="754200" cy="936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2"/>
          <a:stretch/>
        </p:blipFill>
        <p:spPr>
          <a:xfrm>
            <a:off x="5486400" y="4343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3"/>
          <a:stretch/>
        </p:blipFill>
        <p:spPr>
          <a:xfrm>
            <a:off x="8101080" y="5734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4"/>
          <a:stretch/>
        </p:blipFill>
        <p:spPr>
          <a:xfrm>
            <a:off x="442764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3895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7012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17:34:14Z</dcterms:created>
  <dc:creator>Eleanor Abrahams </dc:creator>
  <dc:description/>
  <dc:language>en-US</dc:language>
  <cp:lastModifiedBy>CSeccombe</cp:lastModifiedBy>
  <dcterms:modified xsi:type="dcterms:W3CDTF">2006-12-01T14:31:38Z</dcterms:modified>
  <cp:revision>28</cp:revision>
  <dc:subject/>
  <dc:title>Rudolf der Ren</dc:title>
</cp:coreProperties>
</file>