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55A-9E91-4EFE-8926-FE9A03F9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60A-1E14-4715-A1E0-071FE5D5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2D0-75A0-43E3-AE58-1D19D406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C5A-100C-47BA-9CF2-D0B6FF53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7111-D8B9-4862-9B5F-3C52AB87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AD19-5D74-4AE5-AB9F-831D4747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E156-BAD1-47F0-9D13-742092BB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006F-7C58-4BAE-AEFB-D50385AD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9205-1164-4BB7-8BF0-5784E246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02A5-CBAA-441B-8B4D-CB58042C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C669-F002-46FD-87BE-5F00FEC5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F09-F1FE-4E69-B71E-62B6D8C7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73DC-B66F-4849-8273-6810FB0A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5D1F-95BC-4E01-AB98-9A499701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DC74-AB61-42BA-8DB6-91FC97C6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AFEA-E83A-4AED-AD74-D600B59B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6FBE-4829-4600-AD3D-7A2AAD25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DC7-6A0E-459D-8DEA-E96F5715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568-128E-4EF4-A15A-E08BEF65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33E-9FA7-4677-A04E-A0EBED37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8033-AA20-4F39-8DC2-A1E10B72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432-D555-4933-B79E-6BC69CB7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15D-187D-4FF2-BE1B-FDEF3095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247-EE93-4A7C-9180-F2A1C778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6B59-A82A-43CB-B648-0C0DA8D40F3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A350-EF55-4070-A645-76705B1BF39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La Navidad en México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Christmas in Mexic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6524640"/>
            <a:ext cx="529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©MFL Sunderland 2006  </a:t>
            </a:r>
            <a:r>
              <a:rPr b="0" lang="en-GB" sz="1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sunderlandschools.org/mfl-sunderland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ACIMIEN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vity scenes in wood, clay, metal, glass, wax, straw and almost any material you can think of, are another rich expression of popular ar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56360" y="1600200"/>
            <a:ext cx="2822400" cy="2171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30800" y="3924360"/>
            <a:ext cx="28735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FLOR DE NOCHE BUENA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(Poinsettias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ative to Mex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Náhuatl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they were called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Cuitlaxochitl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or star flow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Spanish they are known as </a:t>
            </a: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Noche Bue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48360" y="2241720"/>
            <a:ext cx="32400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OCHE BUENA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24th December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elebration of a late-night </a:t>
            </a:r>
            <a:r>
              <a:rPr b="0" i="1" lang="en-GB" sz="1600" spc="-1" strike="noStrike">
                <a:solidFill>
                  <a:srgbClr val="ff9900"/>
                </a:solidFill>
                <a:latin typeface="Tahoma"/>
              </a:rPr>
              <a:t>Misa de Gallo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(Rooster's Mass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Modern influences have introduced the Christmas tree and Santa Clau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Opening of gift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9900"/>
                </a:solidFill>
                <a:latin typeface="Tahoma"/>
              </a:rPr>
              <a:t>Piñatas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1600" spc="-1" strike="noStrike">
                <a:solidFill>
                  <a:srgbClr val="ff9900"/>
                </a:solidFill>
                <a:latin typeface="Tahoma"/>
              </a:rPr>
              <a:t>luces de Belen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(sparklers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raditional Christmas supp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3525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771280" y="21337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homemade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tamales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atole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(corn gruel) or other regional dish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roast turkey, ham or suckling pig are other popular menu items; as well as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Romeritos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(a herb) in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Mole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(a spicy chocolate sauce) with shrimps and potatoes; and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Bacalao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- cod served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</a:rPr>
              <a:t>a la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vizcain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, a Basque dish. The traditional dessert is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colación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, a mixture of candies in syrup.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Ponche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(a hot fruit punch),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sidr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(sparkling cider) or other spirits are served for the holiday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brindis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(toast)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2860560" cy="1906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300720" y="4984920"/>
            <a:ext cx="2303640" cy="1612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4997520"/>
            <a:ext cx="3168360" cy="13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987880" y="115920"/>
            <a:ext cx="26164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AVIDAD </a:t>
            </a:r>
            <a:br>
              <a:rPr sz="4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(Christmas day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large reun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ean meal around three o’clock in the afternoon, what it is known as “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recalentad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”, because the Christmas meal is reheated from the previous nigh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ÑO NUEV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1st December -  1st January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ig party, is ushered in with an abundance of noise, of wonderful fireworks and hundreds of skyrocket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riends and families celebrate with huge bonfires, music, food and dancin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ustom: 12 grapes at midnight, each one on the strike of the bell, for good luck in each one of the following twelve month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amily toasts with apple cider and start to eat (supper is the same as the Christma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305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DIA DE REY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6th January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welfth Night, Epiphany, Three Kings Day, January 6t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tradition in Mexico for </a:t>
            </a:r>
            <a:r>
              <a:rPr b="0" i="1" lang="en-GB" sz="1600" spc="-1" strike="noStrike">
                <a:solidFill>
                  <a:srgbClr val="ff9900"/>
                </a:solidFill>
                <a:latin typeface="Tahoma"/>
              </a:rPr>
              <a:t>Dia de Reyes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, Kings Day, is for children to leave their shoes outside the door so they can be filled with gifts from the Magi (Three Kings: Melchior, Gaspar and Baltazar), commemorating the gifts carried by the them to the Christ Chil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Eating the traditional: “</a:t>
            </a:r>
            <a:r>
              <a:rPr b="0" i="1" lang="en-GB" sz="1600" spc="-1" strike="noStrike">
                <a:solidFill>
                  <a:srgbClr val="ff9900"/>
                </a:solidFill>
                <a:latin typeface="Tahoma"/>
              </a:rPr>
              <a:t>Rosca de Reyes”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508720" y="2239920"/>
            <a:ext cx="31287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28464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pecial bread made for the occasion in the form of a crown, decorated with dried fruits and hiding in its midst one or several little doll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e guest who finds the doll (representing the infant Jesus) in their slice of </a:t>
            </a: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Rosc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give a party on February 2nd, </a:t>
            </a: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Candelari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with tamales and atole for all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354480" y="692280"/>
            <a:ext cx="28731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DECO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39680" y="1600200"/>
            <a:ext cx="2873520" cy="2171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846760" y="1600200"/>
            <a:ext cx="1641600" cy="2171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039680" y="3924360"/>
            <a:ext cx="2873520" cy="2171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846760" y="3924360"/>
            <a:ext cx="16416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28880" y="12682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30800" y="1197000"/>
            <a:ext cx="2873520" cy="2171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039680" y="3924360"/>
            <a:ext cx="2873520" cy="2171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230800" y="3924360"/>
            <a:ext cx="28735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ety of activities that span the period from December 16th to January 6th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elebration are the fusion of indigenous and Spanish traditio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933800" y="2637000"/>
            <a:ext cx="309420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48320" y="98064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¡FELIZ NAVIDAD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PRÓSPERO AÑO NUEV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54000" y="1557360"/>
            <a:ext cx="30448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POS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9612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660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00"/>
                </a:solidFill>
                <a:latin typeface="Tahoma"/>
              </a:rPr>
              <a:t>fiesta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which represent Joseph and Mary's arduous pilgrimage on their way to Bethlehem, and there are nine </a:t>
            </a:r>
            <a:r>
              <a:rPr b="0" i="1" lang="en-GB" sz="2400" spc="-1" strike="noStrike">
                <a:solidFill>
                  <a:srgbClr val="ff9900"/>
                </a:solidFill>
                <a:latin typeface="Tahoma"/>
              </a:rPr>
              <a:t>posadas</a:t>
            </a:r>
            <a:r>
              <a:rPr b="1" i="1" lang="en-GB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rom the 16 to the 24 of December</a:t>
            </a:r>
            <a:r>
              <a:rPr b="1" i="1" lang="en-GB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because they symbolize Mary's nine months of pregnanc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81480" y="3465360"/>
            <a:ext cx="2971800" cy="212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2952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PIÑATA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tradition that involves breaking a star shaped papier-mâché container full of sweets, Mandarins, and small toy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tick is used, and the </a:t>
            </a:r>
            <a:r>
              <a:rPr b="0" i="1" lang="en-US" sz="2000" spc="-1" strike="noStrike">
                <a:solidFill>
                  <a:srgbClr val="ff9900"/>
                </a:solidFill>
                <a:latin typeface="Tahoma"/>
              </a:rPr>
              <a:t>piñat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s hung on a cord, which in turn is moved around to make it difficult for the person with the stic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41054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You will hear the parents and children singing special </a:t>
            </a:r>
            <a:r>
              <a:rPr b="0" i="1" lang="en-GB" sz="1600" spc="-1" strike="noStrike">
                <a:solidFill>
                  <a:srgbClr val="ff9900"/>
                </a:solidFill>
                <a:latin typeface="Tahoma"/>
              </a:rPr>
              <a:t>Piñata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songs including a verse which say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“</a:t>
            </a: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no quiero o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ni quiero pl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yo lo que quie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es romper la </a:t>
            </a:r>
            <a:r>
              <a:rPr b="0" i="1" lang="en-GB" sz="1800" spc="-1" strike="noStrike">
                <a:solidFill>
                  <a:srgbClr val="ff9900"/>
                </a:solidFill>
                <a:latin typeface="Tahoma"/>
              </a:rPr>
              <a:t>piñata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(“</a:t>
            </a: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I don’t need gold, nor do I desire silv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All that I want is to break the piñata!”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* * * * * * *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"¡Dale,  dale,  dal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no pierdas el tino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porque si lo pierde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pierdes el camino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Una, dos, tres!"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("Strike it, Strike it, Strike it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don't lose your aim, 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because if you lose it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you won't find your way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One, two, three!"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0" y="476280"/>
            <a:ext cx="2521080" cy="1679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05320" y="2492280"/>
            <a:ext cx="26514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ASTOREL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GB" sz="2800" spc="-1" strike="noStrike">
                <a:solidFill>
                  <a:srgbClr val="ff9900"/>
                </a:solidFill>
                <a:latin typeface="Tahoma"/>
              </a:rPr>
              <a:t>Pastorela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n Mexico starts as simple parables of the struggle of good against evil. The light, humor-filled pastorelas are reenactments of the shepherds' adoration of the Christ Chil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016600" y="2495520"/>
            <a:ext cx="33019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1680" y="2571840"/>
            <a:ext cx="3809880" cy="2552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30800" y="1600200"/>
            <a:ext cx="2873520" cy="2171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137200" y="4127400"/>
            <a:ext cx="30607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CIMIEN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4413240" cy="3335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43280" y="1413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Nativity Crè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1:27:25Z</dcterms:created>
  <dc:creator>Information Services</dc:creator>
  <dc:description/>
  <dc:language>en-US</dc:language>
  <cp:lastModifiedBy>CSeccombe</cp:lastModifiedBy>
  <dcterms:modified xsi:type="dcterms:W3CDTF">2006-12-01T14:31:15Z</dcterms:modified>
  <cp:revision>6</cp:revision>
  <dc:subject/>
  <dc:title>La Navidad en Mexico</dc:title>
</cp:coreProperties>
</file>