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31F-56F7-43B4-8076-37848A6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E3C-887C-405F-8B11-B541DEA1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196-1023-4946-8A61-91EF842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C54-E520-4EE8-BB6F-70899ED4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118-6E8A-4603-AC23-F31EF47A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C439-8DEE-4A2D-8E9F-C954EA4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4868-C801-469C-B9A6-4793E58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CB8D-903E-4301-A9CD-69ACF54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4067-F137-4CA7-ABD9-1AB63AA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E52A-5DBD-41AA-BE39-7F67623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6440-F1EA-4B1B-BB50-62BF54CA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ED8-95BA-4C3E-8087-D36B68E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43A0-8545-4C7F-9D60-AC4E816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20C-EFB6-494F-B94E-C0B3B272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A4D-FFEB-4B6F-B886-70E4787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1FE-C6B2-400B-A342-ADDE29A4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DE5-AA99-4262-A1BE-924273D1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C11-CB34-4D09-ADCF-2319B7AF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85C-F27E-416B-821F-5AEBA43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A78-1D59-4B85-BCA3-D28FE19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705-8773-4647-8159-F428801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A82-CFF2-40B8-8A2C-26BBE626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E89-5F64-4BD9-A9F5-474D8BC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D23-FBC8-49EB-85A3-61BC8C2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4231-6A5B-4E69-8AB8-F4268CEF0C8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DF1-8670-474C-A17A-04DEF5B9CFB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La Navidad en México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hristmas in Mex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6524640"/>
            <a:ext cx="529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©MFL Sunderland 2006  </a:t>
            </a:r>
            <a:r>
              <a:rPr b="0" lang="en-GB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sunderlandschools.org/mfl-sunderland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CIMI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vity scenes in wood, clay, metal, glass, wax, straw and almost any material you can think of, are another rich expression of popular a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2822400" cy="217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30800" y="3924360"/>
            <a:ext cx="2873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FLOR DE NOCHE BUENA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Poinsetti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tive to Mex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Náhuat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hey were called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uitlaxochit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r star flow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Spanish they are known as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che Bu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241720"/>
            <a:ext cx="3240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OCHE BUEN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24th December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elebration of a late-night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Misa de Gallo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(Rooster's Mass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odern influences have introduced the Christmas tree and Santa Clau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pening of gif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Piñata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luces de Belen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(sparkler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raditional Christmas supp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525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homemade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tamale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atol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corn gruel) or other regional dish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oast turkey, ham or suckling pig are other popular menu items; as well as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Romerito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herb) in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Mol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spicy chocolate sauce) with shrimps and potatoes; and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Bacalao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- cod served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</a:rPr>
              <a:t>a la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vizcain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, a Basque dish. The traditional dessert is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colación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, a mixture of candies in syrup.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Ponch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a hot fruit punch),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sidr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sparkling cider) or other spirits are served for the holiday </a:t>
            </a:r>
            <a:r>
              <a:rPr b="0" i="1" lang="en-GB" sz="1400" spc="-1" strike="noStrike">
                <a:solidFill>
                  <a:srgbClr val="ff9900"/>
                </a:solidFill>
                <a:latin typeface="Tahoma"/>
              </a:rPr>
              <a:t>brindi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(toast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860560" cy="1906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00720" y="4984920"/>
            <a:ext cx="2303640" cy="16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4997520"/>
            <a:ext cx="3168360" cy="13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87880" y="115920"/>
            <a:ext cx="2616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VIDAD 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Christmas day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large reun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an meal around three o’clock in the afternoon, what it is known as “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recalentad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”, because the Christmas meal is reheated from the previous n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ÑO NUE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1st December -  1st Januar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g party, is ushered in with an abundance of noise, of wonderful fireworks and hundreds of skyrocke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iends and families celebrate with huge bonfires, music, food and danc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: 12 grapes at midnight, each one on the strike of the bell, for good luck in each one of the following twelve month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mily toasts with apple cider and start to eat (supper is the same as the Christma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30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IA DE REY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6th January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welfth Night, Epiphany, Three Kings Day, January 6t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tradition in Mexico for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Dia de Reye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, Kings Day, is for children to leave their shoes outside the door so they can be filled with gifts from the Magi (Three Kings: Melchior, Gaspar and Baltazar), commemorating the gifts carried by the them to the Christ Chil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Eating the traditional: “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Rosca de Reyes”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08720" y="223992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pecial bread made for the occasion in the form of a crown, decorated with dried fruits and hiding in its midst one or several little doll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guest who finds the doll (representing the infant Jesus) in their slice of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Rosc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ive a party on February 2nd,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Candelar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with tamales and atole for a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4480" y="692280"/>
            <a:ext cx="28731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EC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39680" y="1600200"/>
            <a:ext cx="2873520" cy="2171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46760" y="1600200"/>
            <a:ext cx="1641600" cy="217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39680" y="392436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846760" y="3924360"/>
            <a:ext cx="16416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28880" y="1268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30800" y="119700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39680" y="3924360"/>
            <a:ext cx="2873520" cy="2171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230800" y="3924360"/>
            <a:ext cx="2873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ty of activities that span the period from December 16th to January 6th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elebration are the fusion of indigenous and Spanish tradi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3800" y="2637000"/>
            <a:ext cx="309420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48320" y="980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¡FELIZ NAVIDA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PRÓSPERO AÑO NUEV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54000" y="1557360"/>
            <a:ext cx="30448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POS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961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66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fiesta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which represent Joseph and Mary's arduous pilgrimage on their way to Bethlehem, and there are nin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posadas</a:t>
            </a: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the 16 to the 24 of December</a:t>
            </a: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cause they symbolize Mary's nine months of pregnanc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81480" y="3465360"/>
            <a:ext cx="2971800" cy="212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PIÑAT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adition that involves breaking a star shaped papier-mâché container full of sweets, Mandarins, and small toy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tick is used, and the </a:t>
            </a:r>
            <a:r>
              <a:rPr b="0" i="1" lang="en-US" sz="2000" spc="-1" strike="noStrike">
                <a:solidFill>
                  <a:srgbClr val="ff9900"/>
                </a:solidFill>
                <a:latin typeface="Tahoma"/>
              </a:rPr>
              <a:t>piñ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hung on a cord, which in turn is moved around to make it difficult for the person with the stic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105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You will hear the parents and children singing special </a:t>
            </a:r>
            <a:r>
              <a:rPr b="0" i="1" lang="en-GB" sz="1600" spc="-1" strike="noStrike">
                <a:solidFill>
                  <a:srgbClr val="ff9900"/>
                </a:solidFill>
                <a:latin typeface="Tahoma"/>
              </a:rPr>
              <a:t>Piñata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songs including a verse which say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“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o quiero o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i quiero pl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yo lo que qui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es romper la </a:t>
            </a:r>
            <a:r>
              <a:rPr b="0" i="1" lang="en-GB" sz="1800" spc="-1" strike="noStrike">
                <a:solidFill>
                  <a:srgbClr val="ff9900"/>
                </a:solidFill>
                <a:latin typeface="Tahoma"/>
              </a:rPr>
              <a:t>piñata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(“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I don’t need gold, nor do I desire sil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All that I want is to break the piñata!”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* * * * * * *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"¡Dale,  dale,  dal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no pierdas el tin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orque si lo pierd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ierdes el camin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Una, dos, tres!"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("Strike it, Strike it, Strike it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don't lose your aim, 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because if you lose it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you won't find your way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One, two, three!"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2521080" cy="1679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05320" y="2492280"/>
            <a:ext cx="26514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ASTOREL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Pastorel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Mexico starts as simple parables of the struggle of good against evil. The light, humor-filled pastorelas are reenactments of the shepherds' adoration of the Christ Chil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16600" y="2495520"/>
            <a:ext cx="3301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680" y="257184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30800" y="1600200"/>
            <a:ext cx="2873520" cy="21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37200" y="4127400"/>
            <a:ext cx="30607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CIMIEN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413240" cy="3335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141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Nativity Crè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1:27:25Z</dcterms:created>
  <dc:creator>Information Services</dc:creator>
  <dc:description/>
  <dc:language>en-US</dc:language>
  <cp:lastModifiedBy>CSeccombe</cp:lastModifiedBy>
  <dcterms:modified xsi:type="dcterms:W3CDTF">2006-12-01T14:31:15Z</dcterms:modified>
  <cp:revision>6</cp:revision>
  <dc:subject/>
  <dc:title>La Navidad en Mexico</dc:title>
</cp:coreProperties>
</file>