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546-74D7-4571-BE5C-7A552B33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F57-E852-4389-B7AC-EE538248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881-1590-475B-BC3E-5A85D149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F75-247B-4D29-8283-B5715CE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120-E449-420F-9C42-0204A7D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950-4531-4986-A76B-946B151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9B8-8BE4-4A95-8695-581796DD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2F3-63AD-4A55-B2C3-2C9EE97F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EDD-5E04-4929-B4B4-1A48113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AC8-AD2B-413D-AD95-73197AD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04B-4CF3-4D35-BF6E-45DC162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25A-1AA0-44F3-88C6-DFF3535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D7D-3D25-4BDA-AE1A-F0EDAF1AF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ghtbulblanguages.co.uk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S VACACIONES DE NA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ristmas across the t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65888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146240" y="6500880"/>
            <a:ext cx="802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 MConnolly/Light Bulb Languages 2019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2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oy a jugar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 ten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Image result for tennis racket clipart"/>
          <p:cNvPicPr/>
          <p:nvPr/>
        </p:nvPicPr>
        <p:blipFill>
          <a:blip r:embed="rId1"/>
          <a:stretch/>
        </p:blipFill>
        <p:spPr>
          <a:xfrm>
            <a:off x="3635280" y="1773360"/>
            <a:ext cx="1695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724280" y="609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760320" y="2473200"/>
            <a:ext cx="10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2459160" y="2971800"/>
            <a:ext cx="175248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7"/>
          <a:stretch/>
        </p:blipFill>
        <p:spPr>
          <a:xfrm>
            <a:off x="4708440" y="3065400"/>
            <a:ext cx="1752840" cy="110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8"/>
          <a:stretch/>
        </p:blipFill>
        <p:spPr>
          <a:xfrm>
            <a:off x="7105680" y="293040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9"/>
          <a:stretch/>
        </p:blipFill>
        <p:spPr>
          <a:xfrm>
            <a:off x="457200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10"/>
          <a:stretch/>
        </p:blipFill>
        <p:spPr>
          <a:xfrm>
            <a:off x="608472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395280" y="26028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212616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428652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3741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2580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374160" y="270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248652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4213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4069440" y="4795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1621080" y="472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4" descr="Image result for tennis racket clipart"/>
          <p:cNvPicPr/>
          <p:nvPr/>
        </p:nvPicPr>
        <p:blipFill>
          <a:blip r:embed="rId11"/>
          <a:stretch/>
        </p:blipFill>
        <p:spPr>
          <a:xfrm>
            <a:off x="2425680" y="4606920"/>
            <a:ext cx="10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 año pasado n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recibí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chos regal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751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yudé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en casa el día de Nav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mbién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muchas horas de televi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8497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nca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alg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on mis amigos el día de Nav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empre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mucho y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b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champá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42920" y="2590920"/>
            <a:ext cx="281952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4284720" y="263844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486480" y="2630520"/>
            <a:ext cx="1617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o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fenome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oy a ir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 compras el día 2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1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oy a hacer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beres – es importante descans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429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48:37Z</dcterms:created>
  <dc:creator>Home</dc:creator>
  <dc:description/>
  <dc:language>en-US</dc:language>
  <cp:lastModifiedBy>Clare Seccombe</cp:lastModifiedBy>
  <dcterms:modified xsi:type="dcterms:W3CDTF">2019-01-03T16:35:12Z</dcterms:modified>
  <cp:revision>13</cp:revision>
  <dc:subject/>
  <dc:title>LAS VACACIONES DE NAVIDAD</dc:title>
</cp:coreProperties>
</file>