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4C7-29B6-4D99-90DF-62788ECB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999-E5C0-486B-A3D9-212FD9CB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819-D211-406F-80D4-CAC0CC32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995-C856-4AAE-9F85-B85AD61A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560-62C8-4431-A49C-B9344A95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EFF-D5DD-47F3-9628-D6139AB7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08B-000B-4798-B1DC-39BBD27C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0C4-65E5-4F90-ABB2-263BD772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376-8481-4AFE-8378-DDB0B246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386-59B8-409D-9662-2B7CE3EE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8BD-0F68-4FED-B709-F6374EE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14F-8F62-4089-A733-7188B02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011D-56AB-4A88-B9F4-68C63A1312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ghtbulblanguages.co.uk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AS VACACIONES DE NA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ristmas across the t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809880" y="380880"/>
            <a:ext cx="165888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1146240" y="6500880"/>
            <a:ext cx="8028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 MConnolly/Light Bulb Languages 2019 </a:t>
            </a:r>
            <a:r>
              <a:rPr b="0" lang="en-GB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2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oy a jugar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 ten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Image result for tennis racket clipart"/>
          <p:cNvPicPr/>
          <p:nvPr/>
        </p:nvPicPr>
        <p:blipFill>
          <a:blip r:embed="rId1"/>
          <a:stretch/>
        </p:blipFill>
        <p:spPr>
          <a:xfrm>
            <a:off x="3635280" y="1773360"/>
            <a:ext cx="16956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1295280" cy="12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724280" y="609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6781680" y="6858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760320" y="2473200"/>
            <a:ext cx="108108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6"/>
          <a:stretch/>
        </p:blipFill>
        <p:spPr>
          <a:xfrm>
            <a:off x="2459160" y="2971800"/>
            <a:ext cx="175248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7"/>
          <a:stretch/>
        </p:blipFill>
        <p:spPr>
          <a:xfrm>
            <a:off x="4708440" y="3065400"/>
            <a:ext cx="1752840" cy="110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8"/>
          <a:stretch/>
        </p:blipFill>
        <p:spPr>
          <a:xfrm>
            <a:off x="7105680" y="2930400"/>
            <a:ext cx="128124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9"/>
          <a:stretch/>
        </p:blipFill>
        <p:spPr>
          <a:xfrm>
            <a:off x="457200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10"/>
          <a:stretch/>
        </p:blipFill>
        <p:spPr>
          <a:xfrm>
            <a:off x="6084720" y="4724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395280" y="26028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2126160" y="3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4286520" y="3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6374160" y="25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325800" y="249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6374160" y="270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2486520" y="25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421344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4069440" y="4795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1621080" y="472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4" descr="Image result for tennis racket clipart"/>
          <p:cNvPicPr/>
          <p:nvPr/>
        </p:nvPicPr>
        <p:blipFill>
          <a:blip r:embed="rId11"/>
          <a:stretch/>
        </p:blipFill>
        <p:spPr>
          <a:xfrm>
            <a:off x="2425680" y="4606920"/>
            <a:ext cx="10065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 año pasado n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recibí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chos regal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27511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yudé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en casa el día de Navi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mbién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muchas horas de televi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28497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nca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algo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con mis amigos el día de Navi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empre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mucho y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bo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champá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42920" y="2590920"/>
            <a:ext cx="2819520" cy="177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4284720" y="263844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6486480" y="2630520"/>
            <a:ext cx="16178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lo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aso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fenomen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oy a ir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 compras el día 2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2162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oy a hacer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beres – es importante descans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429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4:48:37Z</dcterms:created>
  <dc:creator>Home</dc:creator>
  <dc:description/>
  <dc:language>en-US</dc:language>
  <cp:lastModifiedBy>Clare Seccombe</cp:lastModifiedBy>
  <dcterms:modified xsi:type="dcterms:W3CDTF">2019-01-03T16:35:12Z</dcterms:modified>
  <cp:revision>13</cp:revision>
  <dc:subject/>
  <dc:title>LAS VACACIONES DE NAVIDAD</dc:title>
</cp:coreProperties>
</file>