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242-CBDC-4600-A403-4E778382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99B-07D5-4BE1-A6B6-84EDE57D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220-7705-4341-B9A9-83FADFC0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654-8569-4C5B-82AC-07EB9ED3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EA0-2525-4AE3-A9A9-A171392D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85D-FAC4-4265-8973-68D18071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9F4-E22F-43BF-BD04-1E4831E0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4C7-F20C-4334-B745-6430963A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D26-63D0-4DAD-8C27-286606B2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E04-5B43-4BFF-A702-290E26E9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B06-2DA7-47C6-8C2B-FCD38D0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AFD-C13E-4783-90A5-6D6B4C3C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BCD6-D7D4-48F5-9B93-D77526A78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 VACACIONES DE NA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ing my Christmas holi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9880" y="380880"/>
            <a:ext cx="165888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64008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bí champá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76720" y="1981080"/>
            <a:ext cx="2633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lo pasé fenomen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724280" y="2514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1295280" cy="12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90920" y="609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724280" y="609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781680" y="6858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85800" y="2514600"/>
            <a:ext cx="1600200" cy="1198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916360" y="2565360"/>
            <a:ext cx="108108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4648320" y="2895480"/>
            <a:ext cx="175248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6781680" y="2971800"/>
            <a:ext cx="1752840" cy="1101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2195640" y="4653000"/>
            <a:ext cx="128088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457200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6084720" y="472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26028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26160" y="3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6520" y="3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74160" y="25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5800" y="249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74160" y="270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8652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344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9440" y="4795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1080" y="472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436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ibí muchos regal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27511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50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yudé en ca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76720" y="148428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436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 muchas horas de televi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76720" y="1125360"/>
            <a:ext cx="284940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50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lí con mis amig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59280" y="9810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50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i al c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37339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46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i de compr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2162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ce muchos debe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3429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ibí muchos regal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71800" y="2057400"/>
            <a:ext cx="27511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í much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2819520" cy="17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1752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429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bí champá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1413000"/>
            <a:ext cx="26337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 lo pasé fenomen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1916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1)  Fui de comp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2)  Comí mu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3)  Me lo pasé fenome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4)  Salí con mis ami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5)  Fui al c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6)  Bebí champ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7)  Hice muchos deb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8)  Recibí muchos regal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9)  Ayudé en c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0) Vi muchas horas de televi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ICES PASCU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 1 – V/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1 doesn’t really like Christ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family occa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Xmas day they stay at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year they went to Portug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tayed with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ICES PASC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 2:  L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person gives presents at Xmas/on 6 Janu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live in Madrid/Reti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prefer Xmas/Jan 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ICES PASC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3:  GAP FILL IN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erson is going to 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_______ live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going to be there for 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3 is unsure what the _____________ will be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870200" y="917640"/>
          <a:ext cx="5411520" cy="4346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0200" y="917640"/>
                    <a:ext cx="541152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S VACACIONES DE NA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8108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 lo pasé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i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nte las vacaciones de Na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primeros dí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 hice mucho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alí con amig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Nochebuena fui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asa de mi mad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día de Navidad comí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vo con ver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yudé en casa - puse la mesa y lavé los pl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 la tard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vi la televisió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Fu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año que viene me gustarí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r de vacacio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yudé en ca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 muchas horas de televis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28497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lí con mis amig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i al c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37335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i de compr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29000" y="2209680"/>
            <a:ext cx="2162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ce muchos debe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429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í much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2819520" cy="177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1752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48:37Z</dcterms:created>
  <dc:creator>Home</dc:creator>
  <dc:description/>
  <dc:language>en-US</dc:language>
  <cp:lastModifiedBy>Clare</cp:lastModifiedBy>
  <dcterms:modified xsi:type="dcterms:W3CDTF">2008-12-15T20:02:28Z</dcterms:modified>
  <cp:revision>9</cp:revision>
  <dc:subject/>
  <dc:title>LAS VACACIONES DE NAVIDAD</dc:title>
</cp:coreProperties>
</file>