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D76-44A5-49C0-8700-3A495055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3DB-10EF-410F-BC81-0050C55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A80-A49E-43F1-A695-FBAA471A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86E-7204-449B-91CC-474E525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178-1FFC-4D43-8C33-3A3F547E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C93-F9D8-4380-9349-42644D1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CC4-D560-4687-A910-E09ADFF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598-E13D-40EC-AEA6-E0ADC33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1C8-7003-47BA-A486-CA7CB41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A8B-1690-43B1-967B-7E2E052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57E-6776-48A2-A71B-78FF581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554-9280-4B73-A521-289AB779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7F9-BF98-479E-9381-2D07EE08A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 VACACIONES DE N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ing my Christmas holi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6588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64008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bí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63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pasé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609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781680" y="6858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85800" y="251460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916360" y="2565360"/>
            <a:ext cx="10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648320" y="2895480"/>
            <a:ext cx="175248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781680" y="2971800"/>
            <a:ext cx="1752840" cy="110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195640" y="4653000"/>
            <a:ext cx="128088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57200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6084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260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616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652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741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58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416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6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3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9440" y="4795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1080" y="472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ibí 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yudé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76720" y="1125360"/>
            <a:ext cx="284940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lí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59280" y="9810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a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7339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6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de comp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ce muchos debe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ibí 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í m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752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bí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2633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pasé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1)  Fui de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2)  Comí mu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3)  Me lo pasé fenome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4)  Salí con mis am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5)  Fui al c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6)  Bebí champ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7)  Hice muchos deb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8)  Recibí muchos regal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9)  Ayudé en c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0) Vi muchas horas de telev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 1 – V/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1 doesn’t really like Christ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family occa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Xmas day they stay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year they went to Portu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yed with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2:  L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person gives presents at Xmas/on 6 Janu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ive in Madrid/Reti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prefer Xmas/Jan 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:  GAP FILL 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erson is going to 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_______ liv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 to be there for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is unsure what the _____________ will b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70200" y="917640"/>
          <a:ext cx="5411520" cy="434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0200" y="917640"/>
                    <a:ext cx="54115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S VACACIONES DE NA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810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lo pasé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nte las vacaciones de Na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rimeros dí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 hice much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lí con amig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Nochebuena fui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sa de mi mad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ía de Navidad comí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vo con ver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yudé en casa - puse la mesa y lavé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 la tar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i la televisió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u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ño que viene me gustarí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r de vacac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yudé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28497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lí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a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37335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de comp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29000" y="220968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ce muchos debe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í m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752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48:37Z</dcterms:created>
  <dc:creator>Home</dc:creator>
  <dc:description/>
  <dc:language>en-US</dc:language>
  <cp:lastModifiedBy>Clare</cp:lastModifiedBy>
  <dcterms:modified xsi:type="dcterms:W3CDTF">2008-12-15T20:02:28Z</dcterms:modified>
  <cp:revision>9</cp:revision>
  <dc:subject/>
  <dc:title>LAS VACACIONES DE NAVIDAD</dc:title>
</cp:coreProperties>
</file>