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5.gif" ContentType="image/gif"/>
  <Override PartName="/ppt/media/image1.wmf" ContentType="image/x-wmf"/>
  <Override PartName="/ppt/media/image9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8F1-6ABC-45AC-AA67-457C1AB2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F6F-C44A-4392-B3DD-4AA2599A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6AD-8690-493F-8448-B9977C82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B83-C232-4654-9088-5E530399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43B-DE68-42B8-938B-F3F139D7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931-F27E-4DD8-B394-BC4513B8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014E-E4DC-4E39-A24D-611D6532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DEB-46B7-497A-9A3D-ABF0AC49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3A8-F47F-44C2-8F75-719488AE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F81-8726-4A4A-9C1E-61AB7B90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20D-1E3E-4556-A4BB-242D511E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B8C-3EAF-4451-926A-EF9D3A2E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CD5A-DBAF-48C1-961B-116620DFD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hyperlink" Target="http://www.sunderlandschools.org/mfl-sunderland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iliger Abend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r heilige Abend ist am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Dezember gefe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r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ird geschmückt und 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eihnachtsfest vorberei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m heiligen Abend gibt e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Bei der Bescherung werden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usgegeb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ie Kinder glauben, dass diese der Weihnachtsmann oder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ebracht hä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1219320"/>
            <a:ext cx="228600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ünfundzwanzigst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vierundzwanzig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echsundzwanzig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905120"/>
            <a:ext cx="228600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ihnachtsba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ihnachtsschl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ihnachtsgeschen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3276720"/>
            <a:ext cx="213336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r Weihnachts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ie Bes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as Neuja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4343400"/>
            <a:ext cx="14479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ruch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schen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032520"/>
            <a:ext cx="190476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necht Rupre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as Christk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r Sankt Nikl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086600" y="380880"/>
            <a:ext cx="1725480" cy="887400"/>
            <a:chOff x="7086600" y="380880"/>
            <a:chExt cx="1725480" cy="8874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7086600" y="380880"/>
              <a:ext cx="887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924680" y="380880"/>
              <a:ext cx="887400" cy="88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96080" y="1752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2590920"/>
            <a:ext cx="1298520" cy="931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629400" y="3505320"/>
            <a:ext cx="73512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772400" y="4419720"/>
            <a:ext cx="88272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7924680" y="54100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4876920" y="5943600"/>
            <a:ext cx="838080" cy="698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62520" y="1066680"/>
            <a:ext cx="2438280" cy="99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ierundzwanzig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905120"/>
            <a:ext cx="2438280" cy="99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ihnachtsba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3276720"/>
            <a:ext cx="2438280" cy="99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e Bescher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4343400"/>
            <a:ext cx="1981080" cy="99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schen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019920"/>
            <a:ext cx="198108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s Christk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666900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6642000"/>
            <a:ext cx="39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©MFL Sunderland 2007 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SF</a:t>
            </a: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sz="800" spc="-1" strike="noStrike" u="sng">
                <a:solidFill>
                  <a:srgbClr val="ccccff"/>
                </a:solidFill>
                <a:uFillTx/>
                <a:latin typeface="Arial Rounded MT Bold"/>
                <a:hlinkClick r:id="rId9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iliger Abend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inder werden vor der Bescherung i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schick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ährend die Eltern die Geschenk unter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legen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amit die Kinder wissen, wann sie zur Bescher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rscheinen sollen, wird oft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läu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gibt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or der Bescher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vor die Kinder die Geschenke auspacken 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ürfen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m heilige Abend wird am meist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feier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e Familie geht d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762120"/>
            <a:ext cx="137160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hre 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ie Kü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n Gar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1676520"/>
            <a:ext cx="137160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as So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n 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n Ba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3276720"/>
            <a:ext cx="16765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in Megaf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in Glöck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ine Tromp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3962520"/>
            <a:ext cx="205740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ihnachtslie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aff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5181480"/>
            <a:ext cx="2209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it Fre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 der Famil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 einem Resta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6032520"/>
            <a:ext cx="17524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 die Kir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 ein Gast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 Be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29600" y="228600"/>
            <a:ext cx="7300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01000" y="160020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43800" y="2971800"/>
            <a:ext cx="720720" cy="628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257800" y="5943600"/>
            <a:ext cx="72864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086600" y="3657600"/>
            <a:ext cx="1371600" cy="101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772400" y="5759280"/>
            <a:ext cx="1371600" cy="1098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81480" y="762120"/>
            <a:ext cx="175284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hre Zi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1676520"/>
            <a:ext cx="18288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n B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3200400"/>
            <a:ext cx="175248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in Glöck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962520"/>
            <a:ext cx="236232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ihnachtsli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105520"/>
            <a:ext cx="243864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der Fami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5943600"/>
            <a:ext cx="1828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die Kir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ihnachtsfalltü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r heilige Abend ist am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Dezember gefe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r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wird geschmückt und 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orberei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i der Bescherung werde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usgeg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e Kinder glauben, dass diese der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oder das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bracht hät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inder werden vor der Bescherung in ihre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geschickt, während die Eltern die Geschenk unter de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legen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in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rd oft geläutet und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rd ges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ann geht die Familie oft in d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Weihnachtsmann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   Geschenke  Zimmer   Glöckchen   vierundzwanzigsten Christkind        Weihnachtsbaum    Baum          Weihnachtslieder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Kirche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Weihnachtsf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37160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920880" cy="990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67080" y="4876920"/>
            <a:ext cx="22860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1447920"/>
            <a:ext cx="198108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1447920"/>
            <a:ext cx="198108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2057400"/>
            <a:ext cx="18288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2743200"/>
            <a:ext cx="16002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200400"/>
            <a:ext cx="167652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3886200"/>
            <a:ext cx="6858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3505320"/>
            <a:ext cx="13716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267080"/>
            <a:ext cx="22860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4191120"/>
            <a:ext cx="16002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990720"/>
            <a:ext cx="22860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2:35:09Z</dcterms:created>
  <dc:creator>Sharon Fountain</dc:creator>
  <dc:description/>
  <dc:language>en-US</dc:language>
  <cp:lastModifiedBy>CSeccombe</cp:lastModifiedBy>
  <dcterms:modified xsi:type="dcterms:W3CDTF">2007-12-18T10:16:04Z</dcterms:modified>
  <cp:revision>9</cp:revision>
  <dc:subject/>
  <dc:title>La Trappe de Noël</dc:title>
</cp:coreProperties>
</file>