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8FE-C526-4CC6-9F0B-40B74BA6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057-F764-4446-A7D6-7BB63723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764-550C-4D87-A430-C3F6EA1C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F3D-C6F5-46E1-8588-93A43F3E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2D9-BFD7-4919-B861-F672DA14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55D-F863-4523-88F1-566099A3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4CF-D48C-49D1-AD56-CCE80440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3E6-23EC-4A45-9B5A-6C4B9E70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91F-3684-428D-BDD8-9129D322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0C5-F5F5-49D6-89F9-3AE9BB4E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F96-1AC5-49E2-B03C-6BECDF45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2A7-FA69-4A04-9066-94D5022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DD97-31E8-4501-A491-332563AD40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5:44:19Z</dcterms:modified>
  <cp:revision>22</cp:revision>
  <dc:subject/>
  <dc:title>John</dc:title>
</cp:coreProperties>
</file>