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8B4-97F4-458E-87C8-4A97D2DD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8E4-C5A5-47F5-A277-03EE5DD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B05-7230-4B36-9753-64AA5128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1B9-6AF0-4966-8BEA-CE0F82DB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098-1927-4B7D-A119-611710E8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C47-15D0-416B-A1EA-06C7D8A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0E7-BF8F-461A-AFB7-CE2D8AA9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A3D-0447-4DE4-9BA3-35C499A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7EA-4ECF-4ADA-8530-6248095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79F-B278-4C42-ADE3-B49E1ED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FE6-1D26-4404-8C5B-05E2697D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8A1-4451-4F51-8F48-E2C09CE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B8F4-B3ED-46E5-9FBC-6ECBB8DF46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5:44:19Z</dcterms:modified>
  <cp:revision>22</cp:revision>
  <dc:subject/>
  <dc:title>John</dc:title>
</cp:coreProperties>
</file>