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C8E-5E7E-4E57-8103-4148056C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25B-9C6E-4E60-9B21-90574AEE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FE1-D703-46CD-A699-B1E493EB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641-BD69-43FE-84BA-4E73781A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900-D053-4B1C-BECF-08E97339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3F7-D578-4704-AF2A-9813BF2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B32-7B3A-4C01-9704-A6661ADD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E2E-699D-4AEF-9655-37E77165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0B0-4821-4440-900F-AC40DE7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48B-ED85-4151-BE23-F6BABD7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B89-A7AE-4233-BD90-D934890A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7A4-2426-4138-B37F-F0B63BE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813A-5615-4FC8-BD72-D5C2F525F5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on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ei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ator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in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iz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-sep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-hui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x-neu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ing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19:46Z</dcterms:modified>
  <cp:revision>22</cp:revision>
  <dc:subject/>
  <dc:title>John</dc:title>
</cp:coreProperties>
</file>