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937-7324-45E6-83DF-DC6E6F42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E45-12AD-48F1-9545-822593E3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41A-9FF8-4EB0-9B53-A16F4075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E29-05F0-4D3B-904D-E07D4839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4D6-2E80-4C85-BCD6-7E2F2EDB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DF2-4CF4-41A8-99EB-F9B19780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441-96F5-4E52-9A68-3EC0B6AB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17E-F821-4D4B-9C2A-66DA1278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22E-BD25-4EB9-A1AE-42DB42EE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ADB-CD63-40A4-BC7C-1B80BB6A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565-FAAB-4168-BA1E-BB9F059B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596-1010-48A5-A62B-028AF18B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0E38-5A58-45C6-AF76-3CE7C404C5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x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onz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ouz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treiz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quatorz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quinz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eiz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x-sep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x-hui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x-neu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eux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ving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troi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quatr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cinq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ix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ep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hui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neu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7:19:46Z</dcterms:modified>
  <cp:revision>22</cp:revision>
  <dc:subject/>
  <dc:title>John</dc:title>
</cp:coreProperties>
</file>