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2A05-A575-4D66-ACDD-4A04FFAD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71B-AB30-4575-A5F3-11B07B1F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FA3-CA16-4A22-8B7D-6A022660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85C-C3F5-4074-B796-68D9E0DF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60B-92B0-41BB-9645-8DB3DCD7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38B-46FA-4713-A782-DB1E9F0B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751-F845-4439-B02E-57F2362D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9A3-487A-4AB3-91C9-A6DA06C8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75E-98ED-4F84-A331-458CECE2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1D4-6FC9-4B80-BDC9-FC27EF4B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9C2-BC0D-4301-AC9F-E72F0FE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6E1-335C-46BD-9EA9-FE360BA7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D245-3716-4255-B678-F9D5B27584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ff0000"/>
                </a:solidFill>
                <a:latin typeface="Comic Sans MS"/>
              </a:rPr>
              <a:t>rouge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0000"/>
                </a:solidFill>
                <a:latin typeface="Comic Sans MS"/>
              </a:rPr>
              <a:t>noi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993300"/>
                </a:solidFill>
                <a:latin typeface="Comic Sans MS"/>
              </a:rPr>
              <a:t>marron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ff6600"/>
                </a:solidFill>
                <a:latin typeface="Comic Sans MS"/>
              </a:rPr>
              <a:t>orange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4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ff00"/>
                </a:solidFill>
                <a:latin typeface="Comic Sans MS"/>
              </a:rPr>
              <a:t>vert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70c0"/>
                </a:solidFill>
                <a:latin typeface="Comic Sans MS"/>
              </a:rPr>
              <a:t>bleu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7030a0"/>
                </a:solidFill>
                <a:latin typeface="Comic Sans MS"/>
              </a:rPr>
              <a:t>violet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d60093"/>
                </a:solidFill>
                <a:latin typeface="Comic Sans MS"/>
              </a:rPr>
              <a:t>rose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4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404040"/>
                </a:solidFill>
                <a:latin typeface="Comic Sans MS"/>
              </a:rPr>
              <a:t>gris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7:51:19Z</dcterms:modified>
  <cp:revision>22</cp:revision>
  <dc:subject/>
  <dc:title>John</dc:title>
</cp:coreProperties>
</file>