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F689-5FD2-4B5E-925A-D033182CF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86DF-E0D9-49B4-A2F5-23C1B149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9EFE-60B6-437B-BC8E-D18BDBDD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435E-11FA-498C-A6B8-87863CCF1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9CE7-1E2C-4494-B1EA-1B9817C5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B70E-73D4-4177-ACD9-3266B193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EB36-9B6D-4059-9138-0E02BAD0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3D52-4C09-42D3-9956-966C5325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AE15-9BE1-4C8B-9212-CA275DC0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AA52-7CBA-45AD-BBB0-57A4F187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F9FB-169B-4A64-8BB3-B2D977A9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1429-F655-49B5-9D0F-C8081FC4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A7B1-5DC6-4C3B-9564-6E46EC1DD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 francopho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75614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’Afr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56908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272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’Afrique du N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70563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’Amérique du n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611964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’Amérique du s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6985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’A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7043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’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9214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21:07:47Z</dcterms:created>
  <dc:creator>user</dc:creator>
  <dc:description/>
  <dc:language>en-US</dc:language>
  <cp:lastModifiedBy>Clare</cp:lastModifiedBy>
  <dcterms:modified xsi:type="dcterms:W3CDTF">2008-12-10T10:44:02Z</dcterms:modified>
  <cp:revision>4</cp:revision>
  <dc:subject/>
  <dc:title>La francophonie</dc:title>
</cp:coreProperties>
</file>