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1294-F6E7-4DED-BB55-FBB0D7ED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8EF-1FB4-4067-AD4D-C956FFE1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031-C460-4170-817A-182D722A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059-4A15-4633-B07C-DBB572D7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DE5-4AA0-4066-AE3F-52631A63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CCE-E984-487B-AD12-AA492731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0D1-D9E8-4113-BD89-44ADD870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82B1-E0BD-463C-A31D-9129A098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AF92-3F57-4323-9025-40DA6DCA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43D-8BE6-46D8-A7E0-4B660592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BED-A0DE-40CE-9ED0-DA9E5FE9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D95-61D1-4F8D-9CBD-C5AE7720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8E39-9751-439C-A2DD-F0EECDCE2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francopho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561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Af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272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Afrique du N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7056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’Amérique du n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6119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Amérique du s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6985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’A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704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’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21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21:07:47Z</dcterms:created>
  <dc:creator>user</dc:creator>
  <dc:description/>
  <dc:language>en-US</dc:language>
  <cp:lastModifiedBy>Clare</cp:lastModifiedBy>
  <dcterms:modified xsi:type="dcterms:W3CDTF">2008-12-10T10:44:02Z</dcterms:modified>
  <cp:revision>4</cp:revision>
  <dc:subject/>
  <dc:title>La francophonie</dc:title>
</cp:coreProperties>
</file>