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E92C-FE70-45DF-AA82-559DDC148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3D60-BBE1-4F5C-85B3-4C66A0DF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E456-31DC-41B4-A7CF-8839E23D9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943A-32AD-4B46-AE4F-D146E38B6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3CFC-2AD0-4215-8646-4F2861FD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EEF1-47C0-4B8C-9172-FE6016D6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8DD6-3D62-4737-8AE1-9D73A543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80F7-05E2-406A-BE0B-FF88EADA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A34A-454E-491E-A032-92522BA4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1C7D-3E5B-46F7-9FC2-9DD6EC69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18F4-5D02-42E5-87A7-5BE966C3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7AE1-C13A-45B8-B098-E018E509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5074-B45C-41D0-9EB5-BEAF22A23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s verbes modaux en franç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842472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s verbes modaux sont: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pouvo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voulo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                                            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devo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                                            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savoir: to know how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 les utilise avec un infinit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veux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ux magas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peux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ai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es devo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sa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parl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le franç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s parent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doiv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ravaill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C’est impossible d’avoir deux verbes au présent dans la m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ême partie de la phrase!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6491160"/>
            <a:ext cx="70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Rounded MT Bold"/>
              </a:rPr>
              <a:t>©MFL Sunderland 2008 MC </a:t>
            </a:r>
            <a:r>
              <a:rPr b="0" lang="de-DE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Au négatif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964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l faut mettre </a:t>
            </a:r>
            <a:r>
              <a:rPr b="1" lang="en-GB" sz="3200" spc="-1" strike="noStrike">
                <a:solidFill>
                  <a:srgbClr val="008000"/>
                </a:solidFill>
                <a:latin typeface="Arial"/>
              </a:rPr>
              <a:t>le négati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utour du verbe mod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n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ux </a:t>
            </a: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p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ort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e so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veut </a:t>
            </a: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plu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voya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en Austral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 famille </a:t>
            </a: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ait </a:t>
            </a: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jamai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ù al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 week-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 amis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ivent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ri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ppor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and ils viennent chez mo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Arial"/>
              </a:rPr>
              <a:t>On va pratiquer un peu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 want to go to the toil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 cannot do my homework, it is too difficul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y parents do not know how to speak Fren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Do you have to work this weeke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We want to go home ear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éline cannot reply to the e-ma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y friends and I know how to choose a good por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 have to sell my c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y parents want to speak to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We cannot have fun at colle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00:29:23Z</dcterms:created>
  <dc:creator>user</dc:creator>
  <dc:description/>
  <dc:language>en-US</dc:language>
  <cp:lastModifiedBy>Clare</cp:lastModifiedBy>
  <dcterms:modified xsi:type="dcterms:W3CDTF">2008-12-10T10:47:10Z</dcterms:modified>
  <cp:revision>3</cp:revision>
  <dc:subject/>
  <dc:title>Les verbes modaux en français</dc:title>
</cp:coreProperties>
</file>