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2DA-1325-4598-8C47-34EBE636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90F-0F99-4F94-BAD8-FE44E185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AEF-1670-4313-B96C-72A20665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B491-4E8E-4CBA-9F14-1F72CDC8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955-7129-420F-BAA8-46670ACE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1EB-A20C-4D5D-AF3D-7BF725D3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8BF-5F79-4290-9943-BC035D2A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722-1067-4791-A6DB-307B7ECA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B173-5D30-4768-807A-9D66668B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854-6C70-48CF-AD63-5109694E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7A6-5919-41BA-B046-D38391D3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1338-6586-42E3-965D-D6930B83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5E60-C98E-4D1D-AAE9-B79F36A85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verbes modaux en franç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4247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s verbes modaux sont: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pou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voul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                                          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de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                                          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savoir: to know how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les utilise avec un infinit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veux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ux maga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peu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ai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es de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sa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arl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 franç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s par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doiv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ravaill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’est impossible d’avoir deux verbes au présent dans la m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ême partie de la phrase!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6491160"/>
            <a:ext cx="70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Rounded MT Bold"/>
              </a:rPr>
              <a:t>©MFL Sunderland 2008 MC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Au négatif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 faut mettre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le négati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utour du verbe mod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n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ux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p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rt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 so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veut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pl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voya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en Austra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 famill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ait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jamai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ù al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 week-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 amis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ivent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r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or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nd ils viennent chez mo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On va pratiquer un peu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 want to go to the toil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 cannot do my homework, it is too difficul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y parents do not know how to speak Fre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o you have to work this week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e want to go home 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éline cannot reply to the e-m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y friends and I know how to choose a good por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 have to sell my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y parents want to speak 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e cannot have fun at colle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0:29:23Z</dcterms:created>
  <dc:creator>user</dc:creator>
  <dc:description/>
  <dc:language>en-US</dc:language>
  <cp:lastModifiedBy>Clare</cp:lastModifiedBy>
  <dcterms:modified xsi:type="dcterms:W3CDTF">2008-12-10T10:47:10Z</dcterms:modified>
  <cp:revision>3</cp:revision>
  <dc:subject/>
  <dc:title>Les verbes modaux en français</dc:title>
</cp:coreProperties>
</file>