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4AF-67AC-44FC-B959-E2036FF3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61F-23B1-4FC7-838F-A3D48D33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5FA-13B4-4A06-B05E-AF93A330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EE7-3B6B-4898-914C-FA7D5A75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DB0-9C9D-43B1-AA62-16B29FC0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EC7-2B03-4E31-A37A-72833E56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7E4-8C32-482A-9107-2FB58AF6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C88-8FF9-497C-A40D-4BBD4247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0B4-30FC-4D9F-8635-93CEB463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5DF-F882-49D3-9704-0E00A39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2A4-C8A9-41C5-9248-069522E4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EC9-A2A6-4A5E-BF44-6C910F59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5DE-877A-4A2F-B384-B4735EE4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</a:rPr>
              <a:t>Un test de vocabu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907920"/>
            <a:ext cx="8064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ne has the impression of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uffocating in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Life costs a lot in the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verything is expensive: petrol, health insurance, education, hou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re is a lot of heat in big c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Five rivers water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re are around 60 million French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 found out about the conc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France is more spacious than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olland, England and France colonised several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Mont Blanc is the highest mountain in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6453360"/>
            <a:ext cx="66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Les ré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8064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On a l’impression de suffoquer en Angleter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La vie co</a:t>
            </a: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ûte cher à l’Occid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Tout est cher: l’essence, l’assurance maladie, l’éducation, les maisons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Il y a beaucoup de chaleur dans les grandes vil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Cinq fleuves/rivières arrosent la Fra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Il y a à peu près soixante millions de França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Je me suis renseigné sur le conce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La France est plus spacieuse que l’Angleter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Les Pays-Bas, l’Angleterre et la France ont colonisé plusieurs pay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Verdana"/>
              </a:rPr>
              <a:t>Mont Blanc est la montagne est la montagne la plus haute en Fra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25:00Z</dcterms:created>
  <dc:creator>user</dc:creator>
  <dc:description/>
  <dc:language>en-US</dc:language>
  <cp:lastModifiedBy>Clare</cp:lastModifiedBy>
  <dcterms:modified xsi:type="dcterms:W3CDTF">2008-12-10T10:48:37Z</dcterms:modified>
  <cp:revision>3</cp:revision>
  <dc:subject/>
  <dc:title>Un test de vocabulaire</dc:title>
</cp:coreProperties>
</file>