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B4A9-3B39-43D5-8D24-EE7B0A15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E7E-E841-4731-B9DB-28D55297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1E5-A5EE-4621-9D8B-52766A03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D0E-7CE6-43EF-BDA7-7C4E9068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937-9AB7-465C-B1FE-2A6340EF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0E9-15BF-4801-89DB-3E38ADB7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5E6-DA84-4FBE-8397-232BFD80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0B1-67DE-4B25-B7C6-A03331C5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226-4910-4193-BBB3-A2E53A68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43BF-6EAE-4A27-97C4-CA8A8FAE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DA1-E439-442C-B4FD-4C58A580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9CA-C713-4D30-9536-F2312087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6545-049D-4B80-94EA-7DDD6EA9C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</a:rPr>
              <a:t>Un test de vocabul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907920"/>
            <a:ext cx="8064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One has the impression of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uffocating in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Life costs a lot in the 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verything is expensive: petrol, health insurance, education, hous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here is a lot of heat in big c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Five rivers water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here are around 60 million French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 found out about the conc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France is more spacious than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Holland, England and France colonised several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Mont Blanc is the highest mountain in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6453360"/>
            <a:ext cx="66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Rounded MT Bold"/>
              </a:rPr>
              <a:t>©MFL Sunderland 2008 MC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Les ré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8064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On a l’impression de suffoquer en Angleter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La vie co</a:t>
            </a: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ûte cher à l’Occid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Tout est cher: l’essence, l’assurance maladie, l’éducation, les maisons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Il y a beaucoup de chaleur dans les grandes vill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Cinq fleuves/rivières arrosent la Fra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Il y a à peu près soixante millions de França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Je me suis renseigné sur le concer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La France est plus spacieuse que l’Angleter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Les Pays-Bas, l’Angleterre et la France ont colonisé plusieurs pay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Mont Blanc est la montagne est la montagne la plus haute en Fra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25:00Z</dcterms:created>
  <dc:creator>user</dc:creator>
  <dc:description/>
  <dc:language>en-US</dc:language>
  <cp:lastModifiedBy>Clare</cp:lastModifiedBy>
  <dcterms:modified xsi:type="dcterms:W3CDTF">2008-12-10T10:48:37Z</dcterms:modified>
  <cp:revision>3</cp:revision>
  <dc:subject/>
  <dc:title>Un test de vocabulaire</dc:title>
</cp:coreProperties>
</file>