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A211-6251-4F13-9C6D-4AC2B4D58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CAC5-9345-42B8-B369-85E5EB20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5CE7-0F2E-408D-BA07-08551D171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4D4C-025E-4109-B6EA-A9C8E4447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49DF-DC4D-4EED-9731-487439FE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5DD3-D5C1-4EA1-BDA7-FDC86214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63C7-5EF2-4D8C-B4D9-15374BB91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F97B-2874-483F-9FB3-E06DB3A0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0D2C-209A-4333-A99D-EFAF1530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D6BE-71D7-4485-82BA-775B68B5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40F5-90D1-4766-8DE8-C66893D2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14C2-EAEE-4A98-A483-7179DFBD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4A4D-6738-4B87-B32D-FB3D52E9E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Un test sur le subjonct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24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 want you to get out of my 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efore she became hooked on drugs, she was really happ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e regret that the train is arriving late to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 want to pass the IB so that I can go to univer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t seems that my parents are angry with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lthough the weather is bad, I shall go to the bea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t is the best book that I have ever r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e is afraid that his wife will lose her jo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t is the only plane which has arrived on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y would prefer that we do not go shopp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00360" y="6643800"/>
            <a:ext cx="644364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Rounded MT Bold"/>
              </a:rPr>
              <a:t>©MFL Sunderland 2008 MC </a:t>
            </a:r>
            <a:r>
              <a:rPr b="0" lang="de-DE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Les répon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24000" y="907560"/>
            <a:ext cx="842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0000"/>
                </a:solidFill>
                <a:latin typeface="Arial"/>
              </a:rPr>
              <a:t>Je veux que tu </a:t>
            </a:r>
            <a:r>
              <a:rPr b="1" lang="fr-FR" sz="2600" spc="-1" strike="noStrike" u="sng">
                <a:solidFill>
                  <a:srgbClr val="ff0000"/>
                </a:solidFill>
                <a:uFillTx/>
                <a:latin typeface="Arial"/>
              </a:rPr>
              <a:t>sortes</a:t>
            </a:r>
            <a:r>
              <a:rPr b="1" lang="fr-FR" sz="2600" spc="-1" strike="noStrike">
                <a:solidFill>
                  <a:srgbClr val="ff0000"/>
                </a:solidFill>
                <a:latin typeface="Arial"/>
              </a:rPr>
              <a:t> de ma chamb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0000"/>
                </a:solidFill>
                <a:latin typeface="Arial"/>
              </a:rPr>
              <a:t>Avant qu’elle ne </a:t>
            </a:r>
            <a:r>
              <a:rPr b="1" lang="fr-FR" sz="2600" spc="-1" strike="noStrike" u="sng">
                <a:solidFill>
                  <a:srgbClr val="ff0000"/>
                </a:solidFill>
                <a:uFillTx/>
                <a:latin typeface="Arial"/>
              </a:rPr>
              <a:t>soit</a:t>
            </a:r>
            <a:r>
              <a:rPr b="1" lang="fr-FR" sz="2600" spc="-1" strike="noStrike">
                <a:solidFill>
                  <a:srgbClr val="ff0000"/>
                </a:solidFill>
                <a:latin typeface="Arial"/>
              </a:rPr>
              <a:t> devenue/ne devienne accro à la drogue, elle était vraiment heureuse/conten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0000"/>
                </a:solidFill>
                <a:latin typeface="Arial"/>
              </a:rPr>
              <a:t>Nous regrettons que le train </a:t>
            </a:r>
            <a:r>
              <a:rPr b="1" lang="fr-FR" sz="2600" spc="-1" strike="noStrike" u="sng">
                <a:solidFill>
                  <a:srgbClr val="ff0000"/>
                </a:solidFill>
                <a:uFillTx/>
                <a:latin typeface="Arial"/>
              </a:rPr>
              <a:t>arrive</a:t>
            </a:r>
            <a:r>
              <a:rPr b="1" lang="fr-FR" sz="2600" spc="-1" strike="noStrike">
                <a:solidFill>
                  <a:srgbClr val="ff0000"/>
                </a:solidFill>
                <a:latin typeface="Arial"/>
              </a:rPr>
              <a:t> en retard aujourd’hu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0000"/>
                </a:solidFill>
                <a:latin typeface="Arial"/>
              </a:rPr>
              <a:t>Je veux réussir au baccalauréat international pour que je </a:t>
            </a:r>
            <a:r>
              <a:rPr b="1" lang="fr-FR" sz="2600" spc="-1" strike="noStrike" u="sng">
                <a:solidFill>
                  <a:srgbClr val="ff0000"/>
                </a:solidFill>
                <a:uFillTx/>
                <a:latin typeface="Arial"/>
              </a:rPr>
              <a:t>puisse</a:t>
            </a:r>
            <a:r>
              <a:rPr b="1" lang="fr-FR" sz="2600" spc="-1" strike="noStrike">
                <a:solidFill>
                  <a:srgbClr val="ff0000"/>
                </a:solidFill>
                <a:latin typeface="Arial"/>
              </a:rPr>
              <a:t> aller à l’université/à la fa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0000"/>
                </a:solidFill>
                <a:latin typeface="Arial"/>
              </a:rPr>
              <a:t>Il semble que mes parents se </a:t>
            </a:r>
            <a:r>
              <a:rPr b="1" lang="fr-FR" sz="2600" spc="-1" strike="noStrike" u="sng">
                <a:solidFill>
                  <a:srgbClr val="ff0000"/>
                </a:solidFill>
                <a:uFillTx/>
                <a:latin typeface="Arial"/>
              </a:rPr>
              <a:t>soient</a:t>
            </a:r>
            <a:r>
              <a:rPr b="1" lang="fr-FR" sz="2600" spc="-1" strike="noStrike">
                <a:solidFill>
                  <a:srgbClr val="ff0000"/>
                </a:solidFill>
                <a:latin typeface="Arial"/>
              </a:rPr>
              <a:t> f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âchés avec moi</a:t>
            </a:r>
            <a:r>
              <a:rPr b="1" lang="fr-FR" sz="2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0000"/>
                </a:solidFill>
                <a:latin typeface="Arial"/>
              </a:rPr>
              <a:t>Bien qu’il </a:t>
            </a:r>
            <a:r>
              <a:rPr b="1" lang="fr-FR" sz="2600" spc="-1" strike="noStrike" u="sng">
                <a:solidFill>
                  <a:srgbClr val="ff0000"/>
                </a:solidFill>
                <a:uFillTx/>
                <a:latin typeface="Arial"/>
              </a:rPr>
              <a:t>fasse</a:t>
            </a:r>
            <a:r>
              <a:rPr b="1" lang="fr-FR" sz="2600" spc="-1" strike="noStrike">
                <a:solidFill>
                  <a:srgbClr val="ff0000"/>
                </a:solidFill>
                <a:latin typeface="Arial"/>
              </a:rPr>
              <a:t> mauvais, j’irai à la plag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0000"/>
                </a:solidFill>
                <a:latin typeface="Arial"/>
              </a:rPr>
              <a:t>C’est le meilleur livre que j’</a:t>
            </a:r>
            <a:r>
              <a:rPr b="1" lang="fr-FR" sz="2600" spc="-1" strike="noStrike" u="sng">
                <a:solidFill>
                  <a:srgbClr val="ff0000"/>
                </a:solidFill>
                <a:uFillTx/>
                <a:latin typeface="Arial"/>
              </a:rPr>
              <a:t>aie</a:t>
            </a:r>
            <a:r>
              <a:rPr b="1" lang="fr-FR" sz="2600" spc="-1" strike="noStrike">
                <a:solidFill>
                  <a:srgbClr val="ff0000"/>
                </a:solidFill>
                <a:latin typeface="Arial"/>
              </a:rPr>
              <a:t> jamais l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0000"/>
                </a:solidFill>
                <a:latin typeface="Arial"/>
              </a:rPr>
              <a:t>Il a peur que sa femme </a:t>
            </a:r>
            <a:r>
              <a:rPr b="1" lang="fr-FR" sz="2600" spc="-1" strike="noStrike" u="sng">
                <a:solidFill>
                  <a:srgbClr val="ff0000"/>
                </a:solidFill>
                <a:uFillTx/>
                <a:latin typeface="Arial"/>
              </a:rPr>
              <a:t>ne perde</a:t>
            </a:r>
            <a:r>
              <a:rPr b="1" lang="fr-FR" sz="2600" spc="-1" strike="noStrike">
                <a:solidFill>
                  <a:srgbClr val="ff0000"/>
                </a:solidFill>
                <a:latin typeface="Arial"/>
              </a:rPr>
              <a:t> son travai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0000"/>
                </a:solidFill>
                <a:latin typeface="Arial"/>
              </a:rPr>
              <a:t>C’est le seul avion qui </a:t>
            </a:r>
            <a:r>
              <a:rPr b="1" lang="fr-FR" sz="2600" spc="-1" strike="noStrike" u="sng">
                <a:solidFill>
                  <a:srgbClr val="ff0000"/>
                </a:solidFill>
                <a:uFillTx/>
                <a:latin typeface="Arial"/>
              </a:rPr>
              <a:t>soit</a:t>
            </a:r>
            <a:r>
              <a:rPr b="1" lang="fr-FR" sz="2600" spc="-1" strike="noStrike">
                <a:solidFill>
                  <a:srgbClr val="ff0000"/>
                </a:solidFill>
                <a:latin typeface="Arial"/>
              </a:rPr>
              <a:t> arrivé à l’heu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0000"/>
                </a:solidFill>
                <a:latin typeface="Arial"/>
              </a:rPr>
              <a:t>Ils préféreraient que nous ne </a:t>
            </a:r>
            <a:r>
              <a:rPr b="1" lang="fr-FR" sz="2600" spc="-1" strike="noStrike" u="sng">
                <a:solidFill>
                  <a:srgbClr val="ff0000"/>
                </a:solidFill>
                <a:uFillTx/>
                <a:latin typeface="Arial"/>
              </a:rPr>
              <a:t>fassions</a:t>
            </a:r>
            <a:r>
              <a:rPr b="1" lang="fr-FR" sz="2600" spc="-1" strike="noStrike">
                <a:solidFill>
                  <a:srgbClr val="ff0000"/>
                </a:solidFill>
                <a:latin typeface="Arial"/>
              </a:rPr>
              <a:t> pas de shopp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23:40:58Z</dcterms:created>
  <dc:creator>user</dc:creator>
  <dc:description/>
  <dc:language>en-US</dc:language>
  <cp:lastModifiedBy>Clare</cp:lastModifiedBy>
  <dcterms:modified xsi:type="dcterms:W3CDTF">2008-12-10T10:49:30Z</dcterms:modified>
  <cp:revision>5</cp:revision>
  <dc:subject/>
  <dc:title>Un test sur le subjonctif</dc:title>
</cp:coreProperties>
</file>