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f047dix.wav" ContentType="audio/x-wav"/>
  <Override PartName="/ppt/media/f046neuf.wav" ContentType="audio/x-wav"/>
  <Override PartName="/ppt/media/f038un.wav" ContentType="audio/x-wav"/>
  <Override PartName="/ppt/media/f045huit.wav" ContentType="audio/x-wav"/>
  <Override PartName="/ppt/media/f042cinq.wav" ContentType="audio/x-wav"/>
  <Override PartName="/ppt/media/f044sept.wav" ContentType="audio/x-wav"/>
  <Override PartName="/ppt/media/f043six.wav" ContentType="audio/x-wav"/>
  <Override PartName="/ppt/media/f041qtr.wav" ContentType="audio/x-wav"/>
  <Override PartName="/ppt/media/f039deux.wav" ContentType="audio/x-wav"/>
  <Override PartName="/ppt/media/f040trs.wav" ContentType="audio/x-wav"/>
  <Override PartName="/ppt/media/image1.png" ContentType="image/png"/>
  <Override PartName="/ppt/media/f009rv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ED46-FC82-41E8-B869-A0A24F50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32E3-07B2-4870-82CD-B54D0C2F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0B30-FF17-487F-A95D-CF22F34E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EF89-4C8A-4A1E-99BE-61F68327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F5E9-2C70-43B6-8EBE-EE8434FD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E82E-E86B-4BE4-85BA-EB398D5B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B643-FA4A-4A99-9914-AB5FB7BA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2066-73F7-4503-84AF-199EDCC5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4F7F-6E2D-4EBF-ABD6-0587221D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EDAB-C476-426B-ABDD-A9FBCE18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E9BC-1B3C-440E-B30F-FE3D80FE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BBB9-FC8E-4C4C-97CD-139EA59C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322D-A209-4A99-8A17-A615939F7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f047dix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f038un.wav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f009rv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f046neuf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f045huit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f044sept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f043six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f042cinq.wav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f041qtr.wav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f040trs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f039deux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10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Vous av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1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Vous av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1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Vous av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9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125360"/>
            <a:ext cx="8137440" cy="37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e72c07"/>
                    </a:gs>
                  </a:gsLst>
                  <a:lin ang="5400000"/>
                </a:gradFill>
                <a:latin typeface="Copperplate Gothic Bold"/>
              </a:rPr>
              <a:t>STOP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e72c07"/>
                  </a:gs>
                </a:gsLst>
                <a:lin ang="5400000"/>
              </a:gradFill>
              <a:latin typeface="Copperplate Gothic Bold"/>
              <a:ea typeface="Copperplate Gothic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9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Vous av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8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Vous av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7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Vous av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6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Vous av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5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Vous av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4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Vous av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3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Vous av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2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Vous av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9:41:14Z</dcterms:created>
  <dc:creator>CSeccombe</dc:creator>
  <dc:description/>
  <dc:language>en-US</dc:language>
  <cp:lastModifiedBy>PSeccombe</cp:lastModifiedBy>
  <dcterms:modified xsi:type="dcterms:W3CDTF">2004-10-25T10:28:04Z</dcterms:modified>
  <cp:revision>11</cp:revision>
  <dc:subject/>
  <dc:title>Slide 1</dc:title>
</cp:coreProperties>
</file>