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f047dix.wav" ContentType="audio/x-wav"/>
  <Override PartName="/ppt/media/f046neuf.wav" ContentType="audio/x-wav"/>
  <Override PartName="/ppt/media/f038un.wav" ContentType="audio/x-wav"/>
  <Override PartName="/ppt/media/f045huit.wav" ContentType="audio/x-wav"/>
  <Override PartName="/ppt/media/f042cinq.wav" ContentType="audio/x-wav"/>
  <Override PartName="/ppt/media/f044sept.wav" ContentType="audio/x-wav"/>
  <Override PartName="/ppt/media/f043six.wav" ContentType="audio/x-wav"/>
  <Override PartName="/ppt/media/f041qtr.wav" ContentType="audio/x-wav"/>
  <Override PartName="/ppt/media/f039deux.wav" ContentType="audio/x-wav"/>
  <Override PartName="/ppt/media/f040trs.wav" ContentType="audio/x-wav"/>
  <Override PartName="/ppt/media/image1.png" ContentType="image/png"/>
  <Override PartName="/ppt/media/f009rv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D868-EDDA-454C-B22D-42A05CA8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53F4-75B7-4A49-B23A-C7CD0EEE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15F4-2245-4C68-8490-7F04207D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3CF1-2A83-4AD7-8047-A1C8C21B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ABA-8B91-4F8F-83A3-5D82CEC9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C1C6-BD76-4C5F-BEF8-2754828B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D73D-646A-40DE-B0ED-26F60287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0DD1-C83D-4B60-AC6E-AB2767B7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3A1-DF0D-4D8E-BF3A-C98E8804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26D-67D2-4563-A7A0-F77A5FBD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29B-E882-49DF-8B9F-6E9D3EF4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2321-5B47-4B6B-9723-D53DE4FA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C399-425E-42CE-882A-156468B7E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f047dix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f038un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f009rv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f046neuf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f045huit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f044sept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f043six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f042cinq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f041qtr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f040trs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f039deux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10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Vous av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Vous av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Vous av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9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25360"/>
            <a:ext cx="8137440" cy="37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e72c07"/>
                    </a:gs>
                  </a:gsLst>
                  <a:lin ang="5400000"/>
                </a:gradFill>
                <a:latin typeface="Copperplate Gothic Bold"/>
              </a:rPr>
              <a:t>STOP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e72c07"/>
                  </a:gs>
                </a:gsLst>
                <a:lin ang="5400000"/>
              </a:gradFill>
              <a:latin typeface="Copperplate Gothic Bold"/>
              <a:ea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9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Vous av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8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Vous av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7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Vous av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6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Vous av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5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Vous av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4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Vous av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3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Vous av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Vous av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9:41:14Z</dcterms:created>
  <dc:creator>CSeccombe</dc:creator>
  <dc:description/>
  <dc:language>en-US</dc:language>
  <cp:lastModifiedBy>PSeccombe</cp:lastModifiedBy>
  <dcterms:modified xsi:type="dcterms:W3CDTF">2004-10-25T10:28:04Z</dcterms:modified>
  <cp:revision>11</cp:revision>
  <dc:subject/>
  <dc:title>Slide 1</dc:title>
</cp:coreProperties>
</file>