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8B5-EA04-4ACA-81EA-8A6AF7C6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AB9-A7D0-4BCA-BA1B-EF3574F6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225-4DC8-408B-A658-0C2D13D3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E36-9823-4AE5-B167-CF9EE63D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114-1404-4ED3-8A38-E121CBD2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61C-7C21-4397-B3E5-DA4CF972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B22-4A54-4946-98C3-1B3D1718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524-9DB9-4106-BD21-3028B54D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B62-9BB0-4E99-BB13-C1FE045B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027-5A30-42A2-BA19-C7D74BD7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912-5100-44B4-B488-44EBC37C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3D6-6AB7-4635-9394-40EA8998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5981-07B6-4248-B4D4-F6D40D9425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tschool.eduweb.co.uk/cherwell/ml/french.gif&amp;imgrefurl=http://atschool.eduweb.co.uk/cherwell/ml/french.html&amp;usg=__2WioDCbbU930R6UMPHp8H_PPwzk=&amp;h=548&amp;w=728&amp;sz=5&amp;hl=en&amp;start=6&amp;um=1&amp;tbnid=hOGKGNw9PeDuJM:&amp;tbnh=106&amp;tbnw=141&amp;prev=/images%3Fq%3Dfrench%26hl%3Den%26lr%3D%26rlz%3D1G1ACAW_ENUK326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131640" y="1628280"/>
            <a:ext cx="1297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 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 d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3 tr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4 qua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5 cin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6 s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7 s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8 h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9 ne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 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1 o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2 dou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3 tre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4 quator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5 qui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6 se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7 dix-s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8 dix-h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9 dix-ne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720" y="1628280"/>
            <a:ext cx="201600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0 ving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1 vingt-et-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2 vingt-d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3 vingt-tr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4 vingt-qua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5 vingt-cin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6 vingt-s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7 vingt-s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8 vingt-h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9 vingt-ne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30 t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40 quar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50 cinqu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60 soix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70 soixante-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80 quatre-ving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90 quatre-vingt-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0 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00 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0280"/>
            <a:ext cx="1763640" cy="1081080"/>
          </a:xfrm>
          <a:prstGeom prst="wedgeEllipseCallout">
            <a:avLst>
              <a:gd name="adj1" fmla="val -43337"/>
              <a:gd name="adj2" fmla="val 6189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Bonjour! - 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alut! - 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260280"/>
            <a:ext cx="2374920" cy="1081080"/>
          </a:xfrm>
          <a:prstGeom prst="wedgeEllipseCallout">
            <a:avLst>
              <a:gd name="adj1" fmla="val -37032"/>
              <a:gd name="adj2" fmla="val 5968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Ça va? – how are yo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Ç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 va – I’m 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260280"/>
            <a:ext cx="2519280" cy="1081080"/>
          </a:xfrm>
          <a:prstGeom prst="wedgeEllipseCallout">
            <a:avLst>
              <a:gd name="adj1" fmla="val -36768"/>
              <a:gd name="adj2" fmla="val 6189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’il vous plaît –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erci - thank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26028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u revoir – b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À bientôt – see you s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6237360"/>
            <a:ext cx="338472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Vrai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true                  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Oui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- y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Faux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– false                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Non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-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6237360"/>
            <a:ext cx="2879640" cy="431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Écouter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to listen    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Lire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to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Écrire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to write  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Parler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to s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170028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Qu’est-ce que c’est en anglais? –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what is it in Englis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306864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Je ne comprends pas –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I don’t underst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4000" y="429264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Répetez, s’il vous plaît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please repea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04000" y="5589720"/>
            <a:ext cx="2340000" cy="1081080"/>
          </a:xfrm>
          <a:prstGeom prst="wedgeEllipseCallout">
            <a:avLst>
              <a:gd name="adj1" fmla="val -51222"/>
              <a:gd name="adj2" fmla="val 5513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J’ai fini!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I’ve finishe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05000"/>
            <a:ext cx="2879640" cy="129528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8720 h 1295280"/>
              <a:gd name="textAreaBottom" fmla="*/ 1006560 h 129528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Comment t’appelles t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What’s your na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Je m’appell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My name i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0280"/>
            <a:ext cx="2879640" cy="129564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9080 h 1295640"/>
              <a:gd name="textAreaBottom" fmla="*/ 1006920 h 129564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Quel âge as-t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old are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J’ai…..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’m …..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2879640" cy="129564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9080 h 1295640"/>
              <a:gd name="textAreaBottom" fmla="*/ 1006920 h 129564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Tu aimes…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Do you like…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Oui, j’aime…../Non, je n’aime p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Yes, I like…/No, I don’t lik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557360"/>
            <a:ext cx="273528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JE PARLE FRANÇAIS!!!</a:t>
            </a:r>
            <a:endParaRPr b="0" lang="en-US" sz="4000" spc="1" strike="noStrike">
              <a:ln w="9360">
                <a:solidFill>
                  <a:srgbClr val="00008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773360"/>
            <a:ext cx="50472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76720" y="4699080"/>
            <a:ext cx="3024000" cy="2158920"/>
          </a:xfrm>
          <a:prstGeom prst="cloudCallout">
            <a:avLst>
              <a:gd name="adj1" fmla="val 70263"/>
              <a:gd name="adj2" fmla="val -2831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génial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bien –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amusant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-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intéressant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- inter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nul –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rubb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débil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stup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mauvais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–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ennuyeux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–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38472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Le présent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the presen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suis – I 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– I h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me – I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dore – I 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déteste -  I h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vais – I 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fais – I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joue – I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regarde – I w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écoute – I li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porte – I w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mange – I 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bois – I dr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71280" y="189000"/>
            <a:ext cx="2737080" cy="4525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Le passé composé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the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 étais – I w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vais – I h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aimé – I li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adoré – I l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détesté -  I h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suis allé(e) – I w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fait– I 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joué – I 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regardé – I wat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écouté – I listen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porté – I w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mangé – I 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bu – I d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189000"/>
            <a:ext cx="252108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Je –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Tu – you (inform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l – 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lle – s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On – we/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ous – 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Vous -  you (formal/plur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ls – they (boy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lles – they (gir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2637000"/>
            <a:ext cx="2089080" cy="20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Quand? Wh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Qui? Wh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Quel? Whi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Où? Whe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Pourquoi? 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Comment? 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Combien? How man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5589720"/>
            <a:ext cx="1944720" cy="1079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et –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ou –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parce que - bec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mais – b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15280" y="4869000"/>
            <a:ext cx="1728720" cy="1008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c’est – i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c’était – it w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l y a – there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797360"/>
            <a:ext cx="93672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 – 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b – b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 – 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d –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 – u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f – e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g – j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h – 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 – 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4797360"/>
            <a:ext cx="100800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j – j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k – 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l- 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 – e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 – e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o – 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 – p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q – c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 –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797360"/>
            <a:ext cx="115272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s – 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t – t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u – 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v – v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w – dooblu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v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x – i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y – eeg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z - 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28000" y="5877000"/>
            <a:ext cx="1116000" cy="9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i –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n/ma/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- 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264000" y="2097000"/>
            <a:ext cx="4608360" cy="7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lundi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Mon.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mardi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– Tues.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mercredi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Wed.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jeudi –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Th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vendredi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Fri.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samedi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Sat.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dimanch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la semain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week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le week-end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weekend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un mois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month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un jour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day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une anné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-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7:58:10Z</dcterms:created>
  <dc:creator>Lynne</dc:creator>
  <dc:description/>
  <dc:language>en-US</dc:language>
  <cp:lastModifiedBy>Clare Seccombe</cp:lastModifiedBy>
  <dcterms:modified xsi:type="dcterms:W3CDTF">2014-04-25T12:41:28Z</dcterms:modified>
  <cp:revision>5</cp:revision>
  <dc:subject/>
  <dc:title>Slide 1</dc:title>
</cp:coreProperties>
</file>