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7927-324F-478D-A16D-C9D8C6B55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D72D-04F3-428F-91F5-1DBC387C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69A9-93AD-4159-B042-F5888B869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57FD-E245-4805-8ABE-E2A21E436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1E7E-8858-4F8B-9EB0-D03BEA79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914C-B9BD-4F64-877F-FF98B266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2EA3-0691-4455-BCD5-A756DEBB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9527-9EB1-42E2-B8C8-2E3BD63D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2467-FC23-43EE-96E3-A4B6774B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351F-572D-4499-993B-4B3DB54B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0A7C-E70A-49BB-A6A3-A6E80952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9D3D-64AC-4DC7-9A36-FF46ED50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A59F-A1E8-4E86-9D94-CE1682C9633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atschool.eduweb.co.uk/cherwell/ml/french.gif&amp;imgrefurl=http://atschool.eduweb.co.uk/cherwell/ml/french.html&amp;usg=__2WioDCbbU930R6UMPHp8H_PPwzk=&amp;h=548&amp;w=728&amp;sz=5&amp;hl=en&amp;start=6&amp;um=1&amp;tbnid=hOGKGNw9PeDuJM:&amp;tbnh=106&amp;tbnw=141&amp;prev=/images%3Fq%3Dfrench%26hl%3Den%26lr%3D%26rlz%3D1G1ACAW_ENUK326%26um%3D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131640" y="1628280"/>
            <a:ext cx="129708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 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2 de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3 tro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4 qua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5 cin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6 s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7 s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8 h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9 neu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0 d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1 on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2 dou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3 tre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4 quator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5 quin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6 se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7 dix-s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8 dix-h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9 dix-neu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00720" y="1628280"/>
            <a:ext cx="201600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20 ving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21 vingt-et-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22 vingt-de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23 vingt-tro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24 vingt-qua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25 vingt-cin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26 vingt-s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27 vingt-s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28 vingt-h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29 vingt-neu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30 t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40 quar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50 cinqu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60 soix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70 soixante-d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80 quatre-ving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90 quatre-vingt-d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00 c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000 mi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0280"/>
            <a:ext cx="1763640" cy="1081080"/>
          </a:xfrm>
          <a:prstGeom prst="wedgeEllipseCallout">
            <a:avLst>
              <a:gd name="adj1" fmla="val -43337"/>
              <a:gd name="adj2" fmla="val 61893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Bonjour! - he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Salut! - h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35280" y="260280"/>
            <a:ext cx="2374920" cy="1081080"/>
          </a:xfrm>
          <a:prstGeom prst="wedgeEllipseCallout">
            <a:avLst>
              <a:gd name="adj1" fmla="val -37032"/>
              <a:gd name="adj2" fmla="val 5968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Ça va? – how are yo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Ç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a va – I’m f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84720" y="260280"/>
            <a:ext cx="2519280" cy="1081080"/>
          </a:xfrm>
          <a:prstGeom prst="wedgeEllipseCallout">
            <a:avLst>
              <a:gd name="adj1" fmla="val -36768"/>
              <a:gd name="adj2" fmla="val 61893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S’il vous plaît – p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Merci - thankyo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04000" y="260280"/>
            <a:ext cx="2340000" cy="1081080"/>
          </a:xfrm>
          <a:prstGeom prst="wedgeEllipseCallout">
            <a:avLst>
              <a:gd name="adj1" fmla="val -49523"/>
              <a:gd name="adj2" fmla="val 53083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Au revoir – by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À bientôt – see you so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6237360"/>
            <a:ext cx="3384720" cy="431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Vrai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 – true                  </a:t>
            </a: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Oui 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- ye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Faux 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– false                </a:t>
            </a: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Non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 -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08360" y="6237360"/>
            <a:ext cx="2879640" cy="431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Écouter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 – to listen    </a:t>
            </a: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Lire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 – to 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Écrire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 – to write  </a:t>
            </a: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Parler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 – to spe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04000" y="1700280"/>
            <a:ext cx="2340000" cy="1081080"/>
          </a:xfrm>
          <a:prstGeom prst="wedgeEllipseCallout">
            <a:avLst>
              <a:gd name="adj1" fmla="val -49523"/>
              <a:gd name="adj2" fmla="val 53083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Qu’est-ce que c’est en anglais? –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 what is it in English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04000" y="3068640"/>
            <a:ext cx="2340000" cy="1081080"/>
          </a:xfrm>
          <a:prstGeom prst="wedgeEllipseCallout">
            <a:avLst>
              <a:gd name="adj1" fmla="val -49523"/>
              <a:gd name="adj2" fmla="val 53083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Je ne comprends pas –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 I don’t underst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04000" y="4292640"/>
            <a:ext cx="2340000" cy="1081080"/>
          </a:xfrm>
          <a:prstGeom prst="wedgeEllipseCallout">
            <a:avLst>
              <a:gd name="adj1" fmla="val -49523"/>
              <a:gd name="adj2" fmla="val 53083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Répetez, s’il vous plaît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 – please repeat th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04000" y="5589720"/>
            <a:ext cx="2340000" cy="1081080"/>
          </a:xfrm>
          <a:prstGeom prst="wedgeEllipseCallout">
            <a:avLst>
              <a:gd name="adj1" fmla="val -51222"/>
              <a:gd name="adj2" fmla="val 5513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J’ai fini!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 – I’ve finishe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205000"/>
            <a:ext cx="2879640" cy="1295280"/>
          </a:xfrm>
          <a:custGeom>
            <a:avLst/>
            <a:gdLst>
              <a:gd name="textAreaLeft" fmla="*/ 428400 w 2879640"/>
              <a:gd name="textAreaRight" fmla="*/ 3308400 w 2879640"/>
              <a:gd name="textAreaTop" fmla="*/ 288720 h 1295280"/>
              <a:gd name="textAreaBottom" fmla="*/ 1006560 h 1295280"/>
            </a:gdLst>
            <a:ahLst/>
            <a:rect l="textAreaLeft" t="textAreaTop" r="textAreaRight" b="textAreaBottom"/>
            <a:pathLst>
              <a:path w="21600" h="21600">
                <a:moveTo>
                  <a:pt x="3214" y="2409"/>
                </a:moveTo>
                <a:cubicBezTo>
                  <a:pt x="8807" y="-6125"/>
                  <a:pt x="16007" y="10943"/>
                  <a:pt x="21600" y="2409"/>
                </a:cubicBezTo>
                <a:lnTo>
                  <a:pt x="18386" y="19191"/>
                </a:lnTo>
                <a:cubicBezTo>
                  <a:pt x="12793" y="27725"/>
                  <a:pt x="5593" y="10657"/>
                  <a:pt x="0" y="19191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Comment t’appelles t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What’s your na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Je m’appelle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My name i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500280"/>
            <a:ext cx="2879640" cy="1295640"/>
          </a:xfrm>
          <a:custGeom>
            <a:avLst/>
            <a:gdLst>
              <a:gd name="textAreaLeft" fmla="*/ 428400 w 2879640"/>
              <a:gd name="textAreaRight" fmla="*/ 3308400 w 2879640"/>
              <a:gd name="textAreaTop" fmla="*/ 289080 h 1295640"/>
              <a:gd name="textAreaBottom" fmla="*/ 1006920 h 1295640"/>
            </a:gdLst>
            <a:ahLst/>
            <a:rect l="textAreaLeft" t="textAreaTop" r="textAreaRight" b="textAreaBottom"/>
            <a:pathLst>
              <a:path w="21600" h="21600">
                <a:moveTo>
                  <a:pt x="3214" y="2409"/>
                </a:moveTo>
                <a:cubicBezTo>
                  <a:pt x="8807" y="-6125"/>
                  <a:pt x="16007" y="10943"/>
                  <a:pt x="21600" y="2409"/>
                </a:cubicBezTo>
                <a:lnTo>
                  <a:pt x="18386" y="19191"/>
                </a:lnTo>
                <a:cubicBezTo>
                  <a:pt x="12793" y="27725"/>
                  <a:pt x="5593" y="10657"/>
                  <a:pt x="0" y="1919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Quel âge as-t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How old are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J’ai…..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I’m ….. Years 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724280"/>
            <a:ext cx="2879640" cy="1295640"/>
          </a:xfrm>
          <a:custGeom>
            <a:avLst/>
            <a:gdLst>
              <a:gd name="textAreaLeft" fmla="*/ 428400 w 2879640"/>
              <a:gd name="textAreaRight" fmla="*/ 3308400 w 2879640"/>
              <a:gd name="textAreaTop" fmla="*/ 289080 h 1295640"/>
              <a:gd name="textAreaBottom" fmla="*/ 1006920 h 1295640"/>
            </a:gdLst>
            <a:ahLst/>
            <a:rect l="textAreaLeft" t="textAreaTop" r="textAreaRight" b="textAreaBottom"/>
            <a:pathLst>
              <a:path w="21600" h="21600">
                <a:moveTo>
                  <a:pt x="3214" y="2409"/>
                </a:moveTo>
                <a:cubicBezTo>
                  <a:pt x="8807" y="-6125"/>
                  <a:pt x="16007" y="10943"/>
                  <a:pt x="21600" y="2409"/>
                </a:cubicBezTo>
                <a:lnTo>
                  <a:pt x="18386" y="19191"/>
                </a:lnTo>
                <a:cubicBezTo>
                  <a:pt x="12793" y="27725"/>
                  <a:pt x="5593" y="10657"/>
                  <a:pt x="0" y="19191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Tu aimes…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Do you like…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Oui, j’aime…../Non, je n’aime pa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Yes, I like…/No, I don’t lik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9280" y="1557360"/>
            <a:ext cx="2735280" cy="10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JE PARLE FRANÇAIS!!!</a:t>
            </a:r>
            <a:endParaRPr b="0" lang="en-US" sz="4000" spc="1" strike="noStrike">
              <a:ln w="9360">
                <a:solidFill>
                  <a:srgbClr val="00008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773360"/>
            <a:ext cx="504720" cy="3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76720" y="4699080"/>
            <a:ext cx="3024000" cy="2158920"/>
          </a:xfrm>
          <a:prstGeom prst="cloudCallout">
            <a:avLst>
              <a:gd name="adj1" fmla="val 70263"/>
              <a:gd name="adj2" fmla="val -2831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génial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 – g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bien –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amusant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 - f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intéressant 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- inter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nul –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 rubb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débile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 – stupi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mauvais 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– b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ennuyeux 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– b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3384720" cy="4525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ffffff"/>
                </a:solidFill>
                <a:uFillTx/>
                <a:latin typeface="Comic Sans MS"/>
              </a:rPr>
              <a:t>Le présent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ffffff"/>
                </a:solidFill>
                <a:uFillTx/>
                <a:latin typeface="Comic Sans MS"/>
              </a:rPr>
              <a:t>the present t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Je suis – I 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J’ai – I h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J’aime – I li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J’adore – I l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Je déteste -  I h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Je vais – I 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Je fais – I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Je joue – I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Je regarde – I w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J’écoute – I lis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Je porte – I w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Je mange – I 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Je bois – I dr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71280" y="189000"/>
            <a:ext cx="2737080" cy="45259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ffffff"/>
                </a:solidFill>
                <a:uFillTx/>
                <a:latin typeface="Comic Sans MS"/>
              </a:rPr>
              <a:t>Le passé composé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ffffff"/>
                </a:solidFill>
                <a:uFillTx/>
                <a:latin typeface="Comic Sans MS"/>
              </a:rPr>
              <a:t>the past t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J’ étais – I w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J’avais – I h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J’ai aimé – I lik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J’ai adoré – I l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J’ai détesté -  I h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Je suis allé(e) – I w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J’ai fait– I d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J’ai joué – I play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J’ai regardé – I watc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J’ai écouté – I listen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J’ai porté – I w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J’ai mangé – I 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J’ai bu – I dr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80000" y="189000"/>
            <a:ext cx="252108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Je –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Tu – you (inform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Il – 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Elle – s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On – we/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Nous – 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Vous -  you (formal/plur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Ils – they (boy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Elles – they (girl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96000" y="2637000"/>
            <a:ext cx="2089080" cy="2087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Quand? Wh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Qui? Who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Quel? Which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Où? Wher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Pourquoi? Wh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Comment? How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Combien? How man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2000" y="5589720"/>
            <a:ext cx="1944720" cy="1079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et –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ou –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parce que - beca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mais – b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15280" y="4869000"/>
            <a:ext cx="1728720" cy="10080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c’est – it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c’était – it w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il y a – there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4797360"/>
            <a:ext cx="936720" cy="187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 – 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b – b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c – 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d –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e – u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f – e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g – j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h – a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i – 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16000" y="4797360"/>
            <a:ext cx="1008000" cy="187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j – j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k – c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l- 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m – e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n – e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o – o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p – p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q – co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r –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24000" y="4797360"/>
            <a:ext cx="1152720" cy="187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s – 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t – t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u – o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v – v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w – dooblu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v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x – i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y – eegr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z - 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028000" y="5877000"/>
            <a:ext cx="1116000" cy="981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moi –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mon/ma/m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- 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6264000" y="2097000"/>
            <a:ext cx="4608360" cy="7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lundi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 – Mon.   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mardi 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– Tues.   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mercredi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 – Wed.  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jeudi –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 Th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vendredi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 Fri. 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samedi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 – Sat. 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dimanche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 –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la semaine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 – week  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le week-end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 – weekend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un mois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 – month 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un jour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 – day  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</a:rPr>
              <a:t>une année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 -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17:58:10Z</dcterms:created>
  <dc:creator>Lynne</dc:creator>
  <dc:description/>
  <dc:language>en-US</dc:language>
  <cp:lastModifiedBy>Clare Seccombe</cp:lastModifiedBy>
  <dcterms:modified xsi:type="dcterms:W3CDTF">2014-04-25T12:41:28Z</dcterms:modified>
  <cp:revision>5</cp:revision>
  <dc:subject/>
  <dc:title>Slide 1</dc:title>
</cp:coreProperties>
</file>