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43E-171B-4783-9024-987738A1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17A-567B-48DC-9C8C-EF9AEFC0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6D2-98A5-4FBD-B0EE-1605F7AC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511-F8D1-422A-86B3-B5D64461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538-2E08-49DF-B3DA-9E432E93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911-861B-42D3-80A3-E9A171FE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502-1324-4DED-987A-BFA5480C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177-10B4-490A-B7AC-E99E4E7A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026-BE79-4B6D-B494-0699FC4C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E6B-D3D8-4617-8DDE-CF717E1B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1F5-1B27-4C0A-81D9-FCA318B0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975-5CB8-4E78-90D2-7D2E77B1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F96E-B578-42AC-B8D8-29976F4E8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1150920" cy="115236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189000"/>
            <a:ext cx="1295280" cy="1224000"/>
          </a:xfrm>
          <a:prstGeom prst="smileyFace">
            <a:avLst>
              <a:gd name="adj" fmla="val 9282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96000" y="189000"/>
            <a:ext cx="1297080" cy="1152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445000"/>
            <a:ext cx="1224000" cy="10810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57360"/>
            <a:ext cx="932508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. Jaune est à droite de M. Rose.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. Vert est à gauche de M. Rose.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. Gris est à côté de M. Blanc.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. Blanc est en face de M. Rose.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. Rose est entre M. Vert et M.Jau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5516640"/>
            <a:ext cx="1224000" cy="1079280"/>
          </a:xfrm>
          <a:prstGeom prst="smileyFace">
            <a:avLst>
              <a:gd name="adj" fmla="val 928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1:09:52Z</dcterms:created>
  <dc:creator>CSeccombe</dc:creator>
  <dc:description/>
  <dc:language>en-US</dc:language>
  <cp:lastModifiedBy>CSeccombe</cp:lastModifiedBy>
  <dcterms:modified xsi:type="dcterms:W3CDTF">2008-01-11T13:55:12Z</dcterms:modified>
  <cp:revision>2</cp:revision>
  <dc:subject/>
  <dc:title>Slide 1</dc:title>
</cp:coreProperties>
</file>