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94E-B45A-47EF-B616-1FFAB4ED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AE4-0143-4F7F-91C9-DC8FFAC7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C56-59BB-4122-95E7-01EBE874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5D2-591F-402F-B5C9-D1F13A00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E85-22D5-4938-ACE5-F64D761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829-D8DE-4106-9CCD-44B95AD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ECA-07D6-4AD4-8E85-0A684038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32A-7FEF-474F-BF63-304E92C8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344-440F-4069-93C0-2E603FD4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193-A360-4393-8142-F1BA676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4AE-6F97-46C2-9A9C-B09773C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D09-2EAD-451E-98B4-80DE3BE9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21E1-D67F-4007-887C-757196FD5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1150920" cy="1152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189000"/>
            <a:ext cx="1295280" cy="1224000"/>
          </a:xfrm>
          <a:prstGeom prst="smileyFace">
            <a:avLst>
              <a:gd name="adj" fmla="val 9282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189000"/>
            <a:ext cx="1297080" cy="1152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445000"/>
            <a:ext cx="1224000" cy="1081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57360"/>
            <a:ext cx="93250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Jaune est à droite de M. Rose.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Vert est à gauche de M. Rose.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Gris est à côté de M. Blanc.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Blanc est en face de M. Rose.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Rose est entre M. Vert et M.Jau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516640"/>
            <a:ext cx="1224000" cy="107928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09:52Z</dcterms:created>
  <dc:creator>CSeccombe</dc:creator>
  <dc:description/>
  <dc:language>en-US</dc:language>
  <cp:lastModifiedBy>CSeccombe</cp:lastModifiedBy>
  <dcterms:modified xsi:type="dcterms:W3CDTF">2008-01-11T13:55:12Z</dcterms:modified>
  <cp:revision>2</cp:revision>
  <dc:subject/>
  <dc:title>Slide 1</dc:title>
</cp:coreProperties>
</file>