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D837-E2B3-4F93-B1B7-77CB8173E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3005-4344-498F-B5C5-35EDE452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E6F8-63EB-4CE2-A1C3-06E117B8D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0035-5873-497A-B604-8D4FF8C27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F479-8A81-4E52-BC2E-E736E63B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78AB-1B81-4F03-98F3-09D2EBAC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9CDD-8516-44C2-9725-E716700B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4460-E95E-4F9F-9E56-89C63ABE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3EE5-8424-4A0F-A4D0-EFC7912C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8BB7-22C9-41A5-8367-87369FC5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2D55-4855-458B-9B42-EEE3E48C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3652-9077-40FC-AD8D-10D1255E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2ED1-4F2F-45B6-9C78-267D9C596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hyperlink" Target="http://www.sunderlandschools.org/mfl-sunderland" TargetMode="External"/><Relationship Id="rId1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Corrigez les erreu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484360" y="981000"/>
            <a:ext cx="1584360" cy="736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435640" y="981000"/>
            <a:ext cx="1081080" cy="757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7451640" y="981000"/>
            <a:ext cx="1131840" cy="790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95280" y="2637000"/>
            <a:ext cx="1195560" cy="1223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2556000" y="3141720"/>
            <a:ext cx="1512720" cy="557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148360" y="2781360"/>
            <a:ext cx="669960" cy="100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7093080" y="2637000"/>
            <a:ext cx="1137960" cy="1137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50920" y="4869000"/>
            <a:ext cx="1252440" cy="1141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2556000" y="5013360"/>
            <a:ext cx="880920" cy="814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>
            <a:off x="5003640" y="4797360"/>
            <a:ext cx="889200" cy="1081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>
            <a:off x="7164360" y="4724280"/>
            <a:ext cx="1301760" cy="1068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184464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u ban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11280" y="184464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u choco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16360" y="184464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es abric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04000" y="184464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u beu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933720"/>
            <a:ext cx="23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e la jamb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24000" y="393372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u bift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27640" y="393372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 c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6720" y="393372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e po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6021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u ca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79640" y="602136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 la fra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84720" y="602136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e l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588000" y="602136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u choufl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652464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2008 CS </a:t>
            </a:r>
            <a:r>
              <a:rPr b="0" lang="en-GB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3"/>
              </a:rPr>
              <a:t>http://www.sunderlandschools.org/mfl-sunderla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9:17:18Z</dcterms:created>
  <dc:creator>Clare</dc:creator>
  <dc:description/>
  <dc:language>en-US</dc:language>
  <cp:lastModifiedBy>Clare</cp:lastModifiedBy>
  <dcterms:modified xsi:type="dcterms:W3CDTF">2008-11-03T12:52:06Z</dcterms:modified>
  <cp:revision>4</cp:revision>
  <dc:subject/>
  <dc:title>Slide 1</dc:title>
</cp:coreProperties>
</file>