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F76-3CFC-4B49-BE83-6E092099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F07-C73B-40E3-BCC0-6B0191B4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3CB-9FDE-4EE2-A61A-331A3305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68A-2F56-4D89-86DB-B949E13D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5E9-1BDE-4F70-A125-AAB6ECDC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FDB-55F2-445A-BCD0-9E3D961E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2F9-976F-47BD-8E6F-FCD6A4B8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2A8-D8CB-4DC9-9C4D-350787DE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553-B170-4466-8A90-45486A86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96C-FB4B-4F0A-9956-8839DED1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0F9-6C6A-4F9A-93A0-9DA5318A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75E-F33A-42A7-B1F5-72F35643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B423-ABD1-4FDD-9A0A-39334A2B0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hyperlink" Target="http://www.sunderlandschools.org/mfl-sunderland" TargetMode="External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Corrigez les erre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84360" y="981000"/>
            <a:ext cx="1584360" cy="73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35640" y="981000"/>
            <a:ext cx="1081080" cy="757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451640" y="981000"/>
            <a:ext cx="1131840" cy="790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95280" y="2637000"/>
            <a:ext cx="1195560" cy="122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56000" y="3141720"/>
            <a:ext cx="1512720" cy="55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148360" y="2781360"/>
            <a:ext cx="669960" cy="100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7093080" y="2637000"/>
            <a:ext cx="1137960" cy="1137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50920" y="4869000"/>
            <a:ext cx="1252440" cy="1141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556000" y="5013360"/>
            <a:ext cx="880920" cy="81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5003640" y="4797360"/>
            <a:ext cx="889200" cy="10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7164360" y="4724280"/>
            <a:ext cx="1301760" cy="106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84464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u ban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184464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184464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s abric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184464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u beu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933720"/>
            <a:ext cx="23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 la jam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393372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u bift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393372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393372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 po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602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 c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60213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 fra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60213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 l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88000" y="60213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u chouf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52464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3"/>
              </a:rPr>
              <a:t>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9:17:18Z</dcterms:created>
  <dc:creator>Clare</dc:creator>
  <dc:description/>
  <dc:language>en-US</dc:language>
  <cp:lastModifiedBy>Clare</cp:lastModifiedBy>
  <dcterms:modified xsi:type="dcterms:W3CDTF">2008-11-03T12:52:06Z</dcterms:modified>
  <cp:revision>4</cp:revision>
  <dc:subject/>
  <dc:title>Slide 1</dc:title>
</cp:coreProperties>
</file>