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59928-A3EC-4A80-802A-0F7A68C0E6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9D8C3-8E37-47CB-B77C-53E1F20B7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5730D-E300-4329-BFCF-D6C03465D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60ECE-B404-416A-89A3-C78A105F5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A6CF7-76B3-4FFD-87C4-199235982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47943-4F8F-41A8-9A56-703DF6BEA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7F9-834F-4B9F-8E81-3ECFEF86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9AC-1D27-4EA0-9D81-D8FBF37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CF8-2160-40E2-A68B-DCA3493D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A80-E555-4742-82A6-A59DF9AD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95A-7574-4753-B0C2-C7EC820A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756-26D3-4F2E-BC14-D36B8292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77A-EBF8-49E3-A211-37E311DC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A9F-B744-4316-8082-5227C329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66C-4E3B-4CE9-BF8A-51E41C3E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706-100B-47E9-A3E6-79CF073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774-C9A2-46BD-9552-67801A88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A9B-1F6E-4950-91D3-EDBEDDB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86588-4907-4E84-9A4C-B518E5E085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3278F-2224-4618-BA81-B353092FD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Logowebsite.tif"/>
          <p:cNvPicPr/>
          <p:nvPr/>
        </p:nvPicPr>
        <p:blipFill>
          <a:blip r:embed="rId2"/>
          <a:stretch/>
        </p:blipFill>
        <p:spPr>
          <a:xfrm>
            <a:off x="7161120" y="6122880"/>
            <a:ext cx="152568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88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Mots Importa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22120" y="2644920"/>
            <a:ext cx="6902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mory tricks for remembering important linking words in 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330200" y="4071960"/>
            <a:ext cx="98136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952720" y="4071960"/>
            <a:ext cx="195408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215968"/>
                </a:solidFill>
                <a:latin typeface="Arial"/>
              </a:rPr>
              <a:t>mê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551560" y="4071960"/>
            <a:ext cx="235116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Arial"/>
              </a:rPr>
              <a:t>cha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825560" y="5119560"/>
            <a:ext cx="25099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souve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924440" y="5127480"/>
            <a:ext cx="24559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enda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4760" y="612720"/>
            <a:ext cx="315900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si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if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Placeholder 9" descr="p62.1-si-if.tif"/>
          <p:cNvPicPr/>
          <p:nvPr/>
        </p:nvPicPr>
        <p:blipFill>
          <a:blip r:embed="rId1"/>
          <a:srcRect l="-2771" t="0" r="-2771" b="0"/>
          <a:stretch/>
        </p:blipFill>
        <p:spPr>
          <a:xfrm>
            <a:off x="4329000" y="219240"/>
            <a:ext cx="4413240" cy="3309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43000" y="3959280"/>
            <a:ext cx="656928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Both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and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i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have two letters and one in common. However, if you write the letter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by hand, it can look like an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and in French the word starts with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3" descr="aide.tif"/>
          <p:cNvPicPr/>
          <p:nvPr/>
        </p:nvPicPr>
        <p:blipFill>
          <a:blip r:embed="rId2"/>
          <a:stretch/>
        </p:blipFill>
        <p:spPr>
          <a:xfrm>
            <a:off x="735120" y="3476520"/>
            <a:ext cx="1307880" cy="130644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7"/>
          <p:cNvCxnSpPr/>
          <p:nvPr/>
        </p:nvCxnSpPr>
        <p:spPr>
          <a:xfrm flipV="1">
            <a:off x="5830920" y="1541160"/>
            <a:ext cx="668880" cy="6199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4760" y="612720"/>
            <a:ext cx="315900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même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sam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3" descr="aide.tif"/>
          <p:cNvPicPr/>
          <p:nvPr/>
        </p:nvPicPr>
        <p:blipFill>
          <a:blip r:embed="rId1"/>
          <a:stretch/>
        </p:blipFill>
        <p:spPr>
          <a:xfrm>
            <a:off x="735120" y="3476520"/>
            <a:ext cx="130788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62.5-1.tif"/>
          <p:cNvPicPr/>
          <p:nvPr/>
        </p:nvPicPr>
        <p:blipFill>
          <a:blip r:embed="rId2"/>
          <a:stretch/>
        </p:blipFill>
        <p:spPr>
          <a:xfrm>
            <a:off x="4029120" y="612720"/>
            <a:ext cx="4103640" cy="2706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2416320" y="3592440"/>
            <a:ext cx="584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ê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both contain four letters and the last two 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are repeated twice in 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ê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. We remember 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ê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means 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becaus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letters are repeated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4760" y="612720"/>
            <a:ext cx="315900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chaque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eac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2640" y="4454280"/>
            <a:ext cx="6327720" cy="16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All the letters in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eac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are in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ch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qu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aide.tif"/>
          <p:cNvPicPr/>
          <p:nvPr/>
        </p:nvPicPr>
        <p:blipFill>
          <a:blip r:embed="rId1"/>
          <a:stretch/>
        </p:blipFill>
        <p:spPr>
          <a:xfrm>
            <a:off x="735120" y="3971880"/>
            <a:ext cx="1307880" cy="130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p69.1l-chaque-each.tif"/>
          <p:cNvPicPr/>
          <p:nvPr/>
        </p:nvPicPr>
        <p:blipFill>
          <a:blip r:embed="rId2"/>
          <a:stretch/>
        </p:blipFill>
        <p:spPr>
          <a:xfrm>
            <a:off x="3894120" y="939960"/>
            <a:ext cx="44928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4760" y="612720"/>
            <a:ext cx="349236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pendant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dur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3000" y="2655720"/>
            <a:ext cx="48103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In the word ‘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du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rin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there is ‘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rin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The French do not use the equivalent word however; they use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pendan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which is another piece of jewelle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3" descr="aide.tif"/>
          <p:cNvPicPr/>
          <p:nvPr/>
        </p:nvPicPr>
        <p:blipFill>
          <a:blip r:embed="rId1"/>
          <a:stretch/>
        </p:blipFill>
        <p:spPr>
          <a:xfrm>
            <a:off x="735120" y="2374920"/>
            <a:ext cx="1307880" cy="1306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p62.3-ring.tif"/>
          <p:cNvPicPr/>
          <p:nvPr/>
        </p:nvPicPr>
        <p:blipFill>
          <a:blip r:embed="rId2"/>
          <a:stretch/>
        </p:blipFill>
        <p:spPr>
          <a:xfrm>
            <a:off x="6853320" y="2374920"/>
            <a:ext cx="1069920" cy="93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p62.3-pendant.tif"/>
          <p:cNvPicPr/>
          <p:nvPr/>
        </p:nvPicPr>
        <p:blipFill>
          <a:blip r:embed="rId3"/>
          <a:stretch/>
        </p:blipFill>
        <p:spPr>
          <a:xfrm>
            <a:off x="6853320" y="4245120"/>
            <a:ext cx="17301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4760" y="612720"/>
            <a:ext cx="349236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souvent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ofte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2640" y="3661920"/>
            <a:ext cx="6327720" cy="23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When you write the letter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by hand, it can look like an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and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 is the first letter of the French word ‘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ouven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’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ouv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en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 has the letters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 in common with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o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f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alibri"/>
              </a:rPr>
              <a:t>te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3" descr="aide.tif"/>
          <p:cNvPicPr/>
          <p:nvPr/>
        </p:nvPicPr>
        <p:blipFill>
          <a:blip r:embed="rId1"/>
          <a:stretch/>
        </p:blipFill>
        <p:spPr>
          <a:xfrm>
            <a:off x="735120" y="3476520"/>
            <a:ext cx="1307880" cy="1306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p62.7-souvent-often.tif"/>
          <p:cNvPicPr/>
          <p:nvPr/>
        </p:nvPicPr>
        <p:blipFill>
          <a:blip r:embed="rId2"/>
          <a:stretch/>
        </p:blipFill>
        <p:spPr>
          <a:xfrm>
            <a:off x="3746520" y="679320"/>
            <a:ext cx="4786200" cy="258300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12"/>
          <p:cNvCxnSpPr/>
          <p:nvPr/>
        </p:nvCxnSpPr>
        <p:spPr>
          <a:xfrm flipV="1">
            <a:off x="4227480" y="1847160"/>
            <a:ext cx="705240" cy="470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9" name="Straight Arrow Connector 15"/>
          <p:cNvCxnSpPr/>
          <p:nvPr/>
        </p:nvCxnSpPr>
        <p:spPr>
          <a:xfrm flipV="1">
            <a:off x="5365800" y="1968120"/>
            <a:ext cx="2691360" cy="349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0" name="Straight Arrow Connector 17"/>
          <p:cNvCxnSpPr/>
          <p:nvPr/>
        </p:nvCxnSpPr>
        <p:spPr>
          <a:xfrm flipV="1">
            <a:off x="6635880" y="1847160"/>
            <a:ext cx="900720" cy="61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" name="Straight Arrow Connector 20"/>
          <p:cNvCxnSpPr/>
          <p:nvPr/>
        </p:nvCxnSpPr>
        <p:spPr>
          <a:xfrm flipV="1">
            <a:off x="5920920" y="1847160"/>
            <a:ext cx="832680" cy="470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6:58:51Z</dcterms:created>
  <dc:creator>Priscilla Hannaford</dc:creator>
  <dc:description/>
  <dc:language>en-US</dc:language>
  <cp:lastModifiedBy>Clare</cp:lastModifiedBy>
  <dcterms:modified xsi:type="dcterms:W3CDTF">2013-05-14T09:03:12Z</dcterms:modified>
  <cp:revision>17</cp:revision>
  <dc:subject/>
  <dc:title>Les transports</dc:title>
</cp:coreProperties>
</file>