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9FEE2-A594-40E9-A28E-B5869B1092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0C51B-7EA5-4D66-AED2-3CC24CD623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A937D-7C25-4700-AB17-256475B5F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1293F-59B1-429F-ACD1-E22A1ECF1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99D62-9DDD-41C1-822C-DEAAE85B5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A955F-9534-4325-91BE-BF4D4BDF1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23B8-3BA5-4271-86A0-ED04A905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22C9-2AD7-4091-A71F-67C1780A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547-DB6D-4A83-93FE-573DE11C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E5A-53E4-4EBF-B37A-677849AB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901-EE50-44F2-9FA3-0020EDA3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1B6-B7AF-4815-8F65-8B35E51E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5397-8A37-4E14-9A03-43E460AE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4B1-9611-4346-8827-632068CE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72A-1D9A-4AF2-9EB4-C08B0E68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766C-D1A4-4F25-8289-3C0DA696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AD21-749D-4269-A75C-E0A89B92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212-FBC7-4CB1-8164-201FCE6E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60DAFE-65A4-4AE6-8437-12CAE4BB2D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FCC55-8D11-490A-88F6-7EA0EC945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Logowebsite.tif"/>
          <p:cNvPicPr/>
          <p:nvPr/>
        </p:nvPicPr>
        <p:blipFill>
          <a:blip r:embed="rId2"/>
          <a:stretch/>
        </p:blipFill>
        <p:spPr>
          <a:xfrm>
            <a:off x="7161120" y="6122880"/>
            <a:ext cx="152568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88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Mots Importa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22120" y="2644920"/>
            <a:ext cx="6902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mory tricks for remembering important linking words in Fr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330200" y="4071960"/>
            <a:ext cx="98136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952720" y="4071960"/>
            <a:ext cx="195408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215968"/>
                </a:solidFill>
                <a:latin typeface="Arial"/>
              </a:rPr>
              <a:t>mê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551560" y="4071960"/>
            <a:ext cx="235116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Arial"/>
              </a:rPr>
              <a:t>chaq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825560" y="5119560"/>
            <a:ext cx="250992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souve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924440" y="5127480"/>
            <a:ext cx="245592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enda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4760" y="612720"/>
            <a:ext cx="3159000" cy="15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si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60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if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Placeholder 9" descr="p62.1-si-if.tif"/>
          <p:cNvPicPr/>
          <p:nvPr/>
        </p:nvPicPr>
        <p:blipFill>
          <a:blip r:embed="rId1"/>
          <a:srcRect l="-2771" t="0" r="-2771" b="0"/>
          <a:stretch/>
        </p:blipFill>
        <p:spPr>
          <a:xfrm>
            <a:off x="4329000" y="219240"/>
            <a:ext cx="4413240" cy="3309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43000" y="3959280"/>
            <a:ext cx="656928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Both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si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 and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if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 have two letters and one in common. However, if you write the letter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f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 by hand, it can look like an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 and in French the word starts with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3" descr="aide.tif"/>
          <p:cNvPicPr/>
          <p:nvPr/>
        </p:nvPicPr>
        <p:blipFill>
          <a:blip r:embed="rId2"/>
          <a:stretch/>
        </p:blipFill>
        <p:spPr>
          <a:xfrm>
            <a:off x="735120" y="3476520"/>
            <a:ext cx="1307880" cy="1306440"/>
          </a:xfrm>
          <a:prstGeom prst="rect">
            <a:avLst/>
          </a:prstGeom>
          <a:ln w="0">
            <a:noFill/>
          </a:ln>
        </p:spPr>
      </p:pic>
      <p:cxnSp>
        <p:nvCxnSpPr>
          <p:cNvPr id="60" name="Straight Arrow Connector 7"/>
          <p:cNvCxnSpPr/>
          <p:nvPr/>
        </p:nvCxnSpPr>
        <p:spPr>
          <a:xfrm flipV="1">
            <a:off x="5830920" y="1541160"/>
            <a:ext cx="668880" cy="61992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4760" y="612720"/>
            <a:ext cx="3159000" cy="15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même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60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sam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3" descr="aide.tif"/>
          <p:cNvPicPr/>
          <p:nvPr/>
        </p:nvPicPr>
        <p:blipFill>
          <a:blip r:embed="rId1"/>
          <a:stretch/>
        </p:blipFill>
        <p:spPr>
          <a:xfrm>
            <a:off x="735120" y="3476520"/>
            <a:ext cx="1307880" cy="130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p62.5-1.tif"/>
          <p:cNvPicPr/>
          <p:nvPr/>
        </p:nvPicPr>
        <p:blipFill>
          <a:blip r:embed="rId2"/>
          <a:stretch/>
        </p:blipFill>
        <p:spPr>
          <a:xfrm>
            <a:off x="4029120" y="612720"/>
            <a:ext cx="4103640" cy="2706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2416320" y="3592440"/>
            <a:ext cx="584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ê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both contain four letters and the last two ‘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are repeated twice in ‘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ê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. We remember ‘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ê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means ‘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because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letters are repeated tw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4760" y="612720"/>
            <a:ext cx="3159000" cy="15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chaque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60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each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2640" y="4454280"/>
            <a:ext cx="6327720" cy="16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All the letters in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eac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 are in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ch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alibri"/>
              </a:rPr>
              <a:t>qu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3" descr="aide.tif"/>
          <p:cNvPicPr/>
          <p:nvPr/>
        </p:nvPicPr>
        <p:blipFill>
          <a:blip r:embed="rId1"/>
          <a:stretch/>
        </p:blipFill>
        <p:spPr>
          <a:xfrm>
            <a:off x="735120" y="3971880"/>
            <a:ext cx="1307880" cy="1306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p69.1l-chaque-each.tif"/>
          <p:cNvPicPr/>
          <p:nvPr/>
        </p:nvPicPr>
        <p:blipFill>
          <a:blip r:embed="rId2"/>
          <a:stretch/>
        </p:blipFill>
        <p:spPr>
          <a:xfrm>
            <a:off x="3894120" y="939960"/>
            <a:ext cx="449280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4760" y="612720"/>
            <a:ext cx="3492360" cy="15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pendant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60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durin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43000" y="2655720"/>
            <a:ext cx="48103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In the word ‘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du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alibri"/>
              </a:rPr>
              <a:t>ring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 there is ‘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alibri"/>
              </a:rPr>
              <a:t>ring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The French do not use the equivalent word however; they use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pendan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 which is another piece of jeweller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3" descr="aide.tif"/>
          <p:cNvPicPr/>
          <p:nvPr/>
        </p:nvPicPr>
        <p:blipFill>
          <a:blip r:embed="rId1"/>
          <a:stretch/>
        </p:blipFill>
        <p:spPr>
          <a:xfrm>
            <a:off x="735120" y="2374920"/>
            <a:ext cx="1307880" cy="1306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p62.3-ring.tif"/>
          <p:cNvPicPr/>
          <p:nvPr/>
        </p:nvPicPr>
        <p:blipFill>
          <a:blip r:embed="rId2"/>
          <a:stretch/>
        </p:blipFill>
        <p:spPr>
          <a:xfrm>
            <a:off x="6853320" y="2374920"/>
            <a:ext cx="1069920" cy="936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p62.3-pendant.tif"/>
          <p:cNvPicPr/>
          <p:nvPr/>
        </p:nvPicPr>
        <p:blipFill>
          <a:blip r:embed="rId3"/>
          <a:stretch/>
        </p:blipFill>
        <p:spPr>
          <a:xfrm>
            <a:off x="6853320" y="4245120"/>
            <a:ext cx="17301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4760" y="612720"/>
            <a:ext cx="3492360" cy="15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souvent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60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ofte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2640" y="3661920"/>
            <a:ext cx="6327720" cy="23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When you write the letter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f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 by hand, it can look like an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 and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 is the first letter of the French word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souven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S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alibri"/>
              </a:rPr>
              <a:t>ouv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en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 has the letters 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o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 in common with 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o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alibri"/>
              </a:rPr>
              <a:t>f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te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3" descr="aide.tif"/>
          <p:cNvPicPr/>
          <p:nvPr/>
        </p:nvPicPr>
        <p:blipFill>
          <a:blip r:embed="rId1"/>
          <a:stretch/>
        </p:blipFill>
        <p:spPr>
          <a:xfrm>
            <a:off x="735120" y="3476520"/>
            <a:ext cx="1307880" cy="1306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p62.7-souvent-often.tif"/>
          <p:cNvPicPr/>
          <p:nvPr/>
        </p:nvPicPr>
        <p:blipFill>
          <a:blip r:embed="rId2"/>
          <a:stretch/>
        </p:blipFill>
        <p:spPr>
          <a:xfrm>
            <a:off x="3746520" y="679320"/>
            <a:ext cx="4786200" cy="258300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12"/>
          <p:cNvCxnSpPr/>
          <p:nvPr/>
        </p:nvCxnSpPr>
        <p:spPr>
          <a:xfrm flipV="1">
            <a:off x="4227480" y="1847160"/>
            <a:ext cx="705240" cy="470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9" name="Straight Arrow Connector 15"/>
          <p:cNvCxnSpPr/>
          <p:nvPr/>
        </p:nvCxnSpPr>
        <p:spPr>
          <a:xfrm flipV="1">
            <a:off x="5365800" y="1968120"/>
            <a:ext cx="2691360" cy="349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0" name="Straight Arrow Connector 17"/>
          <p:cNvCxnSpPr/>
          <p:nvPr/>
        </p:nvCxnSpPr>
        <p:spPr>
          <a:xfrm flipV="1">
            <a:off x="6635880" y="1847160"/>
            <a:ext cx="900720" cy="616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1" name="Straight Arrow Connector 20"/>
          <p:cNvCxnSpPr/>
          <p:nvPr/>
        </p:nvCxnSpPr>
        <p:spPr>
          <a:xfrm flipV="1">
            <a:off x="5920920" y="1847160"/>
            <a:ext cx="832680" cy="470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6:58:51Z</dcterms:created>
  <dc:creator>Priscilla Hannaford</dc:creator>
  <dc:description/>
  <dc:language>en-US</dc:language>
  <cp:lastModifiedBy>Clare</cp:lastModifiedBy>
  <dcterms:modified xsi:type="dcterms:W3CDTF">2013-05-14T09:03:12Z</dcterms:modified>
  <cp:revision>17</cp:revision>
  <dc:subject/>
  <dc:title>Les transports</dc:title>
</cp:coreProperties>
</file>