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01F5-F7B6-4F3A-9364-131ED2C19B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5CD2-A589-4CEA-ACC4-60E65729CEC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058C-086F-44DB-9B65-C6F853BAF60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CE37-AD63-4B84-B62C-C6C7E92E4C6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E9EA-7B20-456E-BE85-3B4D5410079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9451-53B5-4084-ABEC-9273C3B6ABEC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56F2-452F-4921-918F-594299A2137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92E7-40EC-46BC-B7B9-C38AF3A0E6C8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3251-5475-4717-9D9C-75DC4F501910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B17-DBF6-44F0-B8CC-967B580D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7F9-F624-4E4C-B85D-FCF55603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62EA2-D2B5-44C8-8B78-E5CCADF4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9A6AE-357E-44B4-97C4-A688BEAA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3D7A8-EAD6-44F9-AEBF-A4F8E010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82C8E-0BA1-47AE-AAA1-97B227FC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CF884-7402-4448-A8D1-8F632EEC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2DCAE-DD64-4070-A751-A2BAF23E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77360-0023-49EA-B22E-65D877DD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422F0-D03F-4075-9BF2-6D3126FB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AEDDB-0705-475D-8578-05193F8C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AA1-827F-4BF7-9C02-5D928DE8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A12-AFF4-4350-8852-3190A25E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E10B-5AC1-4959-83C7-FFB1DD75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F095-BC0A-4804-AE57-ED6ADCC6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F2FD-5C1A-4296-A1DB-6C0FEF04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6564-6EF4-4296-959B-A210DE20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693E-B4BE-4F2B-8626-6D863B96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E4EE-5021-46AB-A644-DE5AF86E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8A45-D17A-4337-BD6B-B00D355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F09-40D9-4249-8D1C-45201F26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CB63-C3FF-4ADD-BFB9-40A26695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F4AD-F7D5-49BB-BAA4-F5342D68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EA00-DA4E-41D3-8050-13B35756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7731-4918-40B3-AAA8-B0FDB672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9840-3835-477C-9716-164FC583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F39C-2F03-4E4D-BCB2-1F42B58B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3F21-3E34-42ED-9714-47134D07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3BF1-1ED3-4F0F-84AA-1CE8BCED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FA4DA-C220-4895-8D49-E5FDF97C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04F44-24A6-47D1-AC98-C9183A5B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438-BB88-4A81-B7EB-256E6150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AB361-1F9A-412F-84B3-8656791A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152B9-0C2C-4C98-8220-65AFC00E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DB9C-E4ED-42B6-947E-CC0CB36C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90BE2-D6E8-49D7-95EB-CE83E764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E583-A49C-416F-8993-A1CD73AC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C3BD0-5349-409E-A359-3EA665FE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07A75-E0CE-46A6-855D-6899CE19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A890F-A6DB-4849-B113-823FEFC5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4C650-F49A-4548-A9BA-B0E6D98B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F58C9-0F37-45DB-A002-D64AEAEF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992-92C6-4F30-A45D-CAB29F9F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EDDF5-542B-423D-B3EF-4AA64CD2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C8A2-6623-45ED-8639-1F9F5810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00D8B-D2DF-4612-971D-0F48C66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6BC03-5361-432C-B8E5-5AE98346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2FE6A-F0D5-4221-A87B-A79678E4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59B6E-C3CB-4BB7-871E-74810252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3DB3-63BF-470A-B8FA-611881B7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8243A-06C2-4AB9-B698-4A818C5F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2B0E-6EEF-4578-A8A0-DC471D54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7BEB0-2CD9-4407-8040-3E330D9F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DFE-A3EF-4C42-81A4-825FA0DE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FECC4-AF03-45B3-A13D-25111D34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11402-EDB1-438A-9557-8571CBD0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0A79A-0A48-4D3B-BB74-97C5AAC8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60A19-19C9-4C1A-85A6-00291851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084C0-F7B4-4DEE-A476-EC9A73C6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050E7-8902-46F3-9C73-F7D7536D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25F79-4123-4A91-80F9-898A82BF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7C0F9-8567-4448-BE05-AE9A31B4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B7C0-6192-4FD7-B209-B507AB65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7CDA0-CD4F-4AD5-8075-845F2712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040-4E46-447E-947C-96D31004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7989A-B02D-4AD4-9CB6-269E2123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26342-453C-444A-9211-48EA1621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A4752-9623-4303-A199-44512062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25FB5-6806-4909-8B6A-8F83414D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9A6B4-9CEA-43C1-A47A-55069A78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61138-12FF-45BD-B675-10451E26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D6C98-5CEA-4869-9DD2-5C2B1D45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DF9E6-5CF7-4C87-B19F-2E4721DD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34523-58AF-4820-86A3-1446ACCF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14A3A-35D8-4CD8-A33A-0374F5D8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9D9-0C27-4445-8F3B-E61FE9DE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9B93E-1BA4-4025-AF5A-D054F7A8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4E452-4CB5-4F65-A41E-D0C5B837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E99ED-AF5F-4C21-A08E-CD60B243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62007-2607-4394-B71B-5F15EC1B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0825F-36DB-487D-92B5-6533598B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B93E6-14E2-427D-819A-C1941CA7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871C1-6CAB-416A-946A-9AA39F08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E284C-89C6-4F6A-B483-91A768C3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A6F16-09CC-4135-B111-D0E6BC9F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A024B-4BA3-4D71-BC74-2DB11522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893-FBCF-4A2C-879A-C153BE46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76148-1CB0-44CE-AE65-D85AF76A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CD3A3-EB4D-46A6-B296-D3174D94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4B00B-C1B1-4BD3-A2BE-8B1CB553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97F2-B615-4BC9-94AC-5C5BED43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BE610-1078-4233-BAAB-326F462E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6A7B3-77AB-40F8-BE66-2A1A5E58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65D8A-79B5-4A3F-ABED-6D65287F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17FAC-BE1F-47B7-8614-65AA8556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1504A-03E5-4510-A1DD-D63EAABF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53581-A3B0-4CAE-A6F3-0D0B6A8E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EFC-5148-498A-B42D-AC2A8DA1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81B88-828D-49A4-B21E-DDE8E2E1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F4AAC-35CB-40AD-923B-F1C8E11D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C0E49-CE7A-4045-ADC0-0FA3093F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606E4-780D-487F-981D-7C9600B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807B0-5B45-4480-82AD-B70A5C8B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82138-1666-49BD-AB55-26C1A193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FA263-D0F0-4064-A70E-724FDA86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E58C8-3958-40EA-B2F2-F5E87C65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A1D48-5DE9-479D-848F-287CA64E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FEBDE-081B-495B-9BB0-2716120F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5F9B-51A5-4AEA-BF00-394461939A7D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25FA-02C3-4C23-8A98-E074D3F73999}" type="slidenum"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0A86-802D-476A-9EC4-BE97E889E517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F907-9037-4652-8DC1-8A95ECB1B344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DF61-23CA-4637-91A4-9793E875B4DC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8311-A6F0-4019-8107-AF90B3AA5091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9DC5-D73C-44D1-8D76-6FC2362870CC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48C6-87C9-4DA6-AC16-957CBAAED115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84CF-0141-488C-B947-0B739FAA1001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2057400" y="228564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Je joue au footbal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Tu as mangé une pizza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Il va regarder la télévision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Nous allons visiter le musé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Vous avez organisé une visite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Elles achètent un livre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3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6868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1828800" y="1371240"/>
            <a:ext cx="5867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Sans Unicode"/>
              </a:rPr>
              <a:t>Mexican wave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Sans Unicode"/>
              </a:rPr>
              <a:t>=&gt; Aussi rapid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Sans Unicode"/>
              </a:rPr>
              <a:t>=&gt; Aussi correct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Sans Unicode"/>
              </a:rPr>
              <a:t>que possible !!!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533520" y="837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Jou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t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Content Placeholder 1"/>
          <p:cNvSpPr/>
          <p:nvPr/>
        </p:nvSpPr>
        <p:spPr>
          <a:xfrm>
            <a:off x="4343400" y="8380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Regar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regard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regard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regarder 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regarder 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regard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regarder 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228600" y="9140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Jou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t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Content Placeholder 1"/>
          <p:cNvSpPr/>
          <p:nvPr/>
        </p:nvSpPr>
        <p:spPr>
          <a:xfrm>
            <a:off x="3886200" y="914400"/>
            <a:ext cx="4800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Téléphon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téléphon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téléphon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téléphoner 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téléphoner 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téléphon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téléphoner 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533520" y="837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Jou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t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Content Placeholder 1"/>
          <p:cNvSpPr/>
          <p:nvPr/>
        </p:nvSpPr>
        <p:spPr>
          <a:xfrm>
            <a:off x="4343400" y="8380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Chang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chang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chang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changer 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changer 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chang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changer 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533520" y="837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Jou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t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Content Placeholder 1"/>
          <p:cNvSpPr/>
          <p:nvPr/>
        </p:nvSpPr>
        <p:spPr>
          <a:xfrm>
            <a:off x="4343400" y="8380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Visi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visit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visit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visiter 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visiter 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visit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visiter 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533520" y="837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Jou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t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Content Placeholder 1"/>
          <p:cNvSpPr/>
          <p:nvPr/>
        </p:nvSpPr>
        <p:spPr>
          <a:xfrm>
            <a:off x="4343400" y="8380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Présen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présent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présent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présenter 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présenter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présent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présenter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Content Placeholder 1"/>
          <p:cNvSpPr/>
          <p:nvPr/>
        </p:nvSpPr>
        <p:spPr>
          <a:xfrm>
            <a:off x="304920" y="10666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Arri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’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arriv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arriv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_</a:t>
            </a: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Content Placeholder 1"/>
          <p:cNvSpPr/>
          <p:nvPr/>
        </p:nvSpPr>
        <p:spPr>
          <a:xfrm>
            <a:off x="4419720" y="10666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Par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parl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parl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parl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parl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parl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_</a:t>
            </a: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8"/>
          <p:cNvSpPr/>
          <p:nvPr/>
        </p:nvSpPr>
        <p:spPr>
          <a:xfrm>
            <a:off x="1523880" y="228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Complétez, dans le cah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C:\Users\joannie\AppData\Local\Microsoft\Windows\Temporary Internet Files\Content.IE5\YPR40YF9\MCj04134600000[1].wmf"/>
          <p:cNvPicPr/>
          <p:nvPr/>
        </p:nvPicPr>
        <p:blipFill>
          <a:blip r:embed="rId1"/>
          <a:stretch/>
        </p:blipFill>
        <p:spPr>
          <a:xfrm>
            <a:off x="7467480" y="0"/>
            <a:ext cx="1262160" cy="1338120"/>
          </a:xfrm>
          <a:prstGeom prst="rect">
            <a:avLst/>
          </a:prstGeom>
          <a:ln w="0">
            <a:noFill/>
          </a:ln>
        </p:spPr>
      </p:pic>
      <p:sp>
        <p:nvSpPr>
          <p:cNvPr id="480" name="TextBox 9"/>
          <p:cNvSpPr/>
          <p:nvPr/>
        </p:nvSpPr>
        <p:spPr>
          <a:xfrm>
            <a:off x="2021040" y="541008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ons / ai / a / as /ez / o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Content Placeholder 1"/>
          <p:cNvSpPr/>
          <p:nvPr/>
        </p:nvSpPr>
        <p:spPr>
          <a:xfrm>
            <a:off x="304920" y="10666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Arri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’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ontent Placeholder 1"/>
          <p:cNvSpPr/>
          <p:nvPr/>
        </p:nvSpPr>
        <p:spPr>
          <a:xfrm>
            <a:off x="4419720" y="10666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Par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ont</a:t>
            </a: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8"/>
          <p:cNvSpPr/>
          <p:nvPr/>
        </p:nvSpPr>
        <p:spPr>
          <a:xfrm>
            <a:off x="1523880" y="228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Complétez, dans le cah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C:\Users\joannie\AppData\Local\Microsoft\Windows\Temporary Internet Files\Content.IE5\YPR40YF9\MCj04134600000[1].wmf"/>
          <p:cNvPicPr/>
          <p:nvPr/>
        </p:nvPicPr>
        <p:blipFill>
          <a:blip r:embed="rId1"/>
          <a:stretch/>
        </p:blipFill>
        <p:spPr>
          <a:xfrm>
            <a:off x="7467480" y="0"/>
            <a:ext cx="1262160" cy="1338120"/>
          </a:xfrm>
          <a:prstGeom prst="rect">
            <a:avLst/>
          </a:prstGeom>
          <a:ln w="0">
            <a:noFill/>
          </a:ln>
        </p:spPr>
      </p:pic>
      <p:sp>
        <p:nvSpPr>
          <p:cNvPr id="485" name="TextBox 9"/>
          <p:cNvSpPr/>
          <p:nvPr/>
        </p:nvSpPr>
        <p:spPr>
          <a:xfrm>
            <a:off x="1944720" y="541008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ons / ai / a / as /ez / o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b050"/>
                </a:solidFill>
                <a:latin typeface="Lucida Sans Unicode"/>
              </a:rPr>
              <a:t>Infinitive of the verb </a:t>
            </a:r>
            <a:r>
              <a:rPr b="1" lang="en-GB" sz="2700" spc="-1" strike="noStrike">
                <a:solidFill>
                  <a:srgbClr val="0070c0"/>
                </a:solidFill>
                <a:latin typeface="Lucida Sans Unicode"/>
              </a:rPr>
              <a:t>+ </a:t>
            </a:r>
            <a:r>
              <a:rPr b="1" lang="en-GB" sz="2700" spc="-1" strike="noStrike">
                <a:solidFill>
                  <a:srgbClr val="00b050"/>
                </a:solidFill>
                <a:latin typeface="Lucida Sans Unicode"/>
              </a:rPr>
              <a:t>ending according to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Je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infinitive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+ a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Tu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   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inf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+ a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Il / elle 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    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inf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+ 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Nous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   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inf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+ 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Vous 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    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inf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+ ez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Ils / Elles   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inf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+ ont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266720" y="12193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b050"/>
                </a:solidFill>
                <a:latin typeface="Lucida Sans Unicode"/>
              </a:rPr>
              <a:t>Aller is irregular 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3171e"/>
                </a:solidFill>
                <a:latin typeface="Lucida Sans Unicode"/>
              </a:rPr>
              <a:t>J’ira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3171e"/>
                </a:solidFill>
                <a:latin typeface="Lucida Sans Unicode"/>
              </a:rPr>
              <a:t>Tu ir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3171e"/>
                </a:solidFill>
                <a:latin typeface="Lucida Sans Unicode"/>
              </a:rPr>
              <a:t>Il / elle ir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3171e"/>
                </a:solidFill>
                <a:latin typeface="Lucida Sans Unicode"/>
              </a:rPr>
              <a:t>Nous ir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3171e"/>
                </a:solidFill>
                <a:latin typeface="Lucida Sans Unicode"/>
              </a:rPr>
              <a:t>Vous irez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3171e"/>
                </a:solidFill>
                <a:latin typeface="Lucida Sans Unicode"/>
              </a:rPr>
              <a:t>Ils iro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Tit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3"/>
          <p:cNvSpPr/>
          <p:nvPr/>
        </p:nvSpPr>
        <p:spPr>
          <a:xfrm>
            <a:off x="2649600" y="5943600"/>
            <a:ext cx="6369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b050"/>
                </a:solidFill>
                <a:latin typeface="Lucida Sans Unicode"/>
                <a:ea typeface="Arial"/>
              </a:rPr>
              <a:t>What makes it an irregular verb 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762120" y="1219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Arial"/>
                <a:ea typeface="Arial"/>
              </a:rPr>
              <a:t>J’allerais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Arial"/>
                <a:ea typeface="Arial"/>
              </a:rPr>
              <a:t>Non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2057400" y="159984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Je joue au footbal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Tu as mangé une pizza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Il va regarder la télévision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Nous allons visiter le musé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Vous avez organisé une visite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Elles achètent un livre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Title 3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686800" cy="1139760"/>
          </a:xfrm>
          <a:prstGeom prst="rect">
            <a:avLst/>
          </a:prstGeom>
          <a:ln w="0">
            <a:noFill/>
          </a:ln>
        </p:spPr>
      </p:pic>
      <p:sp>
        <p:nvSpPr>
          <p:cNvPr id="428" name="TextBox 5"/>
          <p:cNvSpPr/>
          <p:nvPr/>
        </p:nvSpPr>
        <p:spPr>
          <a:xfrm>
            <a:off x="2743200" y="5904000"/>
            <a:ext cx="20574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pré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i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28600" y="4724280"/>
            <a:ext cx="1905120" cy="94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passé compo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5105520" y="4648320"/>
            <a:ext cx="190476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futur pro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Straight Arrow Connector 8"/>
          <p:cNvCxnSpPr/>
          <p:nvPr/>
        </p:nvCxnSpPr>
        <p:spPr>
          <a:xfrm>
            <a:off x="304560" y="5638320"/>
            <a:ext cx="8382600" cy="252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32" name="Picture 2" descr="C:\Users\joannie\AppData\Local\Microsoft\Windows\Temporary Internet Files\Content.IE5\2XARPT0B\MCj04325330000[1].png"/>
          <p:cNvPicPr/>
          <p:nvPr/>
        </p:nvPicPr>
        <p:blipFill>
          <a:blip r:embed="rId2"/>
          <a:stretch/>
        </p:blipFill>
        <p:spPr>
          <a:xfrm>
            <a:off x="3276720" y="53341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838080" y="2133720"/>
            <a:ext cx="22860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Tu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I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I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3" name="Title 2" descr=""/>
          <p:cNvPicPr/>
          <p:nvPr/>
        </p:nvPicPr>
        <p:blipFill>
          <a:blip r:embed="rId1"/>
          <a:stretch/>
        </p:blipFill>
        <p:spPr>
          <a:xfrm>
            <a:off x="1450800" y="152280"/>
            <a:ext cx="5791320" cy="1676520"/>
          </a:xfrm>
          <a:prstGeom prst="rect">
            <a:avLst/>
          </a:prstGeom>
          <a:ln w="0">
            <a:noFill/>
          </a:ln>
        </p:spPr>
      </p:pic>
      <p:sp>
        <p:nvSpPr>
          <p:cNvPr id="494" name="Content Placeholder 1"/>
          <p:cNvSpPr/>
          <p:nvPr/>
        </p:nvSpPr>
        <p:spPr>
          <a:xfrm>
            <a:off x="5486400" y="2209680"/>
            <a:ext cx="281952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Reg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Jo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Ar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Par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M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Al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20574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838080" y="2133720"/>
            <a:ext cx="22860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Tu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I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I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Title 2" descr=""/>
          <p:cNvPicPr/>
          <p:nvPr/>
        </p:nvPicPr>
        <p:blipFill>
          <a:blip r:embed="rId1"/>
          <a:stretch/>
        </p:blipFill>
        <p:spPr>
          <a:xfrm>
            <a:off x="1450800" y="152280"/>
            <a:ext cx="5791320" cy="1676520"/>
          </a:xfrm>
          <a:prstGeom prst="rect">
            <a:avLst/>
          </a:prstGeom>
          <a:ln w="0">
            <a:noFill/>
          </a:ln>
        </p:spPr>
      </p:pic>
      <p:sp>
        <p:nvSpPr>
          <p:cNvPr id="498" name="Content Placeholder 1"/>
          <p:cNvSpPr/>
          <p:nvPr/>
        </p:nvSpPr>
        <p:spPr>
          <a:xfrm>
            <a:off x="5257800" y="2209680"/>
            <a:ext cx="304812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Teléph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Prés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Ch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Don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20574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838080" y="2133720"/>
            <a:ext cx="22860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Tu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I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I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1" name="Title 2" descr=""/>
          <p:cNvPicPr/>
          <p:nvPr/>
        </p:nvPicPr>
        <p:blipFill>
          <a:blip r:embed="rId1"/>
          <a:stretch/>
        </p:blipFill>
        <p:spPr>
          <a:xfrm>
            <a:off x="1450800" y="152280"/>
            <a:ext cx="5791320" cy="1676520"/>
          </a:xfrm>
          <a:prstGeom prst="rect">
            <a:avLst/>
          </a:prstGeom>
          <a:ln w="0">
            <a:noFill/>
          </a:ln>
        </p:spPr>
      </p:pic>
      <p:sp>
        <p:nvSpPr>
          <p:cNvPr id="502" name="Content Placeholder 1"/>
          <p:cNvSpPr/>
          <p:nvPr/>
        </p:nvSpPr>
        <p:spPr>
          <a:xfrm>
            <a:off x="5257800" y="2209680"/>
            <a:ext cx="3048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Trou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A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Répa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Dem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Bava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20574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2"/>
          <p:cNvSpPr/>
          <p:nvPr/>
        </p:nvSpPr>
        <p:spPr>
          <a:xfrm>
            <a:off x="28195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"/>
          <p:cNvSpPr/>
          <p:nvPr/>
        </p:nvSpPr>
        <p:spPr>
          <a:xfrm>
            <a:off x="60199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228600" y="2209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228600" y="45720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4"/>
          <p:cNvSpPr/>
          <p:nvPr/>
        </p:nvSpPr>
        <p:spPr>
          <a:xfrm>
            <a:off x="805320" y="914400"/>
            <a:ext cx="152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ar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5"/>
          <p:cNvSpPr/>
          <p:nvPr/>
        </p:nvSpPr>
        <p:spPr>
          <a:xfrm>
            <a:off x="6701040" y="4952880"/>
            <a:ext cx="135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ou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6"/>
          <p:cNvSpPr/>
          <p:nvPr/>
        </p:nvSpPr>
        <p:spPr>
          <a:xfrm>
            <a:off x="3615120" y="5029200"/>
            <a:ext cx="197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g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7"/>
          <p:cNvSpPr/>
          <p:nvPr/>
        </p:nvSpPr>
        <p:spPr>
          <a:xfrm>
            <a:off x="412560" y="5029200"/>
            <a:ext cx="217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és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8"/>
          <p:cNvSpPr/>
          <p:nvPr/>
        </p:nvSpPr>
        <p:spPr>
          <a:xfrm>
            <a:off x="268200" y="2895480"/>
            <a:ext cx="253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élépho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9"/>
          <p:cNvSpPr/>
          <p:nvPr/>
        </p:nvSpPr>
        <p:spPr>
          <a:xfrm>
            <a:off x="3547800" y="2819520"/>
            <a:ext cx="213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0"/>
          <p:cNvSpPr/>
          <p:nvPr/>
        </p:nvSpPr>
        <p:spPr>
          <a:xfrm>
            <a:off x="6825600" y="2819520"/>
            <a:ext cx="185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ch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21"/>
          <p:cNvSpPr/>
          <p:nvPr/>
        </p:nvSpPr>
        <p:spPr>
          <a:xfrm>
            <a:off x="3393000" y="838080"/>
            <a:ext cx="168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rri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22"/>
          <p:cNvSpPr/>
          <p:nvPr/>
        </p:nvSpPr>
        <p:spPr>
          <a:xfrm>
            <a:off x="6758640" y="838080"/>
            <a:ext cx="187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Line 2"/>
          <p:cNvSpPr/>
          <p:nvPr/>
        </p:nvSpPr>
        <p:spPr>
          <a:xfrm>
            <a:off x="28195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"/>
          <p:cNvSpPr/>
          <p:nvPr/>
        </p:nvSpPr>
        <p:spPr>
          <a:xfrm>
            <a:off x="60199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"/>
          <p:cNvSpPr/>
          <p:nvPr/>
        </p:nvSpPr>
        <p:spPr>
          <a:xfrm>
            <a:off x="228600" y="2209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"/>
          <p:cNvSpPr/>
          <p:nvPr/>
        </p:nvSpPr>
        <p:spPr>
          <a:xfrm>
            <a:off x="228600" y="45720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4"/>
          <p:cNvSpPr/>
          <p:nvPr/>
        </p:nvSpPr>
        <p:spPr>
          <a:xfrm>
            <a:off x="833400" y="914400"/>
            <a:ext cx="135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o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5"/>
          <p:cNvSpPr/>
          <p:nvPr/>
        </p:nvSpPr>
        <p:spPr>
          <a:xfrm>
            <a:off x="6661080" y="4952880"/>
            <a:ext cx="217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és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6"/>
          <p:cNvSpPr/>
          <p:nvPr/>
        </p:nvSpPr>
        <p:spPr>
          <a:xfrm>
            <a:off x="3637440" y="5029200"/>
            <a:ext cx="190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Ch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7"/>
          <p:cNvSpPr/>
          <p:nvPr/>
        </p:nvSpPr>
        <p:spPr>
          <a:xfrm>
            <a:off x="431640" y="5029200"/>
            <a:ext cx="24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éléph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265680" y="2895480"/>
            <a:ext cx="205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g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9"/>
          <p:cNvSpPr/>
          <p:nvPr/>
        </p:nvSpPr>
        <p:spPr>
          <a:xfrm>
            <a:off x="3535920" y="2819520"/>
            <a:ext cx="14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ar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0"/>
          <p:cNvSpPr/>
          <p:nvPr/>
        </p:nvSpPr>
        <p:spPr>
          <a:xfrm>
            <a:off x="6820560" y="2819520"/>
            <a:ext cx="16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r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1"/>
          <p:cNvSpPr/>
          <p:nvPr/>
        </p:nvSpPr>
        <p:spPr>
          <a:xfrm>
            <a:off x="3391920" y="838080"/>
            <a:ext cx="22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2"/>
          <p:cNvSpPr/>
          <p:nvPr/>
        </p:nvSpPr>
        <p:spPr>
          <a:xfrm>
            <a:off x="6758640" y="838080"/>
            <a:ext cx="187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Line 2"/>
          <p:cNvSpPr/>
          <p:nvPr/>
        </p:nvSpPr>
        <p:spPr>
          <a:xfrm>
            <a:off x="28195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"/>
          <p:cNvSpPr/>
          <p:nvPr/>
        </p:nvSpPr>
        <p:spPr>
          <a:xfrm>
            <a:off x="60199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228600" y="2209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5"/>
          <p:cNvSpPr/>
          <p:nvPr/>
        </p:nvSpPr>
        <p:spPr>
          <a:xfrm>
            <a:off x="228600" y="45720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4"/>
          <p:cNvSpPr/>
          <p:nvPr/>
        </p:nvSpPr>
        <p:spPr>
          <a:xfrm>
            <a:off x="821880" y="914400"/>
            <a:ext cx="124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o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5"/>
          <p:cNvSpPr/>
          <p:nvPr/>
        </p:nvSpPr>
        <p:spPr>
          <a:xfrm>
            <a:off x="6661080" y="4952880"/>
            <a:ext cx="217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és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6"/>
          <p:cNvSpPr/>
          <p:nvPr/>
        </p:nvSpPr>
        <p:spPr>
          <a:xfrm>
            <a:off x="3637440" y="5029200"/>
            <a:ext cx="190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Ch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7"/>
          <p:cNvSpPr/>
          <p:nvPr/>
        </p:nvSpPr>
        <p:spPr>
          <a:xfrm>
            <a:off x="431640" y="5029200"/>
            <a:ext cx="24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éléph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8"/>
          <p:cNvSpPr/>
          <p:nvPr/>
        </p:nvSpPr>
        <p:spPr>
          <a:xfrm>
            <a:off x="265680" y="2895480"/>
            <a:ext cx="205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g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9"/>
          <p:cNvSpPr/>
          <p:nvPr/>
        </p:nvSpPr>
        <p:spPr>
          <a:xfrm>
            <a:off x="3535920" y="2819520"/>
            <a:ext cx="14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ar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20"/>
          <p:cNvSpPr/>
          <p:nvPr/>
        </p:nvSpPr>
        <p:spPr>
          <a:xfrm>
            <a:off x="6820560" y="2819520"/>
            <a:ext cx="16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r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21"/>
          <p:cNvSpPr/>
          <p:nvPr/>
        </p:nvSpPr>
        <p:spPr>
          <a:xfrm>
            <a:off x="3391920" y="838080"/>
            <a:ext cx="22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2"/>
          <p:cNvSpPr/>
          <p:nvPr/>
        </p:nvSpPr>
        <p:spPr>
          <a:xfrm>
            <a:off x="6758640" y="838080"/>
            <a:ext cx="187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Rectangle 2" descr=""/>
          <p:cNvPicPr/>
          <p:nvPr/>
        </p:nvPicPr>
        <p:blipFill>
          <a:blip r:embed="rId1"/>
          <a:stretch/>
        </p:blipFill>
        <p:spPr>
          <a:xfrm>
            <a:off x="469800" y="0"/>
            <a:ext cx="8382240" cy="1432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8" descr="Tennis_-_Equipment_18"/>
          <p:cNvPicPr/>
          <p:nvPr/>
        </p:nvPicPr>
        <p:blipFill>
          <a:blip r:embed="rId2"/>
          <a:stretch/>
        </p:blipFill>
        <p:spPr>
          <a:xfrm>
            <a:off x="755640" y="1413000"/>
            <a:ext cx="1557360" cy="1655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2" descr="sleep"/>
          <p:cNvPicPr/>
          <p:nvPr/>
        </p:nvPicPr>
        <p:blipFill>
          <a:blip r:embed="rId3"/>
          <a:stretch/>
        </p:blipFill>
        <p:spPr>
          <a:xfrm>
            <a:off x="611280" y="3284640"/>
            <a:ext cx="1890720" cy="1101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5" descr="Candy"/>
          <p:cNvPicPr/>
          <p:nvPr/>
        </p:nvPicPr>
        <p:blipFill>
          <a:blip r:embed="rId4"/>
          <a:stretch/>
        </p:blipFill>
        <p:spPr>
          <a:xfrm>
            <a:off x="5003640" y="1413000"/>
            <a:ext cx="1312920" cy="1268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1" descr="GUP011"/>
          <p:cNvPicPr/>
          <p:nvPr/>
        </p:nvPicPr>
        <p:blipFill>
          <a:blip r:embed="rId5"/>
          <a:stretch/>
        </p:blipFill>
        <p:spPr>
          <a:xfrm>
            <a:off x="684360" y="4653000"/>
            <a:ext cx="1726920" cy="15764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900000" y="278136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108000" y="1557360"/>
            <a:ext cx="503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d1d1d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0"/>
          <p:cNvSpPr/>
          <p:nvPr/>
        </p:nvSpPr>
        <p:spPr>
          <a:xfrm>
            <a:off x="4500720" y="1557360"/>
            <a:ext cx="502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d1d1d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1"/>
          <p:cNvSpPr/>
          <p:nvPr/>
        </p:nvSpPr>
        <p:spPr>
          <a:xfrm>
            <a:off x="179280" y="4724280"/>
            <a:ext cx="503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d1d1d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2"/>
          <p:cNvSpPr/>
          <p:nvPr/>
        </p:nvSpPr>
        <p:spPr>
          <a:xfrm>
            <a:off x="179280" y="3284640"/>
            <a:ext cx="503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d1d1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0" descr="1609832"/>
          <p:cNvPicPr/>
          <p:nvPr/>
        </p:nvPicPr>
        <p:blipFill>
          <a:blip r:embed="rId6"/>
          <a:stretch/>
        </p:blipFill>
        <p:spPr>
          <a:xfrm>
            <a:off x="5003640" y="4653000"/>
            <a:ext cx="1468440" cy="151272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41"/>
          <p:cNvSpPr/>
          <p:nvPr/>
        </p:nvSpPr>
        <p:spPr>
          <a:xfrm>
            <a:off x="4572000" y="2997360"/>
            <a:ext cx="503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d1d1d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2"/>
          <p:cNvSpPr/>
          <p:nvPr/>
        </p:nvSpPr>
        <p:spPr>
          <a:xfrm>
            <a:off x="4572000" y="4653000"/>
            <a:ext cx="503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d1d1d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3"/>
          <p:cNvSpPr/>
          <p:nvPr/>
        </p:nvSpPr>
        <p:spPr>
          <a:xfrm>
            <a:off x="6588000" y="3141720"/>
            <a:ext cx="208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At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You (friend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5"/>
          <p:cNvSpPr/>
          <p:nvPr/>
        </p:nvSpPr>
        <p:spPr>
          <a:xfrm>
            <a:off x="2556000" y="4724280"/>
            <a:ext cx="2087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Tomorrow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6"/>
          <p:cNvSpPr/>
          <p:nvPr/>
        </p:nvSpPr>
        <p:spPr>
          <a:xfrm>
            <a:off x="6443640" y="1628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Next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My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7"/>
          <p:cNvSpPr/>
          <p:nvPr/>
        </p:nvSpPr>
        <p:spPr>
          <a:xfrm>
            <a:off x="6516720" y="4869000"/>
            <a:ext cx="230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Next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My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9" descr="music_clipart_notes"/>
          <p:cNvPicPr/>
          <p:nvPr/>
        </p:nvPicPr>
        <p:blipFill>
          <a:blip r:embed="rId7"/>
          <a:stretch/>
        </p:blipFill>
        <p:spPr>
          <a:xfrm>
            <a:off x="4932360" y="2997360"/>
            <a:ext cx="1657440" cy="107784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50"/>
          <p:cNvSpPr/>
          <p:nvPr/>
        </p:nvSpPr>
        <p:spPr>
          <a:xfrm>
            <a:off x="2411280" y="1413000"/>
            <a:ext cx="2087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Tomo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1"/>
          <p:cNvSpPr/>
          <p:nvPr/>
        </p:nvSpPr>
        <p:spPr>
          <a:xfrm>
            <a:off x="2556000" y="3357720"/>
            <a:ext cx="2087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This e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lospitufos"/>
          <p:cNvPicPr/>
          <p:nvPr/>
        </p:nvPicPr>
        <p:blipFill>
          <a:blip r:embed="rId1"/>
          <a:stretch/>
        </p:blipFill>
        <p:spPr>
          <a:xfrm>
            <a:off x="0" y="115920"/>
            <a:ext cx="2381400" cy="26668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6"/>
          <p:cNvSpPr/>
          <p:nvPr/>
        </p:nvSpPr>
        <p:spPr>
          <a:xfrm>
            <a:off x="2411280" y="53352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a1f28"/>
                </a:solidFill>
                <a:latin typeface="Arial"/>
                <a:ea typeface="Arial"/>
              </a:rPr>
              <a:t>Do you remember how to form the future ten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2195640" y="333360"/>
            <a:ext cx="6480000" cy="1295280"/>
          </a:xfrm>
          <a:prstGeom prst="wedgeRoundRectCallout">
            <a:avLst>
              <a:gd name="adj1" fmla="val -47796"/>
              <a:gd name="adj2" fmla="val 76347"/>
              <a:gd name="adj3" fmla="val 16667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1042920" y="3211560"/>
            <a:ext cx="741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 the infinitive of the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 the correct ‘avoir’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verb ends in RE, drop off the E before adding the end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WordArt 4"/>
          <p:cNvSpPr txBox="1"/>
          <p:nvPr/>
        </p:nvSpPr>
        <p:spPr>
          <a:xfrm>
            <a:off x="272880" y="3933720"/>
            <a:ext cx="862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My mum will sing after my exa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68" name="WordArt 5"/>
          <p:cNvSpPr txBox="1"/>
          <p:nvPr/>
        </p:nvSpPr>
        <p:spPr>
          <a:xfrm>
            <a:off x="1692360" y="549360"/>
            <a:ext cx="59148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I will dance with Pam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</p:txBody>
      </p:sp>
      <p:grpSp>
        <p:nvGrpSpPr>
          <p:cNvPr id="569" name="Group 8"/>
          <p:cNvGrpSpPr/>
          <p:nvPr/>
        </p:nvGrpSpPr>
        <p:grpSpPr>
          <a:xfrm>
            <a:off x="3276720" y="1484280"/>
            <a:ext cx="1584360" cy="792360"/>
            <a:chOff x="3276720" y="1484280"/>
            <a:chExt cx="1584360" cy="792360"/>
          </a:xfrm>
        </p:grpSpPr>
        <p:sp>
          <p:nvSpPr>
            <p:cNvPr id="570" name="Line 6"/>
            <p:cNvSpPr/>
            <p:nvPr/>
          </p:nvSpPr>
          <p:spPr>
            <a:xfrm>
              <a:off x="3276720" y="1484280"/>
              <a:ext cx="158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7"/>
            <p:cNvSpPr/>
            <p:nvPr/>
          </p:nvSpPr>
          <p:spPr>
            <a:xfrm>
              <a:off x="4140360" y="1484280"/>
              <a:ext cx="0" cy="79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9"/>
          <p:cNvSpPr/>
          <p:nvPr/>
        </p:nvSpPr>
        <p:spPr>
          <a:xfrm>
            <a:off x="3421080" y="227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d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4861080" y="22766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Arial"/>
                <a:ea typeface="Arial"/>
              </a:rPr>
              <a:t>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2771640" y="22766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5364000" y="2276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avec P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539640" y="515772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Ma mère chanter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 après mon exa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WordArt 5"/>
          <p:cNvSpPr txBox="1"/>
          <p:nvPr/>
        </p:nvSpPr>
        <p:spPr>
          <a:xfrm>
            <a:off x="2843280" y="549360"/>
            <a:ext cx="3562200" cy="21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rregular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erbs!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8" name="Picture 6" descr="Man looking at large stack of documents on desk, grimacing"/>
          <p:cNvPicPr/>
          <p:nvPr/>
        </p:nvPicPr>
        <p:blipFill>
          <a:blip r:embed="rId1"/>
          <a:stretch/>
        </p:blipFill>
        <p:spPr>
          <a:xfrm>
            <a:off x="3635280" y="3500280"/>
            <a:ext cx="217980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Content Placeholder 4"/>
          <p:cNvSpPr/>
          <p:nvPr/>
        </p:nvSpPr>
        <p:spPr>
          <a:xfrm>
            <a:off x="2057400" y="1676520"/>
            <a:ext cx="5562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Je joue au footb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Tu as mangé une pizz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Il va regarder la télé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Nous allons visiter le musé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Vous avez organisé une visi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Elles achètent un livr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057400" y="167616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Je joue au footbal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0c0"/>
                </a:solidFill>
                <a:latin typeface="Lucida Sans Unicode"/>
              </a:rPr>
              <a:t>Tu as mangé une pizza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0000"/>
                </a:solidFill>
                <a:latin typeface="Lucida Sans Unicode"/>
              </a:rPr>
              <a:t>Il va regarder la télévision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0000"/>
                </a:solidFill>
                <a:latin typeface="Lucida Sans Unicode"/>
              </a:rPr>
              <a:t>Nous allons visiter le musé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0c0"/>
                </a:solidFill>
                <a:latin typeface="Lucida Sans Unicode"/>
              </a:rPr>
              <a:t>Vous avez organisé une visite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Elles achètent un livre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3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686800" cy="1139760"/>
          </a:xfrm>
          <a:prstGeom prst="rect">
            <a:avLst/>
          </a:prstGeom>
          <a:ln w="0">
            <a:noFill/>
          </a:ln>
        </p:spPr>
      </p:pic>
      <p:sp>
        <p:nvSpPr>
          <p:cNvPr id="436" name="TextBox 5"/>
          <p:cNvSpPr/>
          <p:nvPr/>
        </p:nvSpPr>
        <p:spPr>
          <a:xfrm>
            <a:off x="2895480" y="5904000"/>
            <a:ext cx="20574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pré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i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6"/>
          <p:cNvSpPr/>
          <p:nvPr/>
        </p:nvSpPr>
        <p:spPr>
          <a:xfrm>
            <a:off x="228600" y="4724280"/>
            <a:ext cx="1905120" cy="94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passé compo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7"/>
          <p:cNvSpPr/>
          <p:nvPr/>
        </p:nvSpPr>
        <p:spPr>
          <a:xfrm>
            <a:off x="5105520" y="4648320"/>
            <a:ext cx="190476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futur pro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Straight Arrow Connector 9"/>
          <p:cNvCxnSpPr/>
          <p:nvPr/>
        </p:nvCxnSpPr>
        <p:spPr>
          <a:xfrm>
            <a:off x="304560" y="5638320"/>
            <a:ext cx="8382600" cy="252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40" name="Picture 2" descr="C:\Users\joannie\AppData\Local\Microsoft\Windows\Temporary Internet Files\Content.IE5\2XARPT0B\MCj04325330000[1].png"/>
          <p:cNvPicPr/>
          <p:nvPr/>
        </p:nvPicPr>
        <p:blipFill>
          <a:blip r:embed="rId2"/>
          <a:stretch/>
        </p:blipFill>
        <p:spPr>
          <a:xfrm>
            <a:off x="3200400" y="54100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4"/>
          <p:cNvSpPr/>
          <p:nvPr/>
        </p:nvSpPr>
        <p:spPr>
          <a:xfrm>
            <a:off x="2050920" y="47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Big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v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ha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</a:t>
            </a:r>
            <a:r>
              <a:rPr b="1" lang="en-GB" sz="2800" spc="-1" strike="noStrike">
                <a:solidFill>
                  <a:srgbClr val="6600ff"/>
                </a:solidFill>
                <a:latin typeface="Times New Roman"/>
                <a:ea typeface="Arial"/>
              </a:rPr>
              <a:t>’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au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Êt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b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se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ll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g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</a:t>
            </a:r>
            <a:r>
              <a:rPr b="1" lang="en-GB" sz="2800" spc="-1" strike="noStrike">
                <a:solidFill>
                  <a:srgbClr val="6600ff"/>
                </a:solidFill>
                <a:latin typeface="Times New Roman"/>
                <a:ea typeface="Arial"/>
              </a:rPr>
              <a:t>’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i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ai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do/mak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fe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6588000" y="2421000"/>
            <a:ext cx="1729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6588000" y="3068640"/>
            <a:ext cx="1729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6588000" y="3645000"/>
            <a:ext cx="1729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9"/>
          <p:cNvSpPr/>
          <p:nvPr/>
        </p:nvSpPr>
        <p:spPr>
          <a:xfrm>
            <a:off x="6588000" y="4292640"/>
            <a:ext cx="1729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9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5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1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7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24000" y="1905120"/>
            <a:ext cx="37432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J’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Tu 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Il/elle/on 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Nous 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Vous 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Ils/elles 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6" name="Rectang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4"/>
          <p:cNvSpPr/>
          <p:nvPr/>
        </p:nvSpPr>
        <p:spPr>
          <a:xfrm>
            <a:off x="2819520" y="35053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371600" y="251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1523880" y="29718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2590920" y="4800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2819520" y="342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1905120" y="43434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2057400" y="38862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1"/>
          <p:cNvSpPr/>
          <p:nvPr/>
        </p:nvSpPr>
        <p:spPr>
          <a:xfrm>
            <a:off x="4067280" y="1916280"/>
            <a:ext cx="507672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I will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You will go (in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He/she/one will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e will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You will go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(formal/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Comic Sans MS"/>
              </a:rPr>
              <a:t>They will go (masc/f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898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898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98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898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98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898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898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898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898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98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98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898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24000" y="1905120"/>
            <a:ext cx="37432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Je 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Tu 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Il/elle/on 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Nous 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Vous 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Ils/elles 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6" name="Rectang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5"/>
          <p:cNvSpPr/>
          <p:nvPr/>
        </p:nvSpPr>
        <p:spPr>
          <a:xfrm>
            <a:off x="1979640" y="2565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197964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3059280" y="5516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3276720" y="3789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9"/>
          <p:cNvSpPr/>
          <p:nvPr/>
        </p:nvSpPr>
        <p:spPr>
          <a:xfrm>
            <a:off x="2340000" y="4941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2411280" y="4365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4067280" y="1916280"/>
            <a:ext cx="507672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I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You will do (in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He/she/one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e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You will d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formal/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They will d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masc/f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898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98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898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898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98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898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898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898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898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898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98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100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898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4"/>
          <p:cNvSpPr/>
          <p:nvPr/>
        </p:nvSpPr>
        <p:spPr>
          <a:xfrm>
            <a:off x="1620720" y="26028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Best Of The 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611280" y="1341360"/>
            <a:ext cx="82072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het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bu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’achète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ur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ru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cour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have t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de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nvoy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se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</a:t>
            </a:r>
            <a:r>
              <a:rPr b="1" lang="en-GB" sz="2800" spc="-1" strike="noStrike">
                <a:solidFill>
                  <a:srgbClr val="6600ff"/>
                </a:solidFill>
                <a:latin typeface="Times New Roman"/>
                <a:ea typeface="Arial"/>
              </a:rPr>
              <a:t>’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enver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uv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be abl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pour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cev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recei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recevrai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av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know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sau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en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com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viend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se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ver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oul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wan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voud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diary &amp; coffee cup"/>
          <p:cNvPicPr/>
          <p:nvPr/>
        </p:nvPicPr>
        <p:blipFill>
          <a:blip r:embed="rId1"/>
          <a:stretch/>
        </p:blipFill>
        <p:spPr>
          <a:xfrm>
            <a:off x="6488280" y="4527720"/>
            <a:ext cx="2655720" cy="23302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5"/>
          <p:cNvSpPr/>
          <p:nvPr/>
        </p:nvSpPr>
        <p:spPr>
          <a:xfrm>
            <a:off x="826920" y="302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e o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324000" y="966960"/>
            <a:ext cx="56163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fais ce que tu veu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vais là où tu v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’aime ce que tu aim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crois ce que tu cro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pleure quand tu pleu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t je ris quand tu r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fuis ce que tu fu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t je meurs quand tu m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8" descr="Cupid with bow and arrow, side view"/>
          <p:cNvPicPr/>
          <p:nvPr/>
        </p:nvPicPr>
        <p:blipFill>
          <a:blip r:embed="rId2"/>
          <a:stretch/>
        </p:blipFill>
        <p:spPr>
          <a:xfrm>
            <a:off x="6227640" y="620640"/>
            <a:ext cx="187020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1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6" descr="diary &amp; coffee cup"/>
          <p:cNvPicPr/>
          <p:nvPr/>
        </p:nvPicPr>
        <p:blipFill>
          <a:blip r:embed="rId1"/>
          <a:stretch/>
        </p:blipFill>
        <p:spPr>
          <a:xfrm>
            <a:off x="6488280" y="4527720"/>
            <a:ext cx="2655720" cy="23302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8"/>
          <p:cNvSpPr/>
          <p:nvPr/>
        </p:nvSpPr>
        <p:spPr>
          <a:xfrm>
            <a:off x="826920" y="302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e o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324000" y="966960"/>
            <a:ext cx="669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fe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ce que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voud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’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i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là où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i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’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aime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ce que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aime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croirai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ce que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croi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pleure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quand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pleure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t je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ri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quand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ri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fui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ce que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fui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t je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mour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quand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mour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0" descr="Cupid with bow and arrow, side view"/>
          <p:cNvPicPr/>
          <p:nvPr/>
        </p:nvPicPr>
        <p:blipFill>
          <a:blip r:embed="rId2"/>
          <a:stretch/>
        </p:blipFill>
        <p:spPr>
          <a:xfrm>
            <a:off x="6227640" y="620640"/>
            <a:ext cx="187020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1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Title 1" descr=""/>
          <p:cNvPicPr/>
          <p:nvPr/>
        </p:nvPicPr>
        <p:blipFill>
          <a:blip r:embed="rId1"/>
          <a:stretch/>
        </p:blipFill>
        <p:spPr>
          <a:xfrm>
            <a:off x="725400" y="106056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Lucida Sans Unicode"/>
              </a:rPr>
              <a:t>Je –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Lucida Sans Unicode"/>
              </a:rPr>
              <a:t>Tu –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Lucida Sans Unicode"/>
              </a:rPr>
              <a:t>Il/elle/on –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Lucida Sans Unicode"/>
              </a:rPr>
              <a:t>Nous –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Lucida Sans Unicode"/>
              </a:rPr>
              <a:t>Vous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Lucida Sans Unicode"/>
              </a:rPr>
              <a:t>Ils/elles -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17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I will g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 will ha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 will b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I will 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I will be able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6. I will have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7. I will kn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8. I will c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9. I will s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0. I will w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457200" y="148104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I will g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 will ha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 will b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I will 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I will be able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6. I will have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7. I will kn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8. I will c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9. I will s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0. I will w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22" name="Content Placeholder 2"/>
          <p:cNvSpPr/>
          <p:nvPr/>
        </p:nvSpPr>
        <p:spPr>
          <a:xfrm>
            <a:off x="4343400" y="1523880"/>
            <a:ext cx="3733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1. j’i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2. j’au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3. je se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4. je fe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5. je pour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6. je dev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7. je sau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8. je viend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9. je ver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10. je viend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3"/>
          <p:cNvSpPr/>
          <p:nvPr/>
        </p:nvSpPr>
        <p:spPr>
          <a:xfrm>
            <a:off x="2286000" y="2819520"/>
            <a:ext cx="20574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pré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i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380880" y="1676520"/>
            <a:ext cx="1905120" cy="94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passé compo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343400" y="1600200"/>
            <a:ext cx="190512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futur pro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Straight Arrow Connector 6"/>
          <p:cNvCxnSpPr/>
          <p:nvPr/>
        </p:nvCxnSpPr>
        <p:spPr>
          <a:xfrm>
            <a:off x="456840" y="2590920"/>
            <a:ext cx="8382600" cy="2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446" name="TextBox 7"/>
          <p:cNvSpPr/>
          <p:nvPr/>
        </p:nvSpPr>
        <p:spPr>
          <a:xfrm>
            <a:off x="6400800" y="2819520"/>
            <a:ext cx="16002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futur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C:\Users\joannie\AppData\Local\Microsoft\Windows\Temporary Internet Files\Content.IE5\2XARPT0B\MCj04325330000[1].png"/>
          <p:cNvPicPr/>
          <p:nvPr/>
        </p:nvPicPr>
        <p:blipFill>
          <a:blip r:embed="rId2"/>
          <a:stretch/>
        </p:blipFill>
        <p:spPr>
          <a:xfrm>
            <a:off x="281952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C:\Users\joannie\AppData\Local\Microsoft\Windows\Temporary Internet Files\Content.IE5\2XARPT0B\MCj04325330000[1].png"/>
          <p:cNvPicPr/>
          <p:nvPr/>
        </p:nvPicPr>
        <p:blipFill>
          <a:blip r:embed="rId3"/>
          <a:stretch/>
        </p:blipFill>
        <p:spPr>
          <a:xfrm>
            <a:off x="6937200" y="2365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1"/>
          <p:cNvSpPr/>
          <p:nvPr/>
        </p:nvSpPr>
        <p:spPr>
          <a:xfrm>
            <a:off x="609480" y="44197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The future tense is used to describe something that is going to happen or will / shall happen later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omorrow I will watch TV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onight he will be tir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 we will go to the swimming p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th they will see the que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-end you(tu) will cycle (faire du vél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omorrow I will watch TV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onight he will be tir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 we will go to the swimming p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th they will see the que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-end you(tu) will cycle (faire du vél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onight he will be tir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 we will go to the swimming p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th they will see the que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-end you(tu) will cycle (faire du vél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8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 we will go to the swimming p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th they will see the que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-end you(tu) will cycle (faire du vél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0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5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20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2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2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th they will see the que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-end you(tu) will cycle (faire du vél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mois prochain, ils verront la re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-end you(tu) will cycle (faire du vél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mois prochain, ils verront la re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week-end prochain tu feras du vé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6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mois prochain, ils verront la re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week-end prochain tu feras du vé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’année prochaine, elle aura une voit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5" dur="500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mois prochain, ils verront la re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week-end prochain tu feras du vé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’année prochaine, elle aura une voit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undi prochain vous viendrez chez mo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0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2" dur="2000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mois prochain, ils verront la re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week-end prochain tu feras du vé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’année prochaine, elle aura une voit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undi prochain vous viendrez chez mo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lus tard je jouerai sur ma Xbo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Lucida Sans Unicode"/>
              </a:rPr>
              <a:t>Is made of two elements 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</a:rPr>
              <a:t>The infinitive of the verb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Lucida Sans Unicode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</a:rPr>
              <a:t>6 different endings of verbs expressing the future tens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mois prochain, ils verront la re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week-end prochain tu feras du vé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’année prochaine, elle aura une voit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undi prochain vous viendrez chez mo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lus tard je jouerai sur ma Xbo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Bientôt je saurai condui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AutoShape 3"/>
          <p:cNvSpPr/>
          <p:nvPr/>
        </p:nvSpPr>
        <p:spPr>
          <a:xfrm>
            <a:off x="0" y="527040"/>
            <a:ext cx="2286000" cy="939960"/>
          </a:xfrm>
          <a:prstGeom prst="hexagon">
            <a:avLst>
              <a:gd name="adj" fmla="val 34206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ega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4"/>
          <p:cNvSpPr/>
          <p:nvPr/>
        </p:nvSpPr>
        <p:spPr>
          <a:xfrm>
            <a:off x="0" y="1467000"/>
            <a:ext cx="2316240" cy="939600"/>
          </a:xfrm>
          <a:prstGeom prst="hexagon">
            <a:avLst>
              <a:gd name="adj" fmla="val 34660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o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5"/>
          <p:cNvSpPr/>
          <p:nvPr/>
        </p:nvSpPr>
        <p:spPr>
          <a:xfrm>
            <a:off x="1706400" y="1936800"/>
            <a:ext cx="2318040" cy="939600"/>
          </a:xfrm>
          <a:prstGeom prst="hexagon">
            <a:avLst>
              <a:gd name="adj" fmla="val 34698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0" y="2406600"/>
            <a:ext cx="2316240" cy="939960"/>
          </a:xfrm>
          <a:prstGeom prst="hexagon">
            <a:avLst>
              <a:gd name="adj" fmla="val 34647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7"/>
          <p:cNvSpPr/>
          <p:nvPr/>
        </p:nvSpPr>
        <p:spPr>
          <a:xfrm>
            <a:off x="1706400" y="57240"/>
            <a:ext cx="2318040" cy="939600"/>
          </a:xfrm>
          <a:prstGeom prst="hexagon">
            <a:avLst>
              <a:gd name="adj" fmla="val 34698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jo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8"/>
          <p:cNvSpPr/>
          <p:nvPr/>
        </p:nvSpPr>
        <p:spPr>
          <a:xfrm>
            <a:off x="3414600" y="527040"/>
            <a:ext cx="2318040" cy="939960"/>
          </a:xfrm>
          <a:prstGeom prst="hexagon">
            <a:avLst>
              <a:gd name="adj" fmla="val 34685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e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9"/>
          <p:cNvSpPr/>
          <p:nvPr/>
        </p:nvSpPr>
        <p:spPr>
          <a:xfrm>
            <a:off x="1706400" y="996840"/>
            <a:ext cx="2318040" cy="939960"/>
          </a:xfrm>
          <a:prstGeom prst="hexagon">
            <a:avLst>
              <a:gd name="adj" fmla="val 34685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0"/>
          <p:cNvSpPr/>
          <p:nvPr/>
        </p:nvSpPr>
        <p:spPr>
          <a:xfrm>
            <a:off x="3414600" y="1467000"/>
            <a:ext cx="2318040" cy="939600"/>
          </a:xfrm>
          <a:prstGeom prst="hexagon">
            <a:avLst>
              <a:gd name="adj" fmla="val 34698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1"/>
          <p:cNvSpPr/>
          <p:nvPr/>
        </p:nvSpPr>
        <p:spPr>
          <a:xfrm>
            <a:off x="5122800" y="1936800"/>
            <a:ext cx="2314800" cy="939600"/>
          </a:xfrm>
          <a:prstGeom prst="hexagon">
            <a:avLst>
              <a:gd name="adj" fmla="val 34639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er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2"/>
          <p:cNvSpPr/>
          <p:nvPr/>
        </p:nvSpPr>
        <p:spPr>
          <a:xfrm>
            <a:off x="3414600" y="2406600"/>
            <a:ext cx="2318040" cy="939960"/>
          </a:xfrm>
          <a:prstGeom prst="hexagon">
            <a:avLst>
              <a:gd name="adj" fmla="val 34685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o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3"/>
          <p:cNvSpPr/>
          <p:nvPr/>
        </p:nvSpPr>
        <p:spPr>
          <a:xfrm>
            <a:off x="5122800" y="57240"/>
            <a:ext cx="2314800" cy="939600"/>
          </a:xfrm>
          <a:prstGeom prst="hexagon">
            <a:avLst>
              <a:gd name="adj" fmla="val 34639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f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4"/>
          <p:cNvSpPr/>
          <p:nvPr/>
        </p:nvSpPr>
        <p:spPr>
          <a:xfrm>
            <a:off x="6827760" y="3346560"/>
            <a:ext cx="2316240" cy="939600"/>
          </a:xfrm>
          <a:prstGeom prst="hexagon">
            <a:avLst>
              <a:gd name="adj" fmla="val 34660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i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5"/>
          <p:cNvSpPr/>
          <p:nvPr/>
        </p:nvSpPr>
        <p:spPr>
          <a:xfrm>
            <a:off x="5122800" y="996840"/>
            <a:ext cx="2314800" cy="939960"/>
          </a:xfrm>
          <a:prstGeom prst="hexagon">
            <a:avLst>
              <a:gd name="adj" fmla="val 34625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e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6"/>
          <p:cNvSpPr/>
          <p:nvPr/>
        </p:nvSpPr>
        <p:spPr>
          <a:xfrm>
            <a:off x="3227400" y="3346560"/>
            <a:ext cx="2505240" cy="939600"/>
          </a:xfrm>
          <a:prstGeom prst="hexagon">
            <a:avLst>
              <a:gd name="adj" fmla="val 34699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met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7"/>
          <p:cNvSpPr/>
          <p:nvPr/>
        </p:nvSpPr>
        <p:spPr>
          <a:xfrm>
            <a:off x="0" y="3346560"/>
            <a:ext cx="2316240" cy="939600"/>
          </a:xfrm>
          <a:prstGeom prst="hexagon">
            <a:avLst>
              <a:gd name="adj" fmla="val 34660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ren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8"/>
          <p:cNvSpPr/>
          <p:nvPr/>
        </p:nvSpPr>
        <p:spPr>
          <a:xfrm>
            <a:off x="1706400" y="2876400"/>
            <a:ext cx="2318040" cy="939960"/>
          </a:xfrm>
          <a:prstGeom prst="hexagon">
            <a:avLst>
              <a:gd name="adj" fmla="val 34685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ê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>
            <a:off x="5122800" y="2876400"/>
            <a:ext cx="2314800" cy="939960"/>
          </a:xfrm>
          <a:prstGeom prst="hexagon">
            <a:avLst>
              <a:gd name="adj" fmla="val 34625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v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20"/>
          <p:cNvSpPr/>
          <p:nvPr/>
        </p:nvSpPr>
        <p:spPr>
          <a:xfrm>
            <a:off x="6827760" y="527040"/>
            <a:ext cx="2316240" cy="939960"/>
          </a:xfrm>
          <a:prstGeom prst="hexagon">
            <a:avLst>
              <a:gd name="adj" fmla="val 34647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>
            <a:off x="6827760" y="1467000"/>
            <a:ext cx="2544840" cy="939600"/>
          </a:xfrm>
          <a:prstGeom prst="hexagon">
            <a:avLst>
              <a:gd name="adj" fmla="val 34670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ecevo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22"/>
          <p:cNvSpPr/>
          <p:nvPr/>
        </p:nvSpPr>
        <p:spPr>
          <a:xfrm>
            <a:off x="6827760" y="2406600"/>
            <a:ext cx="2316240" cy="939960"/>
          </a:xfrm>
          <a:prstGeom prst="hexagon">
            <a:avLst>
              <a:gd name="adj" fmla="val 34647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pouvo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3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4"/>
          <p:cNvSpPr/>
          <p:nvPr/>
        </p:nvSpPr>
        <p:spPr>
          <a:xfrm>
            <a:off x="0" y="5143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5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6"/>
          <p:cNvSpPr/>
          <p:nvPr/>
        </p:nvSpPr>
        <p:spPr>
          <a:xfrm>
            <a:off x="0" y="582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8"/>
          <p:cNvSpPr/>
          <p:nvPr/>
        </p:nvSpPr>
        <p:spPr>
          <a:xfrm>
            <a:off x="0" y="651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384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4"/>
          <p:cNvSpPr/>
          <p:nvPr/>
        </p:nvSpPr>
        <p:spPr>
          <a:xfrm>
            <a:off x="457200" y="7621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 </a:t>
            </a: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the part of the verb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you will find in the dictionn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Title 2" descr=""/>
          <p:cNvPicPr/>
          <p:nvPr/>
        </p:nvPicPr>
        <p:blipFill>
          <a:blip r:embed="rId2"/>
          <a:stretch/>
        </p:blipFill>
        <p:spPr>
          <a:xfrm>
            <a:off x="457200" y="17557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55" name="TextBox 7"/>
          <p:cNvSpPr/>
          <p:nvPr/>
        </p:nvSpPr>
        <p:spPr>
          <a:xfrm>
            <a:off x="762120" y="29718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In French there are 3 groups of infini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infinitives ending in ‘E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infinitives ending in ‘I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infinitives ending in ‘R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Title 2" descr=""/>
          <p:cNvPicPr/>
          <p:nvPr/>
        </p:nvPicPr>
        <p:blipFill>
          <a:blip r:embed="rId3"/>
          <a:stretch/>
        </p:blipFill>
        <p:spPr>
          <a:xfrm>
            <a:off x="536400" y="480384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2819160" y="1143000"/>
            <a:ext cx="373356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on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Title 2" descr=""/>
          <p:cNvPicPr/>
          <p:nvPr/>
        </p:nvPicPr>
        <p:blipFill>
          <a:blip r:embed="rId1"/>
          <a:stretch/>
        </p:blipFill>
        <p:spPr>
          <a:xfrm>
            <a:off x="384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3"/>
          <p:cNvSpPr/>
          <p:nvPr/>
        </p:nvSpPr>
        <p:spPr>
          <a:xfrm>
            <a:off x="838080" y="4267080"/>
            <a:ext cx="77724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Lucida Sans Unicode"/>
                <a:ea typeface="Arial"/>
              </a:rPr>
              <a:t>Avec un partenaire, réponds aux question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b05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In your opinion, what are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Lucida Sans Unicode"/>
                <a:ea typeface="Arial"/>
              </a:rPr>
              <a:t>the endings </a:t>
            </a: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which express the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Lucida Sans Unicode"/>
                <a:ea typeface="Arial"/>
              </a:rPr>
              <a:t>“futur simple” </a:t>
            </a: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b05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To what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Lucida Sans Unicode"/>
                <a:ea typeface="Arial"/>
              </a:rPr>
              <a:t>element</a:t>
            </a: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 in the sentence do they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Lucida Sans Unicode"/>
                <a:ea typeface="Arial"/>
              </a:rPr>
              <a:t>adapt /</a:t>
            </a: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 are they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Lucida Sans Unicode"/>
                <a:ea typeface="Arial"/>
              </a:rPr>
              <a:t>changed </a:t>
            </a: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e endings of the </a:t>
            </a:r>
            <a:r>
              <a:rPr b="0" lang="fr-FR" sz="2800" spc="-1" strike="noStrike">
                <a:solidFill>
                  <a:srgbClr val="fd1d1d"/>
                </a:solidFill>
                <a:latin typeface="Comic Sans MS"/>
              </a:rPr>
              <a:t>simple futur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tense are the same as the endings of  </a:t>
            </a:r>
            <a:r>
              <a:rPr b="0" lang="fr-FR" sz="2800" spc="-1" strike="noStrike">
                <a:solidFill>
                  <a:srgbClr val="0099ff"/>
                </a:solidFill>
                <a:latin typeface="Comic Sans MS"/>
              </a:rPr>
              <a:t>‘AVOIR’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in the present tens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b9e8"/>
                </a:solidFill>
                <a:latin typeface="Comic Sans MS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b9e8"/>
                </a:solidFill>
                <a:latin typeface="Comic Sans MS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b9e8"/>
                </a:solidFill>
                <a:latin typeface="Comic Sans MS"/>
              </a:rPr>
              <a:t>a / a / 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b9e8"/>
                </a:solidFill>
                <a:latin typeface="Comic Sans MS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b9e8"/>
                </a:solidFill>
                <a:latin typeface="Comic Sans MS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b9e8"/>
                </a:solidFill>
                <a:latin typeface="Comic Sans MS"/>
              </a:rPr>
              <a:t>ont / o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10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10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10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1000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1000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533520" y="837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Jou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t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Content Placeholder 1"/>
          <p:cNvSpPr/>
          <p:nvPr/>
        </p:nvSpPr>
        <p:spPr>
          <a:xfrm>
            <a:off x="4343400" y="838080"/>
            <a:ext cx="4038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Mang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mang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mang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manger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manger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mang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manger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9:13:49Z</dcterms:created>
  <dc:creator>joannie</dc:creator>
  <dc:description/>
  <dc:language>en-US</dc:language>
  <cp:lastModifiedBy>Clare Seccombe</cp:lastModifiedBy>
  <dcterms:modified xsi:type="dcterms:W3CDTF">2014-04-15T06:09:34Z</dcterms:modified>
  <cp:revision>35</cp:revision>
  <dc:subject/>
  <dc:title>What are the tenses you already know in French ?</dc:title>
</cp:coreProperties>
</file>