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E6EB-9343-47FA-A9DF-739487DC55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B98E-0857-4E85-9147-21EAED7E84C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7F04-AF9C-46EA-B068-495125F4856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23EF-F007-4BA1-8F0B-D1F94FD100E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399D-598B-484F-84BB-25D714EAC7E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74FB-47CF-4110-B655-B899DE54802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D8BD-E0D9-44A1-B67A-3EF83610F86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16B1-4A7D-4F50-AEAB-6A30F9480CB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4A62-ADCB-442F-AA0B-7C20C5FFF30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790-3A64-4E4B-AD58-B4EB6E5E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171-0AD6-48E8-9C1F-CD5B44C4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DE606-85BB-4FFF-90BC-308C96AD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6AFC0-DE51-4E03-AFC9-965539C0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B6761-BFB0-48EA-A340-7AC2DCD1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3E00A-BDA1-45A9-A008-217DEDB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BD731-6161-4802-BB0A-3080A3A0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55DF7-B320-4D91-AF68-4A6556B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B2F60-66F6-4513-92AE-1AACDF77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00EAF-B540-42D3-8FCC-4AFA3BE0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590D4-1030-4420-91DA-9C39EE6C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3C0-563D-464F-8178-8D49C0FE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299-8D38-47E3-88BB-22DEFF21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E619-CF98-42C9-A407-2592F612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F784-6680-4377-A4F0-BA5BBCE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BCDF-1BE1-4D9B-9AB0-F786A7B6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FF6A-D1BB-4A99-92E2-65258C2D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EF6E-05C5-48AF-9707-C40134CD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675F-2438-42A2-9F49-F6CC2874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EAAF-80AF-457E-9F0D-1DA2B301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F52-0575-4802-9E99-EB607EB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C356-BA2E-4739-99DD-D98D0606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7E3A-32EC-4186-AAD2-85563094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B071-A839-4FA8-9793-C2B1A68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B513-254E-4E87-A9C4-E81AA876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6CB9-67E4-4E46-976D-B53B9815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CC58-4F9C-45BD-AF66-98C73AA3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EC30-8A68-472F-9C9A-F3C73286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D3BA-9499-460F-B616-2422B277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180F-6EC1-4814-A377-25262619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26B1-E474-444B-990A-FE0DB12A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556-5697-4930-8761-A10C8B4E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5BD2-0ED0-470A-A94F-3938D759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694A-2E71-42A5-A847-A4A77C27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C410-6C7A-42EC-8206-36E0250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EE6E-DF1A-472C-802B-B19523A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E9E0-49DD-446B-8E27-19C8B12D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4DCD-3406-4E6B-932C-CF066C91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FF2B-8302-4948-AA15-53ECB8EE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E180-08EA-47E3-82DC-08C26836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54DE-67C8-48F5-B5B3-E3FA0C10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CAAF-5684-44B7-A88A-33CA5571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F8D-D6F3-4094-B25A-B7893270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725E2-F083-4775-AD76-0E51C07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4C9B-475D-4CF4-A921-E94B9995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840E-D21A-4ED8-B370-D0AA57B4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0EDA-942B-453F-A373-C609E827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C302-6C32-465F-9EA4-43F25BC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36E03-C708-4238-863C-CF2438DB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DFEB9-F814-433B-87EC-599AFC63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76CF-0535-44A6-8328-3C520CC6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CE9B7-BCF5-4D8D-8338-7BF1B01B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3C1B8-A8DF-4460-8040-57810D6E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A62-FA58-43C0-A127-9BE92E33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D080-DF10-4477-9223-0FC3AD5E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79D05-0306-4E05-AA81-D1FA17C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620D8-95AD-4FD3-A329-E0C8CB2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6F679-D756-4AA0-92FD-A260EB0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9512-B6F2-46E4-BA47-4FAA51CC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E43A-9C3D-4A48-AEDC-4EA2B0F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86D1C-D706-4537-BB08-310F55D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99DA-65B3-4906-8F5F-A89BA36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9712E-A718-44A4-AA43-CBCA59A4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1D7F-B8F8-4ED6-957C-C8080FBC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804-20CF-4326-BC57-A21ACEFF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CDC95-EC15-42A7-BC28-0644BB0A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CEBD6-497E-4C0B-90BB-01C449AF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DF4B-49E3-4667-B34D-A4C07C63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0B76-76DC-437F-8017-D9562BDA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2CF86-DB16-4ECE-A3E9-DCA1C690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FB56A-9A94-4630-902C-63E2A359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9AA0-9254-4C95-9186-6922E2D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E68A9-231E-431F-8E29-3E00113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205F4-A675-4B4C-9CD0-890CBB1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34515-0ADA-41D5-9A70-70A2D10B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B7B-E4EF-44C2-851C-4DDECB9F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BEE69-B323-4B73-8B57-56F43F40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6252-6130-4ACE-BE45-29225EF5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DED1B-3E89-4167-B4BC-2D629C1D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31A4A-2E68-4664-847C-60A5A386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BEB95-8E20-4E4D-B5FB-D8AEC596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E8EF0-B4FB-40FE-BD0D-D93F56CB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798BE-223E-425B-B2FD-D343909E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CE228-3199-4E48-8350-6189C081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49083-15A9-45D2-A116-24CF7ED0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F9D26-FA69-4EE8-A875-92BD2840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007-B957-4280-9C9C-3C9A06C6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FF940-C1CC-45C8-9F78-6804F8F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00ED7-68FC-472B-86B0-994D5620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F47E2-4E92-478C-9CC6-8CCE0947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3193-B2BD-4E80-A149-29F27024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794D4-14B5-4FD7-95E3-6ED3632E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34189-552C-49D5-8759-346CB1B0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36B68-E477-412C-9033-A5BB4D0C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8709E-35CE-4644-9B5D-648C642B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D4CF1-DA33-4374-846A-32A4ED3D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06E32-363E-4AAE-A846-9DE09D9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725-7414-4D28-B047-9D077A10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7218D-4B2A-4DCF-8CFB-28A47AE9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7C98D-6CB2-411E-A0B7-C76AE92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0D78-28A1-4CF6-8706-680CDFF0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AB4C-A33A-4103-B3F3-15CC5DED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8B189-F7DB-497D-81DB-351AC704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54B4D-50D5-4B2A-B2B1-AC0547D4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BF6E4-D3BB-4EEA-8022-0B79A820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FA10A-42EB-428D-98BF-24DA27C2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0A833-E7F9-41F0-AF35-892CC7C6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23BE9-A9FF-4BDB-90F8-9F3060E0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30BF-11DB-4091-9DCA-208EAADE0FBF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0EF9-CB93-4AC5-8FBA-3E4615EBEA80}" type="slidenum">
              <a:rPr b="0" lang="fr-F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D1A9-E99E-4196-8105-C371ABBEED83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E2F6-1124-497E-91EF-1B0A45147DAD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DAAB-F186-4BD8-A196-6E77BCC6DB68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AABB-5A30-4726-8995-A2D9EB9B728F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84F9-5513-4B88-853E-CB819DD59242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5420-93AB-43DA-9B35-A5D4D2D3E6A1}" type="slidenum">
              <a:rPr b="0" lang="fr-F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C4E8-8ECA-4991-B8D8-40293D7704F6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057400" y="228564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Je joue au footbal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Tu as mangé une pizza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Il va regarder la télévision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Nous allons visiter le musé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Vous avez organisé une visit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Elles achètent un livr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3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6868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1828800" y="1371240"/>
            <a:ext cx="5867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Sans Unicode"/>
              </a:rPr>
              <a:t>Mexican wave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Sans Unicode"/>
              </a:rPr>
              <a:t>=&gt; Aussi rapid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Sans Unicode"/>
              </a:rPr>
              <a:t>=&gt; Aussi correct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Lucida Sans Unicode"/>
              </a:rPr>
              <a:t>que possible !!!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Content Placeholder 1"/>
          <p:cNvSpPr/>
          <p:nvPr/>
        </p:nvSpPr>
        <p:spPr>
          <a:xfrm>
            <a:off x="4343400" y="8380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Regar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regard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regard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regard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regarder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regard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regarder 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228600" y="9140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Content Placeholder 1"/>
          <p:cNvSpPr/>
          <p:nvPr/>
        </p:nvSpPr>
        <p:spPr>
          <a:xfrm>
            <a:off x="3886200" y="914400"/>
            <a:ext cx="4800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Téléphon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téléphon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téléphon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téléphon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téléphoner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téléphon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téléphoner 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Content Placeholder 1"/>
          <p:cNvSpPr/>
          <p:nvPr/>
        </p:nvSpPr>
        <p:spPr>
          <a:xfrm>
            <a:off x="4343400" y="8380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Chan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chang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chang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chang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changer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chang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changer 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Content Placeholder 1"/>
          <p:cNvSpPr/>
          <p:nvPr/>
        </p:nvSpPr>
        <p:spPr>
          <a:xfrm>
            <a:off x="4343400" y="8380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Visi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visit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visit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visit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visiter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visit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visiter 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Content Placeholder 1"/>
          <p:cNvSpPr/>
          <p:nvPr/>
        </p:nvSpPr>
        <p:spPr>
          <a:xfrm>
            <a:off x="4343400" y="8380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Présen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présent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présent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présenter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présenter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présenter 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présenter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Content Placeholder 1"/>
          <p:cNvSpPr/>
          <p:nvPr/>
        </p:nvSpPr>
        <p:spPr>
          <a:xfrm>
            <a:off x="304920" y="10666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Arr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’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arriv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arriv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_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ontent Placeholder 1"/>
          <p:cNvSpPr/>
          <p:nvPr/>
        </p:nvSpPr>
        <p:spPr>
          <a:xfrm>
            <a:off x="4419720" y="10666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Par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parler 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___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1523880" y="228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Complétez, dans le cah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C:\Users\joannie\AppData\Local\Microsoft\Windows\Temporary Internet Files\Content.IE5\YPR40YF9\MCj04134600000[1].wmf"/>
          <p:cNvPicPr/>
          <p:nvPr/>
        </p:nvPicPr>
        <p:blipFill>
          <a:blip r:embed="rId1"/>
          <a:stretch/>
        </p:blipFill>
        <p:spPr>
          <a:xfrm>
            <a:off x="7467480" y="0"/>
            <a:ext cx="1262160" cy="13381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9"/>
          <p:cNvSpPr/>
          <p:nvPr/>
        </p:nvSpPr>
        <p:spPr>
          <a:xfrm>
            <a:off x="2021040" y="541008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ons / ai / a / as /ez / o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Content Placeholder 1"/>
          <p:cNvSpPr/>
          <p:nvPr/>
        </p:nvSpPr>
        <p:spPr>
          <a:xfrm>
            <a:off x="304920" y="10666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Arr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’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arriv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tent Placeholder 1"/>
          <p:cNvSpPr/>
          <p:nvPr/>
        </p:nvSpPr>
        <p:spPr>
          <a:xfrm>
            <a:off x="4419720" y="1066680"/>
            <a:ext cx="4343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Par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parler</a:t>
            </a:r>
            <a:r>
              <a:rPr b="0" lang="en-GB" sz="2800" spc="-1" strike="noStrike">
                <a:solidFill>
                  <a:srgbClr val="ff0000"/>
                </a:solidFill>
                <a:latin typeface="Lucida Sans Unicode"/>
                <a:ea typeface="Arial"/>
              </a:rPr>
              <a:t>ont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8"/>
          <p:cNvSpPr/>
          <p:nvPr/>
        </p:nvSpPr>
        <p:spPr>
          <a:xfrm>
            <a:off x="1523880" y="228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Complétez, dans le cah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C:\Users\joannie\AppData\Local\Microsoft\Windows\Temporary Internet Files\Content.IE5\YPR40YF9\MCj04134600000[1].wmf"/>
          <p:cNvPicPr/>
          <p:nvPr/>
        </p:nvPicPr>
        <p:blipFill>
          <a:blip r:embed="rId1"/>
          <a:stretch/>
        </p:blipFill>
        <p:spPr>
          <a:xfrm>
            <a:off x="7467480" y="0"/>
            <a:ext cx="1262160" cy="13381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9"/>
          <p:cNvSpPr/>
          <p:nvPr/>
        </p:nvSpPr>
        <p:spPr>
          <a:xfrm>
            <a:off x="1944720" y="541008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ons / ai / a / as /ez / o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b050"/>
                </a:solidFill>
                <a:latin typeface="Lucida Sans Unicode"/>
              </a:rPr>
              <a:t>Infinitive of the verb </a:t>
            </a:r>
            <a:r>
              <a:rPr b="1" lang="en-GB" sz="2700" spc="-1" strike="noStrike">
                <a:solidFill>
                  <a:srgbClr val="0070c0"/>
                </a:solidFill>
                <a:latin typeface="Lucida Sans Unicode"/>
              </a:rPr>
              <a:t>+ </a:t>
            </a:r>
            <a:r>
              <a:rPr b="1" lang="en-GB" sz="2700" spc="-1" strike="noStrike">
                <a:solidFill>
                  <a:srgbClr val="00b050"/>
                </a:solidFill>
                <a:latin typeface="Lucida Sans Unicode"/>
              </a:rPr>
              <a:t>ending according to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Je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initive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a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Tu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Il / elle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   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Nous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   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Vous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   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 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ez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Ils / Elles   </a:t>
            </a:r>
            <a:r>
              <a:rPr b="1" lang="en-GB" sz="2300" spc="-1" strike="noStrike">
                <a:solidFill>
                  <a:srgbClr val="0070c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inf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	</a:t>
            </a:r>
            <a:r>
              <a:rPr b="1" lang="en-GB" sz="2300" spc="-1" strike="noStrike">
                <a:solidFill>
                  <a:srgbClr val="00b050"/>
                </a:solidFill>
                <a:latin typeface="Lucida Sans Unicode"/>
              </a:rPr>
              <a:t>+ ont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266720" y="12193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b050"/>
                </a:solidFill>
                <a:latin typeface="Lucida Sans Unicode"/>
              </a:rPr>
              <a:t>Aller is irregular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J’ira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Tu ir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Il / elle ir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Nous ir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Vous irez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3171e"/>
                </a:solidFill>
                <a:latin typeface="Lucida Sans Unicode"/>
              </a:rPr>
              <a:t>Ils iro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438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Tit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"/>
          <p:cNvSpPr/>
          <p:nvPr/>
        </p:nvSpPr>
        <p:spPr>
          <a:xfrm>
            <a:off x="2649600" y="5943600"/>
            <a:ext cx="636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b050"/>
                </a:solidFill>
                <a:latin typeface="Lucida Sans Unicode"/>
                <a:ea typeface="Arial"/>
              </a:rPr>
              <a:t>What makes it an irregular verb 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762120" y="1219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Arial"/>
                <a:ea typeface="Arial"/>
              </a:rPr>
              <a:t>J’allerais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Arial"/>
                <a:ea typeface="Arial"/>
              </a:rPr>
              <a:t>Non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057400" y="159984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Je joue au footbal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Tu as mangé une pizza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Il va regarder la télévision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Nous allons visiter le musé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Vous avez organisé une visit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Elles achètent un livr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le 3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686800" cy="11397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5"/>
          <p:cNvSpPr/>
          <p:nvPr/>
        </p:nvSpPr>
        <p:spPr>
          <a:xfrm>
            <a:off x="2743200" y="590400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ré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i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28600" y="4724280"/>
            <a:ext cx="1905120" cy="94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assé compo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5105520" y="4648320"/>
            <a:ext cx="190476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futur pro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8"/>
          <p:cNvCxnSpPr/>
          <p:nvPr/>
        </p:nvCxnSpPr>
        <p:spPr>
          <a:xfrm>
            <a:off x="304560" y="5638320"/>
            <a:ext cx="8382600" cy="25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32" name="Picture 2" descr="C:\Users\joannie\AppData\Local\Microsoft\Windows\Temporary Internet Files\Content.IE5\2XARPT0B\MCj04325330000[1].png"/>
          <p:cNvPicPr/>
          <p:nvPr/>
        </p:nvPicPr>
        <p:blipFill>
          <a:blip r:embed="rId2"/>
          <a:stretch/>
        </p:blipFill>
        <p:spPr>
          <a:xfrm>
            <a:off x="3276720" y="5334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838080" y="2133720"/>
            <a:ext cx="22860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Tu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3" name="Title 2" descr=""/>
          <p:cNvPicPr/>
          <p:nvPr/>
        </p:nvPicPr>
        <p:blipFill>
          <a:blip r:embed="rId1"/>
          <a:stretch/>
        </p:blipFill>
        <p:spPr>
          <a:xfrm>
            <a:off x="1450800" y="152280"/>
            <a:ext cx="5791320" cy="1676520"/>
          </a:xfrm>
          <a:prstGeom prst="rect">
            <a:avLst/>
          </a:prstGeom>
          <a:ln w="0">
            <a:noFill/>
          </a:ln>
        </p:spPr>
      </p:pic>
      <p:sp>
        <p:nvSpPr>
          <p:cNvPr id="494" name="Content Placeholder 1"/>
          <p:cNvSpPr/>
          <p:nvPr/>
        </p:nvSpPr>
        <p:spPr>
          <a:xfrm>
            <a:off x="5486400" y="2209680"/>
            <a:ext cx="28195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Reg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Jo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r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Par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M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l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20574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838080" y="2133720"/>
            <a:ext cx="22860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Tu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2" descr=""/>
          <p:cNvPicPr/>
          <p:nvPr/>
        </p:nvPicPr>
        <p:blipFill>
          <a:blip r:embed="rId1"/>
          <a:stretch/>
        </p:blipFill>
        <p:spPr>
          <a:xfrm>
            <a:off x="1450800" y="152280"/>
            <a:ext cx="5791320" cy="1676520"/>
          </a:xfrm>
          <a:prstGeom prst="rect">
            <a:avLst/>
          </a:prstGeom>
          <a:ln w="0">
            <a:noFill/>
          </a:ln>
        </p:spPr>
      </p:pic>
      <p:sp>
        <p:nvSpPr>
          <p:cNvPr id="498" name="Content Placeholder 1"/>
          <p:cNvSpPr/>
          <p:nvPr/>
        </p:nvSpPr>
        <p:spPr>
          <a:xfrm>
            <a:off x="5257800" y="2209680"/>
            <a:ext cx="304812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Teléph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Prés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C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Do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20574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838080" y="2133720"/>
            <a:ext cx="22860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Tu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Lucida Sans Unicode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53680" indent="-457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Title 2" descr=""/>
          <p:cNvPicPr/>
          <p:nvPr/>
        </p:nvPicPr>
        <p:blipFill>
          <a:blip r:embed="rId1"/>
          <a:stretch/>
        </p:blipFill>
        <p:spPr>
          <a:xfrm>
            <a:off x="1450800" y="152280"/>
            <a:ext cx="5791320" cy="1676520"/>
          </a:xfrm>
          <a:prstGeom prst="rect">
            <a:avLst/>
          </a:prstGeom>
          <a:ln w="0">
            <a:noFill/>
          </a:ln>
        </p:spPr>
      </p:pic>
      <p:sp>
        <p:nvSpPr>
          <p:cNvPr id="502" name="Content Placeholder 1"/>
          <p:cNvSpPr/>
          <p:nvPr/>
        </p:nvSpPr>
        <p:spPr>
          <a:xfrm>
            <a:off x="5257800" y="2209680"/>
            <a:ext cx="3048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Trou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A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Répa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Dem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3a276"/>
                </a:solidFill>
                <a:latin typeface="Lucida Sans Unicode"/>
              </a:rPr>
              <a:t>Bava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20574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2"/>
          <p:cNvSpPr/>
          <p:nvPr/>
        </p:nvSpPr>
        <p:spPr>
          <a:xfrm>
            <a:off x="28195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"/>
          <p:cNvSpPr/>
          <p:nvPr/>
        </p:nvSpPr>
        <p:spPr>
          <a:xfrm>
            <a:off x="60199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4"/>
          <p:cNvSpPr/>
          <p:nvPr/>
        </p:nvSpPr>
        <p:spPr>
          <a:xfrm>
            <a:off x="805320" y="914400"/>
            <a:ext cx="152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ar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6701040" y="4952880"/>
            <a:ext cx="135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ou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3615120" y="5029200"/>
            <a:ext cx="197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g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7"/>
          <p:cNvSpPr/>
          <p:nvPr/>
        </p:nvSpPr>
        <p:spPr>
          <a:xfrm>
            <a:off x="412560" y="5029200"/>
            <a:ext cx="217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és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8"/>
          <p:cNvSpPr/>
          <p:nvPr/>
        </p:nvSpPr>
        <p:spPr>
          <a:xfrm>
            <a:off x="268200" y="2895480"/>
            <a:ext cx="25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élépho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>
            <a:off x="3547800" y="2819520"/>
            <a:ext cx="213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0"/>
          <p:cNvSpPr/>
          <p:nvPr/>
        </p:nvSpPr>
        <p:spPr>
          <a:xfrm>
            <a:off x="6825600" y="2819520"/>
            <a:ext cx="18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1"/>
          <p:cNvSpPr/>
          <p:nvPr/>
        </p:nvSpPr>
        <p:spPr>
          <a:xfrm>
            <a:off x="3393000" y="838080"/>
            <a:ext cx="168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rri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2"/>
          <p:cNvSpPr/>
          <p:nvPr/>
        </p:nvSpPr>
        <p:spPr>
          <a:xfrm>
            <a:off x="6758640" y="838080"/>
            <a:ext cx="18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2"/>
          <p:cNvSpPr/>
          <p:nvPr/>
        </p:nvSpPr>
        <p:spPr>
          <a:xfrm>
            <a:off x="28195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"/>
          <p:cNvSpPr/>
          <p:nvPr/>
        </p:nvSpPr>
        <p:spPr>
          <a:xfrm>
            <a:off x="60199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33400" y="914400"/>
            <a:ext cx="135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o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5"/>
          <p:cNvSpPr/>
          <p:nvPr/>
        </p:nvSpPr>
        <p:spPr>
          <a:xfrm>
            <a:off x="6661080" y="4952880"/>
            <a:ext cx="217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és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3637440" y="5029200"/>
            <a:ext cx="190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7"/>
          <p:cNvSpPr/>
          <p:nvPr/>
        </p:nvSpPr>
        <p:spPr>
          <a:xfrm>
            <a:off x="431640" y="5029200"/>
            <a:ext cx="24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éléph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265680" y="2895480"/>
            <a:ext cx="205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g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9"/>
          <p:cNvSpPr/>
          <p:nvPr/>
        </p:nvSpPr>
        <p:spPr>
          <a:xfrm>
            <a:off x="3535920" y="2819520"/>
            <a:ext cx="14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ar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0"/>
          <p:cNvSpPr/>
          <p:nvPr/>
        </p:nvSpPr>
        <p:spPr>
          <a:xfrm>
            <a:off x="6820560" y="2819520"/>
            <a:ext cx="16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r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1"/>
          <p:cNvSpPr/>
          <p:nvPr/>
        </p:nvSpPr>
        <p:spPr>
          <a:xfrm>
            <a:off x="3391920" y="838080"/>
            <a:ext cx="22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2"/>
          <p:cNvSpPr/>
          <p:nvPr/>
        </p:nvSpPr>
        <p:spPr>
          <a:xfrm>
            <a:off x="6758640" y="838080"/>
            <a:ext cx="18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Line 2"/>
          <p:cNvSpPr/>
          <p:nvPr/>
        </p:nvSpPr>
        <p:spPr>
          <a:xfrm>
            <a:off x="28195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"/>
          <p:cNvSpPr/>
          <p:nvPr/>
        </p:nvSpPr>
        <p:spPr>
          <a:xfrm>
            <a:off x="60199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4"/>
          <p:cNvSpPr/>
          <p:nvPr/>
        </p:nvSpPr>
        <p:spPr>
          <a:xfrm>
            <a:off x="821880" y="914400"/>
            <a:ext cx="124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o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5"/>
          <p:cNvSpPr/>
          <p:nvPr/>
        </p:nvSpPr>
        <p:spPr>
          <a:xfrm>
            <a:off x="6661080" y="4952880"/>
            <a:ext cx="217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és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6"/>
          <p:cNvSpPr/>
          <p:nvPr/>
        </p:nvSpPr>
        <p:spPr>
          <a:xfrm>
            <a:off x="3637440" y="5029200"/>
            <a:ext cx="190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7"/>
          <p:cNvSpPr/>
          <p:nvPr/>
        </p:nvSpPr>
        <p:spPr>
          <a:xfrm>
            <a:off x="431640" y="5029200"/>
            <a:ext cx="24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éléph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8"/>
          <p:cNvSpPr/>
          <p:nvPr/>
        </p:nvSpPr>
        <p:spPr>
          <a:xfrm>
            <a:off x="265680" y="2895480"/>
            <a:ext cx="205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g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9"/>
          <p:cNvSpPr/>
          <p:nvPr/>
        </p:nvSpPr>
        <p:spPr>
          <a:xfrm>
            <a:off x="3535920" y="2819520"/>
            <a:ext cx="14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ar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0"/>
          <p:cNvSpPr/>
          <p:nvPr/>
        </p:nvSpPr>
        <p:spPr>
          <a:xfrm>
            <a:off x="6820560" y="2819520"/>
            <a:ext cx="16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r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1"/>
          <p:cNvSpPr/>
          <p:nvPr/>
        </p:nvSpPr>
        <p:spPr>
          <a:xfrm>
            <a:off x="3391920" y="838080"/>
            <a:ext cx="22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2"/>
          <p:cNvSpPr/>
          <p:nvPr/>
        </p:nvSpPr>
        <p:spPr>
          <a:xfrm>
            <a:off x="6758640" y="838080"/>
            <a:ext cx="18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469800" y="0"/>
            <a:ext cx="8382240" cy="1432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8" descr="Tennis_-_Equipment_18"/>
          <p:cNvPicPr/>
          <p:nvPr/>
        </p:nvPicPr>
        <p:blipFill>
          <a:blip r:embed="rId2"/>
          <a:stretch/>
        </p:blipFill>
        <p:spPr>
          <a:xfrm>
            <a:off x="755640" y="1413000"/>
            <a:ext cx="1557360" cy="1655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2" descr="sleep"/>
          <p:cNvPicPr/>
          <p:nvPr/>
        </p:nvPicPr>
        <p:blipFill>
          <a:blip r:embed="rId3"/>
          <a:stretch/>
        </p:blipFill>
        <p:spPr>
          <a:xfrm>
            <a:off x="611280" y="3284640"/>
            <a:ext cx="1890720" cy="1101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5" descr="Candy"/>
          <p:cNvPicPr/>
          <p:nvPr/>
        </p:nvPicPr>
        <p:blipFill>
          <a:blip r:embed="rId4"/>
          <a:stretch/>
        </p:blipFill>
        <p:spPr>
          <a:xfrm>
            <a:off x="5003640" y="1413000"/>
            <a:ext cx="1312920" cy="1268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1" descr="GUP011"/>
          <p:cNvPicPr/>
          <p:nvPr/>
        </p:nvPicPr>
        <p:blipFill>
          <a:blip r:embed="rId5"/>
          <a:stretch/>
        </p:blipFill>
        <p:spPr>
          <a:xfrm>
            <a:off x="684360" y="4653000"/>
            <a:ext cx="1726920" cy="15764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900000" y="278136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108000" y="1557360"/>
            <a:ext cx="503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4500720" y="1557360"/>
            <a:ext cx="502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179280" y="4724280"/>
            <a:ext cx="503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179280" y="3284640"/>
            <a:ext cx="503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0" descr="1609832"/>
          <p:cNvPicPr/>
          <p:nvPr/>
        </p:nvPicPr>
        <p:blipFill>
          <a:blip r:embed="rId6"/>
          <a:stretch/>
        </p:blipFill>
        <p:spPr>
          <a:xfrm>
            <a:off x="5003640" y="4653000"/>
            <a:ext cx="1468440" cy="151272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41"/>
          <p:cNvSpPr/>
          <p:nvPr/>
        </p:nvSpPr>
        <p:spPr>
          <a:xfrm>
            <a:off x="4572000" y="2997360"/>
            <a:ext cx="503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2"/>
          <p:cNvSpPr/>
          <p:nvPr/>
        </p:nvSpPr>
        <p:spPr>
          <a:xfrm>
            <a:off x="4572000" y="4653000"/>
            <a:ext cx="503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d1d1d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3"/>
          <p:cNvSpPr/>
          <p:nvPr/>
        </p:nvSpPr>
        <p:spPr>
          <a:xfrm>
            <a:off x="6588000" y="3141720"/>
            <a:ext cx="208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At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You (friend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5"/>
          <p:cNvSpPr/>
          <p:nvPr/>
        </p:nvSpPr>
        <p:spPr>
          <a:xfrm>
            <a:off x="2556000" y="4724280"/>
            <a:ext cx="2087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Tomorrow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3640" y="1628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Next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My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516720" y="4869000"/>
            <a:ext cx="230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Nex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My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9" descr="music_clipart_notes"/>
          <p:cNvPicPr/>
          <p:nvPr/>
        </p:nvPicPr>
        <p:blipFill>
          <a:blip r:embed="rId7"/>
          <a:stretch/>
        </p:blipFill>
        <p:spPr>
          <a:xfrm>
            <a:off x="4932360" y="2997360"/>
            <a:ext cx="1657440" cy="10778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50"/>
          <p:cNvSpPr/>
          <p:nvPr/>
        </p:nvSpPr>
        <p:spPr>
          <a:xfrm>
            <a:off x="2411280" y="1413000"/>
            <a:ext cx="2087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Tom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2556000" y="3357720"/>
            <a:ext cx="2087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This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lospitufos"/>
          <p:cNvPicPr/>
          <p:nvPr/>
        </p:nvPicPr>
        <p:blipFill>
          <a:blip r:embed="rId1"/>
          <a:stretch/>
        </p:blipFill>
        <p:spPr>
          <a:xfrm>
            <a:off x="0" y="115920"/>
            <a:ext cx="2381400" cy="26668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6"/>
          <p:cNvSpPr/>
          <p:nvPr/>
        </p:nvSpPr>
        <p:spPr>
          <a:xfrm>
            <a:off x="2411280" y="53352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a1f28"/>
                </a:solidFill>
                <a:latin typeface="Arial"/>
                <a:ea typeface="Arial"/>
              </a:rPr>
              <a:t>Do you remember how to form the future te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2195640" y="333360"/>
            <a:ext cx="6480000" cy="1295280"/>
          </a:xfrm>
          <a:prstGeom prst="wedgeRoundRectCallout">
            <a:avLst>
              <a:gd name="adj1" fmla="val -47796"/>
              <a:gd name="adj2" fmla="val 76347"/>
              <a:gd name="adj3" fmla="val 16667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1042920" y="3211560"/>
            <a:ext cx="741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the infinitive of the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 the correct ‘avoir’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verb ends in RE, drop off the E before adding the en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WordArt 4"/>
          <p:cNvSpPr txBox="1"/>
          <p:nvPr/>
        </p:nvSpPr>
        <p:spPr>
          <a:xfrm>
            <a:off x="272880" y="3933720"/>
            <a:ext cx="862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My mum will sing after my exa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8" name="WordArt 5"/>
          <p:cNvSpPr txBox="1"/>
          <p:nvPr/>
        </p:nvSpPr>
        <p:spPr>
          <a:xfrm>
            <a:off x="1692360" y="549360"/>
            <a:ext cx="59148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I will dance with Pam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3276720" y="1484280"/>
            <a:ext cx="1584360" cy="792360"/>
            <a:chOff x="3276720" y="1484280"/>
            <a:chExt cx="1584360" cy="792360"/>
          </a:xfrm>
        </p:grpSpPr>
        <p:sp>
          <p:nvSpPr>
            <p:cNvPr id="570" name="Line 6"/>
            <p:cNvSpPr/>
            <p:nvPr/>
          </p:nvSpPr>
          <p:spPr>
            <a:xfrm>
              <a:off x="3276720" y="1484280"/>
              <a:ext cx="15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7"/>
            <p:cNvSpPr/>
            <p:nvPr/>
          </p:nvSpPr>
          <p:spPr>
            <a:xfrm>
              <a:off x="4140360" y="1484280"/>
              <a:ext cx="0" cy="7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9"/>
          <p:cNvSpPr/>
          <p:nvPr/>
        </p:nvSpPr>
        <p:spPr>
          <a:xfrm>
            <a:off x="342108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61080" y="22766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Arial"/>
                <a:ea typeface="Arial"/>
              </a:rPr>
              <a:t>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2771640" y="2276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5364000" y="2276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avec P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539640" y="51577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Ma mère chanter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 après mon exa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WordArt 5"/>
          <p:cNvSpPr txBox="1"/>
          <p:nvPr/>
        </p:nvSpPr>
        <p:spPr>
          <a:xfrm>
            <a:off x="2843280" y="549360"/>
            <a:ext cx="3562200" cy="21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rregular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erbs!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8" name="Picture 6" descr="Man looking at large stack of documents on desk, grimacing"/>
          <p:cNvPicPr/>
          <p:nvPr/>
        </p:nvPicPr>
        <p:blipFill>
          <a:blip r:embed="rId1"/>
          <a:stretch/>
        </p:blipFill>
        <p:spPr>
          <a:xfrm>
            <a:off x="3635280" y="3500280"/>
            <a:ext cx="217980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Content Placeholder 4"/>
          <p:cNvSpPr/>
          <p:nvPr/>
        </p:nvSpPr>
        <p:spPr>
          <a:xfrm>
            <a:off x="2057400" y="1676520"/>
            <a:ext cx="5562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Je joue au footb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Tu as mangé une pizz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Il va regarder la télé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Nous allons visiter le musé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Vous avez organisé une visi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Elles achètent un liv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057400" y="16761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Je joue au footbal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Lucida Sans Unicode"/>
              </a:rPr>
              <a:t>Tu as mangé une pizza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000"/>
                </a:solidFill>
                <a:latin typeface="Lucida Sans Unicode"/>
              </a:rPr>
              <a:t>Il va regarder la télévision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000"/>
                </a:solidFill>
                <a:latin typeface="Lucida Sans Unicode"/>
              </a:rPr>
              <a:t>Nous allons visiter le musé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Lucida Sans Unicode"/>
              </a:rPr>
              <a:t>Vous avez organisé une visit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Elles achètent un livre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3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686800" cy="11397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5"/>
          <p:cNvSpPr/>
          <p:nvPr/>
        </p:nvSpPr>
        <p:spPr>
          <a:xfrm>
            <a:off x="2895480" y="590400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ré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i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6"/>
          <p:cNvSpPr/>
          <p:nvPr/>
        </p:nvSpPr>
        <p:spPr>
          <a:xfrm>
            <a:off x="228600" y="4724280"/>
            <a:ext cx="1905120" cy="94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assé compo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5105520" y="4648320"/>
            <a:ext cx="190476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futur pro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Straight Arrow Connector 9"/>
          <p:cNvCxnSpPr/>
          <p:nvPr/>
        </p:nvCxnSpPr>
        <p:spPr>
          <a:xfrm>
            <a:off x="304560" y="5638320"/>
            <a:ext cx="8382600" cy="25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40" name="Picture 2" descr="C:\Users\joannie\AppData\Local\Microsoft\Windows\Temporary Internet Files\Content.IE5\2XARPT0B\MCj04325330000[1].png"/>
          <p:cNvPicPr/>
          <p:nvPr/>
        </p:nvPicPr>
        <p:blipFill>
          <a:blip r:embed="rId2"/>
          <a:stretch/>
        </p:blipFill>
        <p:spPr>
          <a:xfrm>
            <a:off x="3200400" y="5410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4"/>
          <p:cNvSpPr/>
          <p:nvPr/>
        </p:nvSpPr>
        <p:spPr>
          <a:xfrm>
            <a:off x="205092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Big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ha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</a:t>
            </a:r>
            <a:r>
              <a:rPr b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’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au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Êt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b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s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ll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g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</a:t>
            </a:r>
            <a:r>
              <a:rPr b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’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i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i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do/mak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f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6588000" y="2421000"/>
            <a:ext cx="1729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588000" y="3068640"/>
            <a:ext cx="1729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6588000" y="3645000"/>
            <a:ext cx="17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6588000" y="4292640"/>
            <a:ext cx="1729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9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7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24000" y="1905120"/>
            <a:ext cx="3743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J’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Tu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Il/elle/on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Nous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Vous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Ils/elles 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6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4"/>
          <p:cNvSpPr/>
          <p:nvPr/>
        </p:nvSpPr>
        <p:spPr>
          <a:xfrm>
            <a:off x="2819520" y="35053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371600" y="251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523880" y="29718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2590920" y="4800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2819520" y="342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1905120" y="43434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057400" y="38862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4067280" y="1916280"/>
            <a:ext cx="507672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I 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You will go (in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He/she/one 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e 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You will go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(formal/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They will go (masc/f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98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898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98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98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98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898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898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98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98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98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98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98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24000" y="1905120"/>
            <a:ext cx="3743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Je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Tu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Il/elle/on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Nous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Vous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4b9e8"/>
                </a:solidFill>
                <a:latin typeface="Comic Sans MS"/>
              </a:rPr>
              <a:t>Ils/elles 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6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1979640" y="2565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197964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3059280" y="5516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3276720" y="3789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2340000" y="4941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2411280" y="4365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Comic Sans MS"/>
                <a:ea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4067280" y="1916280"/>
            <a:ext cx="507672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You will do (in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He/she/one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e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You will d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formal/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1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They will d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masc/f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98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98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98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898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98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898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898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898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898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98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98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898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1620720" y="26028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Best Of The 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611280" y="1341360"/>
            <a:ext cx="82072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het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bu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’achèt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ur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ru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cour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have t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dev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nvoy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se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</a:t>
            </a:r>
            <a:r>
              <a:rPr b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’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enver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u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be abl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pour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ce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rece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recevrai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a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know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sau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en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com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viend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se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ver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ouloi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Arial"/>
              </a:rPr>
              <a:t>- to wan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Arial"/>
                <a:ea typeface="Arial"/>
              </a:rPr>
              <a:t>- je voud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diary &amp; coffee cup"/>
          <p:cNvPicPr/>
          <p:nvPr/>
        </p:nvPicPr>
        <p:blipFill>
          <a:blip r:embed="rId1"/>
          <a:stretch/>
        </p:blipFill>
        <p:spPr>
          <a:xfrm>
            <a:off x="6488280" y="4527720"/>
            <a:ext cx="2655720" cy="23302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5"/>
          <p:cNvSpPr/>
          <p:nvPr/>
        </p:nvSpPr>
        <p:spPr>
          <a:xfrm>
            <a:off x="826920" y="302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e o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324000" y="966960"/>
            <a:ext cx="5616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fais ce que tu veu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vais là où tu v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aime ce que tu aim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crois ce que tu cro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pleure quand tu pleu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t je ris quand tu r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fuis ce que tu fu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t je meurs quand tu m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8" descr="Cupid with bow and arrow, side view"/>
          <p:cNvPicPr/>
          <p:nvPr/>
        </p:nvPicPr>
        <p:blipFill>
          <a:blip r:embed="rId2"/>
          <a:stretch/>
        </p:blipFill>
        <p:spPr>
          <a:xfrm>
            <a:off x="6227640" y="620640"/>
            <a:ext cx="18702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6" descr="diary &amp; coffee cup"/>
          <p:cNvPicPr/>
          <p:nvPr/>
        </p:nvPicPr>
        <p:blipFill>
          <a:blip r:embed="rId1"/>
          <a:stretch/>
        </p:blipFill>
        <p:spPr>
          <a:xfrm>
            <a:off x="6488280" y="4527720"/>
            <a:ext cx="2655720" cy="23302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6920" y="302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e o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324000" y="966960"/>
            <a:ext cx="669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fe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ce que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voud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i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là où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i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’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aime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ce que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aime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croirai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ce que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croi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pleure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quand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pleure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t 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ri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quand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ri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fui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ce que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fui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t je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mourra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quand tu </a:t>
            </a:r>
            <a:r>
              <a:rPr b="0" lang="fr-FR" sz="1800" spc="-1" strike="noStrike">
                <a:solidFill>
                  <a:srgbClr val="da1f28"/>
                </a:solidFill>
                <a:latin typeface="Arial"/>
                <a:ea typeface="Arial"/>
              </a:rPr>
              <a:t>mourr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0" descr="Cupid with bow and arrow, side view"/>
          <p:cNvPicPr/>
          <p:nvPr/>
        </p:nvPicPr>
        <p:blipFill>
          <a:blip r:embed="rId2"/>
          <a:stretch/>
        </p:blipFill>
        <p:spPr>
          <a:xfrm>
            <a:off x="6227640" y="620640"/>
            <a:ext cx="18702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Title 1" descr=""/>
          <p:cNvPicPr/>
          <p:nvPr/>
        </p:nvPicPr>
        <p:blipFill>
          <a:blip r:embed="rId1"/>
          <a:stretch/>
        </p:blipFill>
        <p:spPr>
          <a:xfrm>
            <a:off x="725400" y="106056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Je –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Tu –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Il/elle/on –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Nous –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Vous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Lucida Sans Unicode"/>
              </a:rPr>
              <a:t>Ils/elles -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17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I will g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 will ha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 will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I will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I will be able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6. I will have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7. I will kn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8. I will c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9. I will s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0. I will w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457200" y="148104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I will g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 will ha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 will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I will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I will be able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6. I will have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7. I will kn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8. I will c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9. I will s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0. I will w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22" name="Content Placeholder 2"/>
          <p:cNvSpPr/>
          <p:nvPr/>
        </p:nvSpPr>
        <p:spPr>
          <a:xfrm>
            <a:off x="4343400" y="1523880"/>
            <a:ext cx="3733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. j’i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. j’au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3. je se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4. je fe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5. je pour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6. je dev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7. je sau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8. je viend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9. je ver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0. je viendra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3"/>
          <p:cNvSpPr/>
          <p:nvPr/>
        </p:nvSpPr>
        <p:spPr>
          <a:xfrm>
            <a:off x="2286000" y="281952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ré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i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380880" y="1676520"/>
            <a:ext cx="1905120" cy="94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passé compo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343400" y="1600200"/>
            <a:ext cx="190512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futur pro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Straight Arrow Connector 6"/>
          <p:cNvCxnSpPr/>
          <p:nvPr/>
        </p:nvCxnSpPr>
        <p:spPr>
          <a:xfrm>
            <a:off x="456840" y="2590920"/>
            <a:ext cx="8382600" cy="2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446" name="TextBox 7"/>
          <p:cNvSpPr/>
          <p:nvPr/>
        </p:nvSpPr>
        <p:spPr>
          <a:xfrm>
            <a:off x="6400800" y="2819520"/>
            <a:ext cx="16002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Le futur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C:\Users\joannie\AppData\Local\Microsoft\Windows\Temporary Internet Files\Content.IE5\2XARPT0B\MCj04325330000[1].png"/>
          <p:cNvPicPr/>
          <p:nvPr/>
        </p:nvPicPr>
        <p:blipFill>
          <a:blip r:embed="rId2"/>
          <a:stretch/>
        </p:blipFill>
        <p:spPr>
          <a:xfrm>
            <a:off x="28195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Users\joannie\AppData\Local\Microsoft\Windows\Temporary Internet Files\Content.IE5\2XARPT0B\MCj04325330000[1].png"/>
          <p:cNvPicPr/>
          <p:nvPr/>
        </p:nvPicPr>
        <p:blipFill>
          <a:blip r:embed="rId3"/>
          <a:stretch/>
        </p:blipFill>
        <p:spPr>
          <a:xfrm>
            <a:off x="6937200" y="2365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1"/>
          <p:cNvSpPr/>
          <p:nvPr/>
        </p:nvSpPr>
        <p:spPr>
          <a:xfrm>
            <a:off x="609480" y="44197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The future tense is used to describe something that is going to happen or will / shall happen later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morrow I will watch T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night he will be tir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 we will go to the swimming p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morrow I will watch T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night he will be tir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 we will go to the swimming p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onight he will be tir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 we will go to the swimming p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8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 we will go to the swimming p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483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5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20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2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2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th they will see the que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week-end you(tu) will cycle (faire du vél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year she will have a c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6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’année prochaine, elle aura une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xt Monday you (vous) will come to my ho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5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’année prochaine, elle aura une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undi prochain vous viendrez chez mo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ter I will play on my Xb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2" dur="20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’année prochaine, elle aura une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undi prochain vous viendrez chez mo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lus tard je jouerai sur ma Xbo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on I will be able to drive (conduir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Lucida Sans Unicode"/>
              </a:rPr>
              <a:t>Is made of two elements 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</a:rPr>
              <a:t>The infinitive of the verb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Lucida Sans Unicode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</a:rPr>
              <a:t>6 different endings of verbs expressing the future tens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5720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emain je regarderai la té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e soir, il sera fatigu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semaine prochaine, nous irons à la pisc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mois prochain, ils verront la re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 week-end prochain tu feras du vé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’année prochaine, elle aura une voitu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undi prochain vous viendrez chez mo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lus tard je jouerai sur ma Xbo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Bientôt je saurai condui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AutoShape 3"/>
          <p:cNvSpPr/>
          <p:nvPr/>
        </p:nvSpPr>
        <p:spPr>
          <a:xfrm>
            <a:off x="0" y="527040"/>
            <a:ext cx="2286000" cy="939960"/>
          </a:xfrm>
          <a:prstGeom prst="hexagon">
            <a:avLst>
              <a:gd name="adj" fmla="val 34206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ega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4"/>
          <p:cNvSpPr/>
          <p:nvPr/>
        </p:nvSpPr>
        <p:spPr>
          <a:xfrm>
            <a:off x="0" y="1467000"/>
            <a:ext cx="2316240" cy="939600"/>
          </a:xfrm>
          <a:prstGeom prst="hexagon">
            <a:avLst>
              <a:gd name="adj" fmla="val 34660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o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5"/>
          <p:cNvSpPr/>
          <p:nvPr/>
        </p:nvSpPr>
        <p:spPr>
          <a:xfrm>
            <a:off x="1706400" y="1936800"/>
            <a:ext cx="2318040" cy="939600"/>
          </a:xfrm>
          <a:prstGeom prst="hexagon">
            <a:avLst>
              <a:gd name="adj" fmla="val 34698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0" y="2406600"/>
            <a:ext cx="2316240" cy="939960"/>
          </a:xfrm>
          <a:prstGeom prst="hexagon">
            <a:avLst>
              <a:gd name="adj" fmla="val 34647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7"/>
          <p:cNvSpPr/>
          <p:nvPr/>
        </p:nvSpPr>
        <p:spPr>
          <a:xfrm>
            <a:off x="1706400" y="57240"/>
            <a:ext cx="2318040" cy="939600"/>
          </a:xfrm>
          <a:prstGeom prst="hexagon">
            <a:avLst>
              <a:gd name="adj" fmla="val 34698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jo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8"/>
          <p:cNvSpPr/>
          <p:nvPr/>
        </p:nvSpPr>
        <p:spPr>
          <a:xfrm>
            <a:off x="3414600" y="527040"/>
            <a:ext cx="2318040" cy="939960"/>
          </a:xfrm>
          <a:prstGeom prst="hexagon">
            <a:avLst>
              <a:gd name="adj" fmla="val 3468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e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"/>
          <p:cNvSpPr/>
          <p:nvPr/>
        </p:nvSpPr>
        <p:spPr>
          <a:xfrm>
            <a:off x="1706400" y="996840"/>
            <a:ext cx="2318040" cy="939960"/>
          </a:xfrm>
          <a:prstGeom prst="hexagon">
            <a:avLst>
              <a:gd name="adj" fmla="val 3468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0"/>
          <p:cNvSpPr/>
          <p:nvPr/>
        </p:nvSpPr>
        <p:spPr>
          <a:xfrm>
            <a:off x="3414600" y="1467000"/>
            <a:ext cx="2318040" cy="939600"/>
          </a:xfrm>
          <a:prstGeom prst="hexagon">
            <a:avLst>
              <a:gd name="adj" fmla="val 34698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1"/>
          <p:cNvSpPr/>
          <p:nvPr/>
        </p:nvSpPr>
        <p:spPr>
          <a:xfrm>
            <a:off x="5122800" y="1936800"/>
            <a:ext cx="2314800" cy="939600"/>
          </a:xfrm>
          <a:prstGeom prst="hexagon">
            <a:avLst>
              <a:gd name="adj" fmla="val 34639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er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2"/>
          <p:cNvSpPr/>
          <p:nvPr/>
        </p:nvSpPr>
        <p:spPr>
          <a:xfrm>
            <a:off x="3414600" y="2406600"/>
            <a:ext cx="2318040" cy="939960"/>
          </a:xfrm>
          <a:prstGeom prst="hexagon">
            <a:avLst>
              <a:gd name="adj" fmla="val 3468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o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3"/>
          <p:cNvSpPr/>
          <p:nvPr/>
        </p:nvSpPr>
        <p:spPr>
          <a:xfrm>
            <a:off x="5122800" y="57240"/>
            <a:ext cx="2314800" cy="939600"/>
          </a:xfrm>
          <a:prstGeom prst="hexagon">
            <a:avLst>
              <a:gd name="adj" fmla="val 34639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f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4"/>
          <p:cNvSpPr/>
          <p:nvPr/>
        </p:nvSpPr>
        <p:spPr>
          <a:xfrm>
            <a:off x="6827760" y="3346560"/>
            <a:ext cx="2316240" cy="939600"/>
          </a:xfrm>
          <a:prstGeom prst="hexagon">
            <a:avLst>
              <a:gd name="adj" fmla="val 34660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i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5"/>
          <p:cNvSpPr/>
          <p:nvPr/>
        </p:nvSpPr>
        <p:spPr>
          <a:xfrm>
            <a:off x="5122800" y="996840"/>
            <a:ext cx="2314800" cy="939960"/>
          </a:xfrm>
          <a:prstGeom prst="hexagon">
            <a:avLst>
              <a:gd name="adj" fmla="val 3462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e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6"/>
          <p:cNvSpPr/>
          <p:nvPr/>
        </p:nvSpPr>
        <p:spPr>
          <a:xfrm>
            <a:off x="3227400" y="3346560"/>
            <a:ext cx="2505240" cy="939600"/>
          </a:xfrm>
          <a:prstGeom prst="hexagon">
            <a:avLst>
              <a:gd name="adj" fmla="val 34699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et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7"/>
          <p:cNvSpPr/>
          <p:nvPr/>
        </p:nvSpPr>
        <p:spPr>
          <a:xfrm>
            <a:off x="0" y="3346560"/>
            <a:ext cx="2316240" cy="939600"/>
          </a:xfrm>
          <a:prstGeom prst="hexagon">
            <a:avLst>
              <a:gd name="adj" fmla="val 34660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ren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8"/>
          <p:cNvSpPr/>
          <p:nvPr/>
        </p:nvSpPr>
        <p:spPr>
          <a:xfrm>
            <a:off x="1706400" y="2876400"/>
            <a:ext cx="2318040" cy="939960"/>
          </a:xfrm>
          <a:prstGeom prst="hexagon">
            <a:avLst>
              <a:gd name="adj" fmla="val 3468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ê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>
            <a:off x="5122800" y="2876400"/>
            <a:ext cx="2314800" cy="939960"/>
          </a:xfrm>
          <a:prstGeom prst="hexagon">
            <a:avLst>
              <a:gd name="adj" fmla="val 34625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v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20"/>
          <p:cNvSpPr/>
          <p:nvPr/>
        </p:nvSpPr>
        <p:spPr>
          <a:xfrm>
            <a:off x="6827760" y="527040"/>
            <a:ext cx="2316240" cy="939960"/>
          </a:xfrm>
          <a:prstGeom prst="hexagon">
            <a:avLst>
              <a:gd name="adj" fmla="val 34647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>
            <a:off x="6827760" y="1467000"/>
            <a:ext cx="2544840" cy="939600"/>
          </a:xfrm>
          <a:prstGeom prst="hexagon">
            <a:avLst>
              <a:gd name="adj" fmla="val 34670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ecevo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22"/>
          <p:cNvSpPr/>
          <p:nvPr/>
        </p:nvSpPr>
        <p:spPr>
          <a:xfrm>
            <a:off x="6827760" y="2406600"/>
            <a:ext cx="2316240" cy="939960"/>
          </a:xfrm>
          <a:prstGeom prst="hexagon">
            <a:avLst>
              <a:gd name="adj" fmla="val 34647"/>
              <a:gd name="vf" fmla="val 1154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pouvo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3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4"/>
          <p:cNvSpPr/>
          <p:nvPr/>
        </p:nvSpPr>
        <p:spPr>
          <a:xfrm>
            <a:off x="0" y="5143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5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6"/>
          <p:cNvSpPr/>
          <p:nvPr/>
        </p:nvSpPr>
        <p:spPr>
          <a:xfrm>
            <a:off x="0" y="582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8"/>
          <p:cNvSpPr/>
          <p:nvPr/>
        </p:nvSpPr>
        <p:spPr>
          <a:xfrm>
            <a:off x="0" y="651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384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4"/>
          <p:cNvSpPr/>
          <p:nvPr/>
        </p:nvSpPr>
        <p:spPr>
          <a:xfrm>
            <a:off x="457200" y="7621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 </a:t>
            </a: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the part of the verb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GB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you will find in the dictionn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itle 2" descr=""/>
          <p:cNvPicPr/>
          <p:nvPr/>
        </p:nvPicPr>
        <p:blipFill>
          <a:blip r:embed="rId2"/>
          <a:stretch/>
        </p:blipFill>
        <p:spPr>
          <a:xfrm>
            <a:off x="457200" y="17557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55" name="TextBox 7"/>
          <p:cNvSpPr/>
          <p:nvPr/>
        </p:nvSpPr>
        <p:spPr>
          <a:xfrm>
            <a:off x="762120" y="29718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 French there are 3 groups of infini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finitives ending in ‘E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finitives ending in ‘I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finitives ending in ‘R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3"/>
          <a:stretch/>
        </p:blipFill>
        <p:spPr>
          <a:xfrm>
            <a:off x="536400" y="480384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2819160" y="1143000"/>
            <a:ext cx="373356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o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Title 2" descr=""/>
          <p:cNvPicPr/>
          <p:nvPr/>
        </p:nvPicPr>
        <p:blipFill>
          <a:blip r:embed="rId1"/>
          <a:stretch/>
        </p:blipFill>
        <p:spPr>
          <a:xfrm>
            <a:off x="384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838080" y="4267080"/>
            <a:ext cx="77724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Lucida Sans Unicode"/>
                <a:ea typeface="Arial"/>
              </a:rPr>
              <a:t>Avec un partenaire, réponds aux question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b05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In your opinion, what are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the endings 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which express the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“futur simple” 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b05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To what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element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 in the sentence do they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adapt /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 are they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Lucida Sans Unicode"/>
                <a:ea typeface="Arial"/>
              </a:rPr>
              <a:t>changed </a:t>
            </a:r>
            <a:r>
              <a:rPr b="1" lang="en-GB" sz="2400" spc="-1" strike="noStrike">
                <a:solidFill>
                  <a:srgbClr val="00b050"/>
                </a:solidFill>
                <a:latin typeface="Lucida Sans Unicode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 endings of the </a:t>
            </a:r>
            <a:r>
              <a:rPr b="0" lang="fr-FR" sz="2800" spc="-1" strike="noStrike">
                <a:solidFill>
                  <a:srgbClr val="fd1d1d"/>
                </a:solidFill>
                <a:latin typeface="Comic Sans MS"/>
              </a:rPr>
              <a:t>simple futur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tense are the same as the endings of  </a:t>
            </a:r>
            <a:r>
              <a:rPr b="0" lang="fr-FR" sz="2800" spc="-1" strike="noStrike">
                <a:solidFill>
                  <a:srgbClr val="0099ff"/>
                </a:solidFill>
                <a:latin typeface="Comic Sans MS"/>
              </a:rPr>
              <a:t>‘AVOIR’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in the present ten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a / a / 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b9e8"/>
                </a:solidFill>
                <a:latin typeface="Comic Sans MS"/>
              </a:rPr>
              <a:t>ont / o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10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10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533520" y="837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Jou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J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u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 / elle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ou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e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ls / Elles jouer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ont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Content Placeholder 1"/>
          <p:cNvSpPr/>
          <p:nvPr/>
        </p:nvSpPr>
        <p:spPr>
          <a:xfrm>
            <a:off x="4343400" y="83808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Man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70c0"/>
                </a:solidFill>
                <a:uFillTx/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 mang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Tu mang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 / elle manger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us manger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Vous manger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Ils / Elles manger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9:13:49Z</dcterms:created>
  <dc:creator>joannie</dc:creator>
  <dc:description/>
  <dc:language>en-US</dc:language>
  <cp:lastModifiedBy>Clare Seccombe</cp:lastModifiedBy>
  <dcterms:modified xsi:type="dcterms:W3CDTF">2014-04-15T06:09:34Z</dcterms:modified>
  <cp:revision>35</cp:revision>
  <dc:subject/>
  <dc:title>What are the tenses you already know in French ?</dc:title>
</cp:coreProperties>
</file>