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14E5-2C9D-4671-8065-1CEF47B4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4C8-4658-41EA-8D23-DE912EB1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803-1939-42CC-94B9-C79034AE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602-4E20-40E6-87F5-CF5739A0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841-CC1F-4C15-96B8-F4750D3E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D9E-9AC0-4FC5-B02E-B80A7652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B18-1B12-40EC-A869-9B5C7DF9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959-67D4-4EC6-A1B1-D9986367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8F3-8211-4F54-8AC7-1A8A6F38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5B2-8EFD-4614-B0E7-51B91186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7BC-C83B-4A3C-B72C-9B629D2D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385-D966-4A03-9E66-E018231C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6123-2189-4063-B1D8-8EF7E2057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6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image" Target="../media/image7.wmf"/><Relationship Id="rId6" Type="http://schemas.openxmlformats.org/officeDocument/2006/relationships/image" Target="../media/image6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image" Target="../media/image8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286000" cy="1212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1409760" cy="1419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9480" y="5486400"/>
            <a:ext cx="11052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477120" y="5105520"/>
            <a:ext cx="1657080" cy="958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629400" y="3429000"/>
            <a:ext cx="90504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04920" y="1828800"/>
            <a:ext cx="1371600" cy="960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80880" y="3581280"/>
            <a:ext cx="144792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448920" y="457200"/>
            <a:ext cx="2286000" cy="1212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448920" y="914400"/>
            <a:ext cx="2286000" cy="121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906120" y="1981080"/>
            <a:ext cx="1409760" cy="141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906120" y="2743200"/>
            <a:ext cx="1409760" cy="1419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11125080" y="2971800"/>
            <a:ext cx="90504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9982080" y="3429000"/>
            <a:ext cx="90504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10210680" y="3886200"/>
            <a:ext cx="1657440" cy="958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9982080" y="4572000"/>
            <a:ext cx="1657440" cy="958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-1447920" y="53352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-1676520" y="1828800"/>
            <a:ext cx="1371600" cy="960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-1371600" y="2209680"/>
            <a:ext cx="1371600" cy="96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-1200240" y="91440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-1447920" y="3505320"/>
            <a:ext cx="1447920" cy="1054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-1981080" y="3429000"/>
            <a:ext cx="1447560" cy="1054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-1104840" y="4952880"/>
            <a:ext cx="1104840" cy="542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-1104840" y="5867280"/>
            <a:ext cx="11048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2286000" cy="1212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0" y="1600200"/>
            <a:ext cx="1409760" cy="1419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1105200" cy="542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219320" y="3048120"/>
            <a:ext cx="119988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219320" y="5334120"/>
            <a:ext cx="1371600" cy="960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4343400" y="5181480"/>
            <a:ext cx="1447920" cy="105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429000" y="2819520"/>
            <a:ext cx="28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6324480" y="4038480"/>
            <a:ext cx="1657440" cy="959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3429000" y="2819520"/>
            <a:ext cx="905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2286000" cy="1212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2286000"/>
            <a:ext cx="1409760" cy="1419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886200" y="2362320"/>
            <a:ext cx="1104840" cy="542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191120" y="228600"/>
            <a:ext cx="90468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324480" y="480060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1219320" y="533520"/>
            <a:ext cx="1371600" cy="960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1371600" y="4952880"/>
            <a:ext cx="1447920" cy="1054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91120" y="3352680"/>
            <a:ext cx="281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3809880" y="358128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00600" y="762120"/>
            <a:ext cx="1295280" cy="687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83160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876240" cy="430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724280" y="3962520"/>
            <a:ext cx="1047960" cy="606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952880" y="1981080"/>
            <a:ext cx="60336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105520" y="449568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4952880" y="5257800"/>
            <a:ext cx="838440" cy="587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4876920" y="2743200"/>
            <a:ext cx="914400" cy="665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76720" y="9144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ch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362320"/>
            <a:ext cx="388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15238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c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228600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ham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403848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lap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35053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ois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6483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n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araig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525780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n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2895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ois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160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i, j’ai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28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-tu un anim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5715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, je n’ai pas d’an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286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s’appell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13560" y="293688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a……..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7150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8380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8380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8380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4572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e s’app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5181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e a…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22096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cc99"/>
                </a:solidFill>
                <a:latin typeface="Times New Roman"/>
              </a:rPr>
              <a:t>J’</a:t>
            </a:r>
            <a:r>
              <a:rPr b="0" lang="en-US" sz="8000" spc="-1" strike="noStrike">
                <a:solidFill>
                  <a:srgbClr val="3333cc"/>
                </a:solidFill>
                <a:latin typeface="Times New Roman"/>
              </a:rPr>
              <a:t>a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2286000" cy="1212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876920" y="251460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1409760" cy="141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057400" y="1752480"/>
            <a:ext cx="2343240" cy="2743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867280" y="2057400"/>
            <a:ext cx="2743200" cy="1576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752480" y="1676520"/>
            <a:ext cx="3276720" cy="295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5867280" y="1828800"/>
            <a:ext cx="2819520" cy="2666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76520" y="1523880"/>
            <a:ext cx="7238880" cy="4038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2514600" y="1371600"/>
            <a:ext cx="1409760" cy="1419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4572000"/>
            <a:ext cx="35053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cc99"/>
                </a:solidFill>
                <a:latin typeface="Times New Roman"/>
              </a:rPr>
              <a:t>J’</a:t>
            </a:r>
            <a:r>
              <a:rPr b="0" lang="en-US" sz="8000" spc="-1" strike="noStrike">
                <a:solidFill>
                  <a:srgbClr val="3333cc"/>
                </a:solidFill>
                <a:latin typeface="Times New Roman"/>
              </a:rPr>
              <a:t>a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472428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deux chat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648320"/>
            <a:ext cx="5029200" cy="14475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5181480" y="1447920"/>
            <a:ext cx="1409760" cy="1419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43200" y="472428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des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cha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3352680" y="1828800"/>
            <a:ext cx="1409760" cy="1419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4267080" y="1752480"/>
            <a:ext cx="1409760" cy="1419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6324480" y="2514600"/>
            <a:ext cx="1409760" cy="1419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4495680" y="609480"/>
            <a:ext cx="1409760" cy="1419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3048120" y="533520"/>
            <a:ext cx="1409760" cy="1419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4724280" y="2743200"/>
            <a:ext cx="1409760" cy="1419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>
            <a:off x="3048120" y="3124080"/>
            <a:ext cx="140976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1143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066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143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Times New Roman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1066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a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106668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106668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06668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’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anim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1219320"/>
            <a:ext cx="30492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2286000" cy="1212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76720" y="2666880"/>
            <a:ext cx="274320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76360" y="2666880"/>
            <a:ext cx="2361960" cy="2590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14097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2286000" cy="1212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1409760" cy="1419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133720" y="5562720"/>
            <a:ext cx="1104840" cy="542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477120" y="5105520"/>
            <a:ext cx="1657080" cy="958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6629400" y="3429000"/>
            <a:ext cx="90504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2666880" y="38088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133720" y="1905120"/>
            <a:ext cx="1371600" cy="960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2057400" y="3352680"/>
            <a:ext cx="1447920" cy="1054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0720" y="380880"/>
            <a:ext cx="1523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9810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37339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55627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685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22096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3886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505320" y="457200"/>
            <a:ext cx="525780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J’ ai 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un chien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l  s’ appelle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Spoon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l   a   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trois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ans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28600"/>
            <a:ext cx="236232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1752480" cy="930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2120" y="1523880"/>
            <a:ext cx="1447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1600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352680"/>
            <a:ext cx="2210040" cy="266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90720" y="3429000"/>
            <a:ext cx="653760" cy="990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14400" y="4572000"/>
            <a:ext cx="14479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epp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 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9000" y="3352680"/>
            <a:ext cx="2286000" cy="266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809880" y="3429000"/>
            <a:ext cx="1447920" cy="1054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733920" y="44956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4572000"/>
            <a:ext cx="14479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m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 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3276720"/>
            <a:ext cx="2514600" cy="2743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7238880" y="3352680"/>
            <a:ext cx="113508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162920" y="4495680"/>
            <a:ext cx="15238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ix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7 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526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342900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505320"/>
            <a:ext cx="68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4:42:49Z</dcterms:created>
  <dc:creator>testpupil</dc:creator>
  <dc:description/>
  <dc:language>en-US</dc:language>
  <cp:lastModifiedBy>BECTa</cp:lastModifiedBy>
  <dcterms:modified xsi:type="dcterms:W3CDTF">2002-02-06T16:59:01Z</dcterms:modified>
  <cp:revision>7</cp:revision>
  <dc:subject/>
  <dc:title>No Slide Title</dc:title>
</cp:coreProperties>
</file>