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DAA-30C9-4F37-92D5-390BFFFB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E71-AC89-4611-A97C-7C3812AC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742-D1AF-4D9B-BD53-9C049948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42D-D240-479B-8000-8FD59052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03D-6470-483E-885F-7E7F55B8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EB8-7624-41BC-88F7-1F2E3463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06C-E178-4832-A648-057E0234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787-D869-40AE-88EB-260C5A42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B35-301D-432A-A083-BCD50D84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D77-CB9F-4B4E-88B2-F37802A9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9D4-58CC-46EB-B467-E02B305B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C04-07AC-482D-9CB2-61587AD1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DA69-6C86-4021-9313-71E0255F0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image" Target="../media/image7.wmf"/><Relationship Id="rId6" Type="http://schemas.openxmlformats.org/officeDocument/2006/relationships/image" Target="../media/image6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5486400"/>
            <a:ext cx="11052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477120" y="5105520"/>
            <a:ext cx="1657080" cy="95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629400" y="342900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04920" y="182880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80880" y="3581280"/>
            <a:ext cx="144792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448920" y="45720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448920" y="91440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906120" y="19810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6120" y="27432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1125080" y="297180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9982080" y="342900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10210680" y="3886200"/>
            <a:ext cx="1657440" cy="95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9982080" y="4572000"/>
            <a:ext cx="1657440" cy="95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-1447920" y="53352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-1676520" y="182880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-1371600" y="220968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-1200240" y="91440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-1447920" y="3505320"/>
            <a:ext cx="1447920" cy="1054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-1981080" y="3429000"/>
            <a:ext cx="1447560" cy="1054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-1104840" y="4952880"/>
            <a:ext cx="1104840" cy="542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-1104840" y="5867280"/>
            <a:ext cx="11048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0" y="16002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1105200" cy="542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219320" y="3048120"/>
            <a:ext cx="119988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4343400" y="5181480"/>
            <a:ext cx="1447920" cy="105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29000" y="281952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6324480" y="4038480"/>
            <a:ext cx="1657440" cy="959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3429000" y="2819520"/>
            <a:ext cx="905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86200" y="2362320"/>
            <a:ext cx="1104840" cy="542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191120" y="228600"/>
            <a:ext cx="90468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324480" y="480060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219320" y="53352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1371600" y="4952880"/>
            <a:ext cx="1447920" cy="105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91120" y="3352680"/>
            <a:ext cx="281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809880" y="358128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1295280" cy="687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83160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876240" cy="43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724280" y="3962520"/>
            <a:ext cx="1047960" cy="606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60336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105520" y="449568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4952880" y="5257800"/>
            <a:ext cx="838440" cy="58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4876920" y="2743200"/>
            <a:ext cx="914400" cy="665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76720" y="9144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h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3623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15238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28600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ham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40384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lap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ois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648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raig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52578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895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ois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160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i, j’ai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28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-tu un anim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715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, je n’ai pas d’an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86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s’appel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13560" y="29368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a……..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7150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8380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8380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8380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e s’app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5181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e a…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209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99"/>
                </a:solidFill>
                <a:latin typeface="Times New Roman"/>
              </a:rPr>
              <a:t>J’</a:t>
            </a:r>
            <a:r>
              <a:rPr b="0" lang="en-US" sz="8000" spc="-1" strike="noStrike">
                <a:solidFill>
                  <a:srgbClr val="3333cc"/>
                </a:solidFill>
                <a:latin typeface="Times New Roman"/>
              </a:rPr>
              <a:t>a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2286000" cy="1212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76920" y="251460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057400" y="1752480"/>
            <a:ext cx="234324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67280" y="2057400"/>
            <a:ext cx="2743200" cy="157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52480" y="1676520"/>
            <a:ext cx="3276720" cy="295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867280" y="1828800"/>
            <a:ext cx="2819520" cy="2666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76520" y="1523880"/>
            <a:ext cx="7238880" cy="4038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514600" y="1371600"/>
            <a:ext cx="1409760" cy="1419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4572000"/>
            <a:ext cx="3505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99"/>
                </a:solidFill>
                <a:latin typeface="Times New Roman"/>
              </a:rPr>
              <a:t>J’</a:t>
            </a:r>
            <a:r>
              <a:rPr b="0" lang="en-US" sz="8000" spc="-1" strike="noStrike">
                <a:solidFill>
                  <a:srgbClr val="3333cc"/>
                </a:solidFill>
                <a:latin typeface="Times New Roman"/>
              </a:rPr>
              <a:t>a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472428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deux chat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648320"/>
            <a:ext cx="5029200" cy="1447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5181480" y="1447920"/>
            <a:ext cx="1409760" cy="1419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43200" y="47242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des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cha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3352680" y="18288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4267080" y="17524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6324480" y="25146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4495680" y="6094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3048120" y="53352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4724280" y="2743200"/>
            <a:ext cx="1409760" cy="1419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3048120" y="3124080"/>
            <a:ext cx="140976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1143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066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143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066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0666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06668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06668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’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anim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1219320"/>
            <a:ext cx="30492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2286000" cy="1212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720" y="2666880"/>
            <a:ext cx="274320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360" y="2666880"/>
            <a:ext cx="236196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14097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286000" cy="1212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1409760" cy="1419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133720" y="5562720"/>
            <a:ext cx="1104840" cy="542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477120" y="5105520"/>
            <a:ext cx="1657080" cy="958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629400" y="342900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2666880" y="38088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133720" y="190512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2057400" y="3352680"/>
            <a:ext cx="1447920" cy="1054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0720" y="380880"/>
            <a:ext cx="1523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9810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3733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55627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685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2209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3886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5334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505320" y="457200"/>
            <a:ext cx="52578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J’ ai 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un chien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l  s’ appelle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Spoon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l   a   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trois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ans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236232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1752480" cy="930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2120" y="1523880"/>
            <a:ext cx="1447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1600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352680"/>
            <a:ext cx="221004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653760" cy="990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14400" y="4572000"/>
            <a:ext cx="1447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epp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 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3352680"/>
            <a:ext cx="2286000" cy="266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09880" y="3429000"/>
            <a:ext cx="1447920" cy="1054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733920" y="44956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4572000"/>
            <a:ext cx="1447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m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 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3276720"/>
            <a:ext cx="2514600" cy="274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238880" y="335268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162920" y="4495680"/>
            <a:ext cx="15238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ix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 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526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342900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50532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4:42:49Z</dcterms:created>
  <dc:creator>testpupil</dc:creator>
  <dc:description/>
  <dc:language>en-US</dc:language>
  <cp:lastModifiedBy>BECTa</cp:lastModifiedBy>
  <dcterms:modified xsi:type="dcterms:W3CDTF">2002-02-06T16:59:01Z</dcterms:modified>
  <cp:revision>7</cp:revision>
  <dc:subject/>
  <dc:title>No Slide Title</dc:title>
</cp:coreProperties>
</file>