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4280" y="3289320"/>
            <a:ext cx="80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8. Où peut-on acheter des médica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7440" y="556884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a confi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76600" y="556884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hez le méde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3880" y="4651200"/>
            <a:ext cx="23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a pharma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36360" y="466740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hez le ky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42840" y="2525760"/>
            <a:ext cx="13924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8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1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3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7480" y="3289320"/>
            <a:ext cx="77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9. Où a-t-on mal si on prend du </a:t>
            </a:r>
            <a:r>
              <a:rPr b="0" i="1" lang="en-GB" sz="3200" spc="-1" strike="noStrike">
                <a:solidFill>
                  <a:srgbClr val="ffffff"/>
                </a:solidFill>
                <a:latin typeface="Tempus Sans ITC"/>
              </a:rPr>
              <a:t>Strepsil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4440" y="465444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0040" y="556884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’ort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43560" y="556884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x ore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24560" y="4651200"/>
            <a:ext cx="17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À la g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0120" y="2525760"/>
            <a:ext cx="1552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6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"/>
                            </p:stCondLst>
                            <p:childTnLst>
                              <p:par>
                                <p:cTn id="35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7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360" y="333360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10. Le footballeur a mal au genou. Chez qui va-t-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920" y="46260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hez le dent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7240" y="464508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hez l’ocul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8520" y="556884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hez l’infirmi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360" y="556092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hez le ky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70120" y="2525760"/>
            <a:ext cx="155232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00"/>
                            </p:stCondLst>
                            <p:childTnLst>
                              <p:par>
                                <p:cTn id="39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7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0200" y="3289320"/>
            <a:ext cx="75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1. Où vont les victimes d’un accid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5880" y="556884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À la bou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89920" y="5568840"/>
            <a:ext cx="29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Au commiss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8640" y="46512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x urg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97840" y="46674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a pharma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70120" y="2525760"/>
            <a:ext cx="1552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6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00"/>
                            </p:stCondLst>
                            <p:childTnLst>
                              <p:par>
                                <p:cTn id="43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3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7280" y="3289320"/>
            <a:ext cx="58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2. Traduis: “I broke my ar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2880" y="556884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cassé au b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5280" y="4664160"/>
            <a:ext cx="392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empus Sans ITC"/>
              </a:rPr>
              <a:t>Je me suis cassé le br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53760" y="4665600"/>
            <a:ext cx="405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empus Sans ITC"/>
              </a:rPr>
              <a:t>Je me suis cassé au br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5760" y="5533920"/>
            <a:ext cx="28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cassé le b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8240" y="2525760"/>
            <a:ext cx="16542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25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"/>
                            </p:stCondLst>
                            <p:childTnLst>
                              <p:par>
                                <p:cTn id="47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3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2280" y="3289320"/>
            <a:ext cx="83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3. Qu’est-ce qu’on prend quand on a soi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3200" y="465444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sandw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7480" y="556884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pan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55720" y="5568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u paracéta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56160" y="465120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e l’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960" y="2525760"/>
            <a:ext cx="17571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5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3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9120" y="3300480"/>
            <a:ext cx="86662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empus Sans ITC"/>
              </a:rPr>
              <a:t>14. Qu’est-ce qu’on doit faire si on est fatigué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5640" y="4654440"/>
            <a:ext cx="37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Manger des bonb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8080" y="464508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rendre du si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25560" y="556884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Tous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2160" y="55306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orm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2640" y="2525760"/>
            <a:ext cx="1741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"/>
                            </p:stCondLst>
                            <p:childTnLst>
                              <p:par>
                                <p:cTn id="55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00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960" y="3289320"/>
            <a:ext cx="80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5. Comment dit-on “they(f) have a cold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080" y="4654440"/>
            <a:ext cx="29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a mal au n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80480" y="556884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a f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2080" y="556884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s ont somm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79840" y="46512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s ont un rh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" y="2525760"/>
            <a:ext cx="200196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5640" y="2505240"/>
            <a:ext cx="208944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00"/>
                            </p:stCondLst>
                            <p:childTnLst>
                              <p:par>
                                <p:cTn id="59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700"/>
                            </p:stCondLst>
                            <p:childTnLst>
                              <p:par>
                                <p:cTn id="6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440" y="4700520"/>
            <a:ext cx="804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nombre de réponses correctes que tu as obtenues s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montant que tu as gagné (maximum: 1 million d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990880"/>
            <a:ext cx="9144000" cy="3514680"/>
          </a:xfrm>
          <a:prstGeom prst="wedgeRoundRectCallout">
            <a:avLst>
              <a:gd name="adj1" fmla="val 32847"/>
              <a:gd name="adj2" fmla="val -91736"/>
              <a:gd name="adj3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062160"/>
            <a:ext cx="85485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Merci encore d’avoir joué avec nou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Bravo et à la prochaine fois!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Au revoi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KS3 français. Thème: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“ Body &amp; illn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040" y="4483080"/>
            <a:ext cx="782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n nom et t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s numéros de 1 à 15 (1 numéro par l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6800" y="3289320"/>
            <a:ext cx="71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.Traduis ”the stomach”(masculine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0680" y="556884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esto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02880" y="556884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esto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2160" y="46512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’esto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4040" y="466740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esto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01600" y="2525760"/>
            <a:ext cx="11480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6120" y="3303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2. Traduis: “My leg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800" y="458136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Mon jam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2600" y="46004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Ma jam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9040" y="55245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Mes jamb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6320" y="5516640"/>
            <a:ext cx="24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Mes jam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1600" y="2525760"/>
            <a:ext cx="11480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1440" y="3289320"/>
            <a:ext cx="85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3. Lequel de ces mots est un nom mascul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3840" y="465444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’ore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5360" y="556884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chev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06840" y="55688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es 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42120" y="465120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gen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1600" y="2525760"/>
            <a:ext cx="11480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3440" y="3259080"/>
            <a:ext cx="58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4. Quel est l’infinitif de “(j’)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empus Sans ITC"/>
              </a:rPr>
              <a:t>ai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5960" y="46116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Ê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45720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All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0" y="55245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Fair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1560" y="5516640"/>
            <a:ext cx="137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Avoi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01600" y="2525760"/>
            <a:ext cx="11480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8840" y="3289320"/>
            <a:ext cx="76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5. Comment dit-on “I have a bad belly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160" y="557064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ai mal à vent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0040" y="556884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ai mal à au v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8960" y="465120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mal au v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4600" y="4667400"/>
            <a:ext cx="31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mal à le v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00080" y="2525760"/>
            <a:ext cx="132084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7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3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" y="3260880"/>
            <a:ext cx="68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6. Comment dit-on “My mum is ill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3800" y="462456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Ma mère est 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040" y="5568840"/>
            <a:ext cx="32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Ma mère a mal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9720" y="554040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Ma mère qui a mal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0280" y="46512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Ma mère est mal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28880" y="2525760"/>
            <a:ext cx="1336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7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3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2600" y="328932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7. Comment dit-on “She feels sick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6600" y="465444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est 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6160" y="4659480"/>
            <a:ext cx="34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a mal l’esto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880" y="5560920"/>
            <a:ext cx="32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a mal au cœ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8720" y="553248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est mal au cœ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42840" y="2525760"/>
            <a:ext cx="13924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100"/>
                            </p:stCondLst>
                            <p:childTnLst>
                              <p:par>
                                <p:cTn id="27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3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02-03T12:15:33Z</dcterms:modified>
  <cp:revision>45</cp:revision>
  <dc:subject/>
  <dc:title>MillionnaireKS3-Body&amp;illnesses</dc:title>
</cp:coreProperties>
</file>