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7.jpeg" ContentType="image/jpeg"/>
  <Override PartName="/ppt/media/image16.jpeg" ContentType="image/jpeg"/>
  <Override PartName="/ppt/media/image15.jpeg" ContentType="image/jpeg"/>
  <Override PartName="/ppt/media/image1.wmf" ContentType="image/x-wmf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5DCF-EE12-4DE1-95EF-520981F93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9758-5FBB-4D98-89BF-50AAC7900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20C7-5974-453B-BF15-E29C4B041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3543-8293-43A0-9B2F-857DFDBAB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F9CE6-6682-4924-8886-BBC0FCA23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30AEF-5835-4BC6-B40B-2E229F294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18797-CA9D-4BF7-AD87-D90C6D451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80A60-CF0C-47D2-946E-CC709159E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3EE36-6A7D-4881-9651-DE7FAA5B7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09480" y="990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338D3-A8CC-48B2-AFE1-7E13748D9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7865D-243C-49A9-8CD5-58D07D364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7546-4D14-4E82-AD7C-51F4B31E8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2B72F-2CEF-4A17-B2E1-21C81D3A2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5AA6A-9CDD-4EB2-AA5A-669EE5FAD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E39BA-E4F6-4579-A438-DC1D26AD5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49ED9-6700-49D3-BC2D-2BD726F1C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1BB7D-25D2-4C4F-B6A8-E90BA2582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1BE4-D3E8-47B2-9E96-52E4B6FD7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79BB-2F3F-406D-B07C-5324572E0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8170-FD57-4393-9EE8-FCE37392E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09480" y="990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D446-5DD3-4047-ACDB-53B20ED57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AE74-4A55-4718-8272-6F2DD7A12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60D6-69FA-4AA0-8E85-E5AE81441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233C-5DA3-4902-9004-7185E310F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a0e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066680" y="1459080"/>
            <a:ext cx="8077320" cy="5398920"/>
          </a:xfrm>
          <a:prstGeom prst="rect">
            <a:avLst/>
          </a:prstGeom>
          <a:gradFill rotWithShape="0">
            <a:gsLst>
              <a:gs pos="0">
                <a:srgbClr val="1822cd"/>
              </a:gs>
              <a:gs pos="100000">
                <a:srgbClr val="0508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1447920"/>
            <a:ext cx="1066680" cy="5410080"/>
          </a:xfrm>
          <a:prstGeom prst="rect">
            <a:avLst/>
          </a:prstGeom>
          <a:gradFill rotWithShape="0">
            <a:gsLst>
              <a:gs pos="0">
                <a:srgbClr val="03041b"/>
              </a:gs>
              <a:gs pos="100000">
                <a:srgbClr val="1822c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12952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8098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70866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179D3-ACE1-495A-B45C-C305A45305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355680"/>
            <a:ext cx="6172200" cy="2438280"/>
            <a:chOff x="0" y="355680"/>
            <a:chExt cx="6172200" cy="2438280"/>
          </a:xfrm>
        </p:grpSpPr>
        <p:sp>
          <p:nvSpPr>
            <p:cNvPr id="6" name=""/>
            <p:cNvSpPr/>
            <p:nvPr/>
          </p:nvSpPr>
          <p:spPr>
            <a:xfrm>
              <a:off x="789120" y="1144440"/>
              <a:ext cx="573120" cy="569880"/>
            </a:xfrm>
            <a:prstGeom prst="ellipse">
              <a:avLst/>
            </a:prstGeom>
            <a:gradFill rotWithShape="0">
              <a:gsLst>
                <a:gs pos="0">
                  <a:srgbClr val="1822cd"/>
                </a:gs>
                <a:gs pos="100000">
                  <a:srgbClr val="070a4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42840" y="1311120"/>
              <a:ext cx="260640" cy="247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1822c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441440"/>
              <a:ext cx="2286000" cy="9360"/>
            </a:xfrm>
            <a:prstGeom prst="rect">
              <a:avLst/>
            </a:prstGeom>
            <a:gradFill rotWithShape="0">
              <a:gsLst>
                <a:gs pos="0">
                  <a:srgbClr val="0a0e5b"/>
                </a:gs>
                <a:gs pos="50000">
                  <a:srgbClr val="fefefe"/>
                </a:gs>
                <a:gs pos="100000">
                  <a:srgbClr val="0a0e5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076400" y="355680"/>
              <a:ext cx="9360" cy="2438280"/>
            </a:xfrm>
            <a:prstGeom prst="rect">
              <a:avLst/>
            </a:prstGeom>
            <a:gradFill rotWithShape="0">
              <a:gsLst>
                <a:gs pos="0">
                  <a:srgbClr val="0a0e5b"/>
                </a:gs>
                <a:gs pos="50000">
                  <a:srgbClr val="fefefe"/>
                </a:gs>
                <a:gs pos="100000">
                  <a:srgbClr val="0a0e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144440" y="1441440"/>
              <a:ext cx="5027760" cy="9360"/>
            </a:xfrm>
            <a:prstGeom prst="rect">
              <a:avLst/>
            </a:prstGeom>
            <a:gradFill rotWithShape="0">
              <a:gsLst>
                <a:gs pos="0">
                  <a:srgbClr val="0a0e5b"/>
                </a:gs>
                <a:gs pos="100000">
                  <a:srgbClr val="fefef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" name="PlaceHolder 4"/>
          <p:cNvSpPr>
            <a:spLocks noGrp="1"/>
          </p:cNvSpPr>
          <p:nvPr>
            <p:ph type="body"/>
          </p:nvPr>
        </p:nvSpPr>
        <p:spPr>
          <a:xfrm>
            <a:off x="121932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460e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5dbac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4460e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460ee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a0e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066680" y="2995560"/>
            <a:ext cx="8077320" cy="3862440"/>
          </a:xfrm>
          <a:prstGeom prst="rect">
            <a:avLst/>
          </a:prstGeom>
          <a:gradFill rotWithShape="0">
            <a:gsLst>
              <a:gs pos="0">
                <a:srgbClr val="1822cd"/>
              </a:gs>
              <a:gs pos="100000">
                <a:srgbClr val="0508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995560"/>
            <a:ext cx="1066680" cy="3862440"/>
          </a:xfrm>
          <a:prstGeom prst="rect">
            <a:avLst/>
          </a:prstGeom>
          <a:gradFill rotWithShape="0">
            <a:gsLst>
              <a:gs pos="0">
                <a:srgbClr val="03041b"/>
              </a:gs>
              <a:gs pos="100000">
                <a:srgbClr val="1822c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EB640-2B9F-445B-AB05-9BBC67D432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0" y="1905120"/>
            <a:ext cx="6172200" cy="2438280"/>
            <a:chOff x="0" y="1905120"/>
            <a:chExt cx="6172200" cy="2438280"/>
          </a:xfrm>
        </p:grpSpPr>
        <p:sp>
          <p:nvSpPr>
            <p:cNvPr id="55" name=""/>
            <p:cNvSpPr/>
            <p:nvPr/>
          </p:nvSpPr>
          <p:spPr>
            <a:xfrm>
              <a:off x="789120" y="2693880"/>
              <a:ext cx="573120" cy="569880"/>
            </a:xfrm>
            <a:prstGeom prst="ellipse">
              <a:avLst/>
            </a:prstGeom>
            <a:gradFill rotWithShape="0">
              <a:gsLst>
                <a:gs pos="0">
                  <a:srgbClr val="1822cd"/>
                </a:gs>
                <a:gs pos="100000">
                  <a:srgbClr val="070a4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942840" y="2860560"/>
              <a:ext cx="260640" cy="247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1822c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2990880"/>
              <a:ext cx="2286000" cy="9360"/>
            </a:xfrm>
            <a:prstGeom prst="rect">
              <a:avLst/>
            </a:prstGeom>
            <a:gradFill rotWithShape="0">
              <a:gsLst>
                <a:gs pos="0">
                  <a:srgbClr val="0a0e5b"/>
                </a:gs>
                <a:gs pos="50000">
                  <a:srgbClr val="fefefe"/>
                </a:gs>
                <a:gs pos="100000">
                  <a:srgbClr val="0a0e5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076400" y="1905120"/>
              <a:ext cx="9360" cy="2438280"/>
            </a:xfrm>
            <a:prstGeom prst="rect">
              <a:avLst/>
            </a:prstGeom>
            <a:gradFill rotWithShape="0">
              <a:gsLst>
                <a:gs pos="0">
                  <a:srgbClr val="0a0e5b"/>
                </a:gs>
                <a:gs pos="50000">
                  <a:srgbClr val="fefefe"/>
                </a:gs>
                <a:gs pos="100000">
                  <a:srgbClr val="0a0e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144440" y="2990880"/>
              <a:ext cx="5027760" cy="9360"/>
            </a:xfrm>
            <a:prstGeom prst="rect">
              <a:avLst/>
            </a:prstGeom>
            <a:gradFill rotWithShape="0">
              <a:gsLst>
                <a:gs pos="0">
                  <a:srgbClr val="0a0e5b"/>
                </a:gs>
                <a:gs pos="100000">
                  <a:srgbClr val="fefef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0" name="PlaceHolder 4"/>
          <p:cNvSpPr>
            <a:spLocks noGrp="1"/>
          </p:cNvSpPr>
          <p:nvPr>
            <p:ph type="title"/>
          </p:nvPr>
        </p:nvSpPr>
        <p:spPr>
          <a:xfrm>
            <a:off x="609480" y="9903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460ee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460ee"/>
              </a:buClr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0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0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c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38098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2952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ad41a"/>
                </a:solidFill>
                <a:latin typeface="Arial"/>
              </a:rPr>
              <a:t>vocabulaire: chez vous</a:t>
            </a: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181480" y="1676520"/>
            <a:ext cx="3810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460e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ous pouvez habiter dans..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4460e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une mais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219320" y="1846440"/>
            <a:ext cx="3809880" cy="42321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33a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38098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2952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ad41a"/>
                </a:solidFill>
                <a:latin typeface="Arial"/>
              </a:rPr>
              <a:t>dans la chambre il y a...</a:t>
            </a: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181480" y="1676520"/>
            <a:ext cx="3810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460e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e armoi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4460e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 placar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4460e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e commode (à 6 tiroirs, à 3 tiroir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4460e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 chev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4460e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 tap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4460e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e lamp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762120" y="1828800"/>
            <a:ext cx="3809880" cy="4262400"/>
          </a:xfrm>
          <a:prstGeom prst="rect">
            <a:avLst/>
          </a:prstGeom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</p:pic>
    </p:spTree>
  </p:cSld>
  <p:transition>
    <p:random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3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3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3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8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a0e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460ee"/>
                </a:solidFill>
                <a:latin typeface="Arial"/>
              </a:rPr>
              <a:t>dans la salle de bains il y a...</a:t>
            </a: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51055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e serviette/un drap de ba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 miroi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e baignoi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 tapis de ba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989000" y="1143000"/>
            <a:ext cx="51660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297168" presetSubtype="300596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297168" presetSubtype="300596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297168" presetSubtype="300596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0a0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38098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2952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9aaac"/>
                </a:solidFill>
                <a:latin typeface="Arial"/>
              </a:rPr>
              <a:t>qu’est-ce qu’il y a?</a:t>
            </a: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057400" y="1676520"/>
            <a:ext cx="5400720" cy="4572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33a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38098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2952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915400" cy="99072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ad41a"/>
                </a:solidFill>
                <a:latin typeface="Arial"/>
              </a:rPr>
              <a:t>qu’est-ce qu’il y a?</a:t>
            </a: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2095560" y="1523880"/>
            <a:ext cx="4951440" cy="50292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555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38098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2952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cccc"/>
                </a:solidFill>
                <a:latin typeface="Arial"/>
              </a:rPr>
              <a:t>qu’est-ce qu’il y a?</a:t>
            </a: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2490840" y="1447920"/>
            <a:ext cx="4160880" cy="50292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c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38098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2952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ad41a"/>
                </a:solidFill>
                <a:latin typeface="Arial"/>
              </a:rPr>
              <a:t>qu’est-ce qu’il y a?</a:t>
            </a: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685800" y="1697040"/>
            <a:ext cx="7772400" cy="4302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a0e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915400" cy="91440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460ee"/>
                </a:solidFill>
                <a:latin typeface="Arial"/>
              </a:rPr>
              <a:t>qu’est-ce qu’il y a?</a:t>
            </a: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219320" y="1523880"/>
            <a:ext cx="6705360" cy="50292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a0e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1981080"/>
            <a:ext cx="7772400" cy="190512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460ee"/>
                </a:solidFill>
                <a:latin typeface="Arial"/>
              </a:rPr>
              <a:t>qu’est-ce qu’il y a</a:t>
            </a:r>
            <a:br>
              <a:rPr sz="4400"/>
            </a:br>
            <a:r>
              <a:rPr b="1" lang="en-US" sz="4400" spc="-1" strike="noStrike">
                <a:solidFill>
                  <a:srgbClr val="4460ee"/>
                </a:solidFill>
                <a:latin typeface="Arial"/>
              </a:rPr>
              <a:t>dans votre chambre?</a:t>
            </a: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ans ma chambre il y a..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a0e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460ee"/>
                </a:solidFill>
                <a:latin typeface="Arial"/>
              </a:rPr>
              <a:t>chez vous</a:t>
            </a: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181480" y="1676520"/>
            <a:ext cx="3810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460e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ous pouvez habiter dans.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4460e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un immeubl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4460e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un appartement (dans l’immeuble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219320" y="1855800"/>
            <a:ext cx="3809880" cy="4211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297168" presetSubtype="3002468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297168" presetSubtype="3002468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97168" presetSubtype="3002468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555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38098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2952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83844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cccc"/>
                </a:solidFill>
                <a:latin typeface="Arial"/>
              </a:rPr>
              <a:t>dans la maison il y a...</a:t>
            </a: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5791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un salon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une salle à mang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838080" y="1676520"/>
            <a:ext cx="3597480" cy="3301920"/>
          </a:xfrm>
          <a:prstGeom prst="rect">
            <a:avLst/>
          </a:prstGeom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5410080" y="1676520"/>
            <a:ext cx="2576520" cy="3301920"/>
          </a:xfrm>
          <a:prstGeom prst="rect">
            <a:avLst/>
          </a:prstGeom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</p:pic>
    </p:spTree>
  </p:cSld>
  <p:transition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0a0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38098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2952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9aaac"/>
                </a:solidFill>
                <a:latin typeface="Arial"/>
              </a:rPr>
              <a:t>dans le salon il y a...</a:t>
            </a: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952880" y="1143000"/>
            <a:ext cx="38102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460e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 canapé à gauch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4460e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 téléviseur devant le canap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4460e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 magnétoscope sous le téléviseu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4460e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e fenêtre derrière le buff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4460e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s vases sur le buff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4460e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s CD dans le buff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4460e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s rideaux devant la fenêt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28600" y="2181240"/>
            <a:ext cx="4495680" cy="3713040"/>
          </a:xfrm>
          <a:prstGeom prst="rect">
            <a:avLst/>
          </a:prstGeom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</p:pic>
    </p:spTree>
  </p:cSld>
  <p:transition>
    <p:random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a0e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83844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460ee"/>
                </a:solidFill>
                <a:latin typeface="Arial"/>
              </a:rPr>
              <a:t>dans le salon il y a...</a:t>
            </a: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5257440"/>
            <a:ext cx="81532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une étagèr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es affiches sur le mu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es affiches dans des cadr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143000" y="1676520"/>
            <a:ext cx="2468520" cy="3217680"/>
          </a:xfrm>
          <a:prstGeom prst="rect">
            <a:avLst/>
          </a:prstGeom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5181480" y="1676520"/>
            <a:ext cx="2475000" cy="3217680"/>
          </a:xfrm>
          <a:prstGeom prst="rect">
            <a:avLst/>
          </a:prstGeom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</p:pic>
    </p:spTree>
  </p:cSld>
  <p:transition>
    <p:random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33a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38098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2952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458200" cy="99072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ad41a"/>
                </a:solidFill>
                <a:latin typeface="Arial"/>
              </a:rPr>
              <a:t>dans la salle à manger il y a...</a:t>
            </a: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460e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e ta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4460e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 chai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4460e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 bougeoir sur la ta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4460e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 serviettes sur la ta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4460e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e sculpture sur le buff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500720" y="1447920"/>
            <a:ext cx="4028760" cy="4647960"/>
          </a:xfrm>
          <a:prstGeom prst="rect">
            <a:avLst/>
          </a:prstGeom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</p:pic>
    </p:spTree>
  </p:cSld>
  <p:transition>
    <p:random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05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0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5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0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5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c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38098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2952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10480" cy="91440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ad41a"/>
                </a:solidFill>
                <a:latin typeface="Arial"/>
              </a:rPr>
              <a:t>dans la salle à manger il y a...</a:t>
            </a: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0" y="53337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es tasses à café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des bol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es soucoupe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  des assiettes    des tasses à thé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828800" y="990720"/>
            <a:ext cx="5576760" cy="4267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0a0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38098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2952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915400" cy="91440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9aaac"/>
                </a:solidFill>
                <a:latin typeface="Arial"/>
              </a:rPr>
              <a:t>dans la salle à manger il y a...</a:t>
            </a: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181480" y="1294920"/>
            <a:ext cx="32767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4460e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 couvert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4460e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 coutea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4460e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e fourchet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4460e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e cuillière de ta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4460e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e cuillère à caf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04920" y="2316240"/>
            <a:ext cx="4647960" cy="3290760"/>
          </a:xfrm>
          <a:prstGeom prst="rect">
            <a:avLst/>
          </a:prstGeom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</p:pic>
    </p:spTree>
  </p:cSld>
  <p:transition>
    <p:random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4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9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4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9" dur="5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4" dur="5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555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38098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2952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915400" cy="91440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cccc"/>
                </a:solidFill>
                <a:latin typeface="Arial"/>
              </a:rPr>
              <a:t>dans la chambre il y a...</a:t>
            </a: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1640" y="1523520"/>
            <a:ext cx="4267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460e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 l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460e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 linge de lit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5dbac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 oreill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5dbac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e couet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5dbac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 drap (housse/pla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5dbac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e taie d’oreill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5dbac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e housse de couet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5dbac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 couvre-l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138320" y="1523880"/>
            <a:ext cx="2905200" cy="4572000"/>
          </a:xfrm>
          <a:prstGeom prst="rect">
            <a:avLst/>
          </a:prstGeom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</p:pic>
    </p:spTree>
  </p:cSld>
  <p:transition>
    <p:random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71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76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81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86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91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96" dur="5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01" dur="500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06" dur="500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7T21:18:56Z</dcterms:created>
  <dc:creator>Alice Chou</dc:creator>
  <dc:description/>
  <dc:language>en-US</dc:language>
  <cp:lastModifiedBy>CSeccombe</cp:lastModifiedBy>
  <dcterms:modified xsi:type="dcterms:W3CDTF">2005-06-02T09:37:56Z</dcterms:modified>
  <cp:revision>63</cp:revision>
  <dc:subject/>
  <dc:title>FRN 150</dc:title>
</cp:coreProperties>
</file>