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9D6-B472-4D0C-8BC1-112FC12F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E5D-0BE4-41CC-8088-A1F3889E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156-7023-43B3-8AD0-0F8F4109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3E4-2B0B-4641-B699-3B8F364E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DF96-7C82-4183-A942-0804D1D8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17D3-85AD-4674-8D22-C3CDEA61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8B31-BC1A-4AA9-A369-9D355A82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8998-75AA-442D-B4D4-DE84F0EE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BEC4-B5A3-413C-A2EA-3852CA75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6C21-1F80-4395-A25A-8C8A60F0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94A3-B7C2-43E3-A038-54246A32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276-62D4-43E9-8281-37E9866A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12BE-17FF-428B-A173-3FA62327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5F9D-3361-49CA-99A7-37BF7F15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B04C-E52E-4CA1-B75E-6AB3CB8D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95ED-DA5B-464D-858B-F3D5FD19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E61-5453-45DC-903B-98D092DB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822-8557-4889-B8FF-848E16D8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34D-1282-4814-8919-2C12F7F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3DB-5244-48F6-AB0D-AD3044DC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AAF-C888-4FC1-A92F-7ACBB496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79E-646D-48FB-9163-9EF6328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B37-6F8E-4AF3-BE87-8FB67137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135-D642-4252-8998-011FCC5E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7E1A-95F4-4BCE-AE8D-800877370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2A22-98C7-4A7C-A7AE-0F444B092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55" name="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c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vocabulaire: chez vou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pouvez habiter dans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e ma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1846440"/>
            <a:ext cx="3809880" cy="423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a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dans la chambre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armo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plac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commode (à 6 tiroirs, à 3 tiroi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chev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tap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lam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809880" cy="42624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dans la salle de bains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serviette/un drap de b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miroi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baigno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tapis de b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89000" y="1143000"/>
            <a:ext cx="5166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97168" presetSubtype="300596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97168" presetSubtype="300596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97168" presetSubtype="300596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0a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aac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40072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a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907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95560" y="1523880"/>
            <a:ext cx="495144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5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cc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90840" y="1447920"/>
            <a:ext cx="416088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c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1697040"/>
            <a:ext cx="7772400" cy="430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qu’est-ce qu’il y a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qu’est-ce qu’il y a</a:t>
            </a:r>
            <a:br>
              <a:rPr sz="4400"/>
            </a:b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dans votre chambre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ns ma chambre il y a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hez vou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pouvez habiter dan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 immeu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 appartement (dans l’immeub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855800"/>
            <a:ext cx="3809880" cy="421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300246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300246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97168" presetSubtype="300246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5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83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cc"/>
                </a:solidFill>
                <a:latin typeface="Arial"/>
              </a:rPr>
              <a:t>dans la maison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5791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 sal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une salle à man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597480" cy="3301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576520" cy="3301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0a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aac"/>
                </a:solidFill>
                <a:latin typeface="Arial"/>
              </a:rPr>
              <a:t>dans le salon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canapé à gau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téléviseur devant le canap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magnétoscope sous le télévis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 fenêtre derrière le buff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 vases sur le buff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 CD dans le buff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 rideaux devant la fen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2181240"/>
            <a:ext cx="4495680" cy="37130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83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dans le salon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e étagè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 affiches sur le m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 affiches dans des cad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468520" cy="32176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2475000" cy="32176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a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dans la salle à manger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 cha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bougeoir sur la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 serviettes sur la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sculpture sur le buff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1447920"/>
            <a:ext cx="4028760" cy="46479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c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41a"/>
                </a:solidFill>
                <a:latin typeface="Arial"/>
              </a:rPr>
              <a:t>dans la salle à manger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 tasses à café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des bo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 soucoup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des assiettes    des tasses à th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57676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0a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aac"/>
                </a:solidFill>
                <a:latin typeface="Arial"/>
              </a:rPr>
              <a:t>dans la salle à manger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81480" y="1294920"/>
            <a:ext cx="3276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 couve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coutea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fourche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cuillière de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cuillère à caf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2316240"/>
            <a:ext cx="4647960" cy="32907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5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cc"/>
                </a:solidFill>
                <a:latin typeface="Arial"/>
              </a:rPr>
              <a:t>dans la chambre il y a...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164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 linge de li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orei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coue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drap (housse/pl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taie d’orei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 housse de coue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couvre-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38320" y="1523880"/>
            <a:ext cx="2905200" cy="45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1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1:18:56Z</dcterms:created>
  <dc:creator>Alice Chou</dc:creator>
  <dc:description/>
  <dc:language>en-US</dc:language>
  <cp:lastModifiedBy>CSeccombe</cp:lastModifiedBy>
  <dcterms:modified xsi:type="dcterms:W3CDTF">2005-06-02T09:37:56Z</dcterms:modified>
  <cp:revision>63</cp:revision>
  <dc:subject/>
  <dc:title>FRN 150</dc:title>
</cp:coreProperties>
</file>