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camera.wav" ContentType="audio/x-wav"/>
  <Override PartName="/ppt/media/image5.wmf" ContentType="image/x-wmf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8FD-B3AA-492C-98EB-7FAA4CE6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91B-42DB-4AFC-BCA7-E5C7A72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730-CA86-4E90-94E3-E8B87366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EE7-510A-40C1-947F-5486900D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93A-B60E-482E-B13A-0C0B5C5C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66A-C37D-4398-BB2F-590F560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895-F48B-4FCF-8BE0-7BF7511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DB8-C4BE-4025-89D2-1005103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F98-8080-4E1E-95F1-E0C485A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93C-5248-496F-9EC9-42B5DD2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46B-E4FA-4715-A73C-839417C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266-12E8-4B70-A19C-A876AB2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7360-D444-4ABE-A258-0E82C5D9C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r8/9 French. Can be used to introduce or consolidate vocab &amp; good as a prediction activity with class guessing at what time you do things, 100 pts is exactly right, 50pts in +/-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257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rentre chez m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19160" y="5714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4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244680" cy="210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7200" y="1371600"/>
            <a:ext cx="2508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181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dî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743200" y="56386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empus Sans ITC"/>
              </a:rPr>
              <a:t>à 7heures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260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790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fais mes devo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57146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8 h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6766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regarde la té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24080" y="54860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9 he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429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cou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6720" y="54860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10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5305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empus Sans ITC"/>
              </a:rPr>
              <a:t>se lever = to g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Je me lève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Tu te lèves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Il/elle se lè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Nous nous lev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Vous vous le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Tempus Sans ITC"/>
              </a:rPr>
              <a:t>Ils/elles se lè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905120"/>
            <a:ext cx="3733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I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You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He/she get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We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You get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They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143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u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5146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514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la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292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4292640"/>
            <a:ext cx="11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429264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empus Sans ITC"/>
              </a:rPr>
              <a:t>brosse les 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empus Sans ITC"/>
              </a:rPr>
              <a:t>Remplis les blanc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u _____ lèves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e _____ lève à huit he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_____ lève après m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ous _____ couchez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et moi, nous _____ couchons à 10 he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es parents _____ couchent plus t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empus Sans ITC"/>
              </a:rPr>
              <a:t>Les répons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u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t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s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J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m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 à huit he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s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lève après m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Vou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vous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ez à quelle he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on frère et moi, nou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nous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ons à 10 he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Mes paren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_se_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couchent plus t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905120"/>
            <a:ext cx="7162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 routine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990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réve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5715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lè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2160" y="5257800"/>
            <a:ext cx="4647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47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douc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81280" y="5562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6 heures 5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566720"/>
            <a:ext cx="44197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’hab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90760" y="5409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6120" y="838080"/>
            <a:ext cx="2876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me brosse les d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581280" y="548640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751040"/>
            <a:ext cx="3809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vais au collè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733920" y="54100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à 7 heures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74800" y="1219320"/>
            <a:ext cx="256248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1100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Je vais au collè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14240" y="54864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80"/>
                </a:solidFill>
                <a:latin typeface="Tempus Sans ITC"/>
              </a:rPr>
              <a:t>se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94000" y="1851120"/>
            <a:ext cx="15973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7:37:26Z</dcterms:created>
  <dc:creator>DixonR</dc:creator>
  <dc:description/>
  <dc:language>en-US</dc:language>
  <cp:lastModifiedBy>CSeccombe</cp:lastModifiedBy>
  <dcterms:modified xsi:type="dcterms:W3CDTF">2005-06-02T09:56:21Z</dcterms:modified>
  <cp:revision>10</cp:revision>
  <dc:subject/>
  <dc:title>PowerPoint Presentation</dc:title>
</cp:coreProperties>
</file>