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camera.wav" ContentType="audio/x-wav"/>
  <Override PartName="/ppt/media/image5.wmf" ContentType="image/x-wmf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556-A2E7-455D-8F07-3A3F684F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2F2-4922-420D-8FE5-315E5CE9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05F-789D-4769-BC7D-26C15684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BA5-3685-476E-84D6-AA3E5D85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BD8-8AB4-4965-8BFA-E893FB06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388-2111-4545-804D-1D5371F1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BA6-9468-4110-9A59-76712D7A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026-1D26-4C03-B0B9-4994EEEB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A85-151B-4CCF-A7CD-CCFC2878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DD1-DC8A-4933-835F-FFD577F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AC8-8706-427A-BA43-AA75E586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7CA-81D7-4C21-A3F2-F8DF9372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5BD8-3C28-4FDA-B4CA-E5607072F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r8/9 French. Can be used to introduce or consolidate vocab &amp; good as a prediction activity with class guessing at what time you do things, 100 pts is exactly right, 50pts in +/-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257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rentre chez m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19160" y="5714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4 heures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244680" cy="2103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7200" y="1371600"/>
            <a:ext cx="25081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181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dî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743200" y="563868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empus Sans ITC"/>
              </a:rPr>
              <a:t>à 7heures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2600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790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fais mes devo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828800" y="57146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8 he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6766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regarde la tél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124080" y="54860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9 he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34290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me cou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76720" y="548604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10 heures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35305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empus Sans ITC"/>
              </a:rPr>
              <a:t>se lever = to get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Je me lève</a:t>
            </a: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Tu te lèves</a:t>
            </a: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Il/elle se lè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Nous nous lev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Vous vous lev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Ils/elles se lè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1905120"/>
            <a:ext cx="3733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I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You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He/she gets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We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You get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They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1143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ou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2514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25146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2514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lav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2926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4292640"/>
            <a:ext cx="11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4292640"/>
            <a:ext cx="47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brosse les 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empus Sans ITC"/>
              </a:rPr>
              <a:t>Remplis les blanc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u _____ lèves à quelle he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Je _____ lève à huit he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Mon frère _____ lève après mo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Vous _____ couchez à quelle he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Mon frère et moi, nous _____ couchons à 10 he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Mes parents _____ couchent plus t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empus Sans ITC"/>
              </a:rPr>
              <a:t>Les répons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u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_te_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lèves à quelle he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J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_me_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lève à huit he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Mon frèr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_se_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lève après mo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Vou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_vous_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couchez à quelle he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Mon frère et moi, nou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_nous_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couchons à 10 he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Mes paren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_se_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couchent plus t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1905120"/>
            <a:ext cx="7162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 routine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990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me révei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5715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6 heures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7335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me lè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2160" y="5257800"/>
            <a:ext cx="4647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6 heures 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30477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me douc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81280" y="556236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6 heures 5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1566720"/>
            <a:ext cx="441972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m’habi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90760" y="5409720"/>
            <a:ext cx="4267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7 heures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86120" y="838080"/>
            <a:ext cx="2876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me brosse les d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581280" y="5486400"/>
            <a:ext cx="5105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7 heures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751040"/>
            <a:ext cx="38098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vais au collè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733920" y="5410080"/>
            <a:ext cx="5029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7 heures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74800" y="1219320"/>
            <a:ext cx="2562480" cy="298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1100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vais au collè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14240" y="54864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se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94000" y="1851120"/>
            <a:ext cx="15973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7:37:26Z</dcterms:created>
  <dc:creator>DixonR</dc:creator>
  <dc:description/>
  <dc:language>en-US</dc:language>
  <cp:lastModifiedBy>CSeccombe</cp:lastModifiedBy>
  <dcterms:modified xsi:type="dcterms:W3CDTF">2005-06-02T09:56:21Z</dcterms:modified>
  <cp:revision>10</cp:revision>
  <dc:subject/>
  <dc:title>PowerPoint Presentation</dc:title>
</cp:coreProperties>
</file>