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DC8-BF96-4A94-874E-B8A76372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A35-4EB0-4C4D-BFA2-A0EEB06A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41D-8E82-4327-A1F3-9609695E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69F-5514-43CA-811B-C413E541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39F-190B-45B4-BF45-7706DEBC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1E3-5AE2-4F44-B10A-C058D1F0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98A-E67A-4E4A-A46F-60B7D421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7F8-8858-4DD2-B4F3-824E8083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677-E6FB-422A-85D3-F773D905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1F3-AC2F-49E4-808F-163DF67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3ED-8C11-4842-91A6-3D2F078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07C-5E9C-473C-AD07-FF8B644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04C7-D762-46DF-9C35-503028042E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33"/>
                </a:solidFill>
                <a:latin typeface="Times New Roman"/>
              </a:rPr>
              <a:t>QU’EST-CE QUE TU FAIS </a:t>
            </a:r>
            <a:r>
              <a:rPr b="0" lang="en-US" sz="8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À LA MAISO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verbs we have found in the sentences earlier are all –ER 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jou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regar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a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’écou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’ai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surf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r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travail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vai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re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you can see, in the infinitive the verbs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 in the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’s remind ourselves that all verbs belonging to the same group behave the sa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o if we need to use one of these verbs in a sentence with a subject what is the first thing we need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need to get rid of the –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u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ard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ut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id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rf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vaill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va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 we can add different endings depending on who does th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990033"/>
                </a:solidFill>
                <a:uFillTx/>
                <a:latin typeface="Times New Roman"/>
              </a:rPr>
              <a:t>Les verbes en -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l / 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ls / 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57600" y="1981080"/>
            <a:ext cx="13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1981080"/>
            <a:ext cx="137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0033"/>
                </a:solidFill>
                <a:latin typeface="Times New Roman"/>
              </a:rPr>
              <a:t>A vous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la télé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au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à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El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N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ma mè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V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609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de la mus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489040" cy="237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2048040" cy="271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121440" y="380880"/>
            <a:ext cx="302256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90720" y="3505320"/>
            <a:ext cx="3327120" cy="2103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943600" y="2971800"/>
            <a:ext cx="2179800" cy="3209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743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go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2819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foot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438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rugb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5697360"/>
            <a:ext cx="4190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tennis d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ping-p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324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à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Ma so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au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609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Moi et mon fr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la télé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Mes soeu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la ra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320040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533520"/>
            <a:ext cx="77724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Je fais beaucoup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e chos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à la maison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011320" cy="330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943600" y="228600"/>
            <a:ext cx="2897280" cy="3940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3708360" cy="29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3124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volley-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808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vec mon frère et ma so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8006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sur mon ordinat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16120" cy="4260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91120" y="0"/>
            <a:ext cx="4546440" cy="242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3251160" cy="3103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3048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’écoute de la mus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666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’écoute la ra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0292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’écoute des C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1415880" cy="312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892840" y="228600"/>
            <a:ext cx="3251160" cy="3043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2120" y="3581280"/>
            <a:ext cx="2869920" cy="2462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114800" y="4038480"/>
            <a:ext cx="4672080" cy="211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752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dess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53352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fais mes devo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travai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324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surfe sur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62485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regarde la télé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536920" cy="2890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181620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3232080" cy="3298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629400" y="3581280"/>
            <a:ext cx="188424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19520" y="5335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da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20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ch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6338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’aide mon père et ma mè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3886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reste à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0033"/>
                </a:solidFill>
                <a:latin typeface="Times New Roman"/>
              </a:rPr>
              <a:t>Un peu de grammair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33"/>
                </a:solidFill>
                <a:uFillTx/>
                <a:latin typeface="Times New Roman"/>
              </a:rPr>
              <a:t>Les ver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oes anybody remember what a verb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es it is a doing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an you tell me where the verbs are in the following sent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joue au  go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regarde la tél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travai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’écoute de la mus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surfe sur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reste à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’aide ma mè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 anybody remember what the infinitive of a verb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 it is the form of the verb you find in a dictionary, it has no meaning of time or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w do we recognise an infinitive in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b has TO in front o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are the equivalent of TO in Fren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bs end in –ER, -RE, -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en we use a verb in a sentence in English and it has a subject, do we keep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, we get rid o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do you think we are going to do to French verbs when we want to use them with a subj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we will have to get rid of the –ER, -RE and -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2:32:00Z</dcterms:created>
  <dc:creator>barats</dc:creator>
  <dc:description/>
  <dc:language>en-US</dc:language>
  <cp:lastModifiedBy>CSeccombe</cp:lastModifiedBy>
  <dcterms:modified xsi:type="dcterms:W3CDTF">2005-06-02T09:58:58Z</dcterms:modified>
  <cp:revision>24</cp:revision>
  <dc:subject/>
  <dc:title>QU’EST-CE QUE TU FAIS À LA MAISON?</dc:title>
</cp:coreProperties>
</file>