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F4D-49AA-42D4-A7EA-19A69F96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7D0-EE44-4C6E-A8CB-68703F6A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835-08CB-4B41-8114-EA8813DE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1F6-065A-4853-923B-EEDA003D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3AE-3EEF-4E29-9ACF-D8FA1D8A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30A-A008-4023-A448-0A32AAE8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D74-88B4-43B8-AEC6-3A8D7378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4F1-03FB-4199-A3AB-E5FA425F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A23-EC84-4D20-9573-52A7DDED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1D5-9651-425A-9435-3AEC8489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757-21FB-4B3A-83E8-A982836E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FE4-F264-431F-93E6-429C4336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5909-7746-4CB7-AF84-7CAE9FAA0A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2060640"/>
            <a:ext cx="8353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L'alphabet</a:t>
            </a:r>
            <a:endParaRPr b="1" lang="en-US" sz="72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409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815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1609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44863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684072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9723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57610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8039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4102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5148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12144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373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480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924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597528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6978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08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22520" y="476280"/>
            <a:ext cx="5898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337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633600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3356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5319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7774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12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48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3:20:58Z</dcterms:created>
  <dc:creator>P.Seccombe</dc:creator>
  <dc:description/>
  <dc:language>en-US</dc:language>
  <cp:lastModifiedBy>PSeccombe</cp:lastModifiedBy>
  <dcterms:modified xsi:type="dcterms:W3CDTF">2005-08-03T21:08:45Z</dcterms:modified>
  <cp:revision>3</cp:revision>
  <dc:subject/>
  <dc:title>Slide 1</dc:title>
</cp:coreProperties>
</file>