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E80-3838-4E8F-B508-1FFFBDF7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598-4810-406E-B3B1-B82FA3CB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091-5C53-40AC-8BDB-4C643103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AA8-9BF4-44C4-9A4D-5A95F9CA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954-94C7-4093-BEBA-37205A76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1A7-FC07-4585-BFA8-29F312D5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702-DD82-4590-B696-18AF778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F7C-7940-4857-8BD6-A020A54A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8FB-3B68-4D3A-844B-40DBCC4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F14-1992-4160-AB14-0D9E898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0FA-1498-4889-B4BF-22127C8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C80-1ADA-410B-B49E-A7F62F1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EAD-5F26-48A6-BAA3-57A08C86DA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2060640"/>
            <a:ext cx="8353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L'alphabet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409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815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1609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486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84072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72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761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803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02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51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373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924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22520" y="476280"/>
            <a:ext cx="5898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3360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56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319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7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48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20:58Z</dcterms:created>
  <dc:creator>P.Seccombe</dc:creator>
  <dc:description/>
  <dc:language>en-US</dc:language>
  <cp:lastModifiedBy>PSeccombe</cp:lastModifiedBy>
  <dcterms:modified xsi:type="dcterms:W3CDTF">2005-08-03T21:08:45Z</dcterms:modified>
  <cp:revision>3</cp:revision>
  <dc:subject/>
  <dc:title>Slide 1</dc:title>
</cp:coreProperties>
</file>