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D5B-3F92-4E2D-9F80-A68F4406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AE5-ADA7-4B57-BFDB-E340E5C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080-1607-465B-A1C3-04C02178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B01-82AA-4B4F-A63A-BBC2554A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1A3-3296-4185-8D1C-787728C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CC1-4804-4D8B-A9BB-D1E7D4C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9B0-9808-487F-A8D6-36A1480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342-AA22-4311-9BB4-7A29FC29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E6A-67E2-43A1-AE0A-6336FF3C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542-D7CE-47F3-9B20-C69FE7B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43C-C10D-48D1-9E44-2AE4138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078-5E02-442E-A59C-176C04B4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457A-EE3C-4C08-8B37-3F8B980A8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bift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bift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salade v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bift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salade v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oi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9:26:26Z</dcterms:created>
  <dc:creator>CSeccombe</dc:creator>
  <dc:description/>
  <dc:language>en-US</dc:language>
  <cp:lastModifiedBy>PSeccombe</cp:lastModifiedBy>
  <dcterms:modified xsi:type="dcterms:W3CDTF">2005-08-03T21:11:35Z</dcterms:modified>
  <cp:revision>4</cp:revision>
  <dc:subject/>
  <dc:title>Slide 1</dc:title>
</cp:coreProperties>
</file>