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EC1-283D-4CF0-B58B-F82CBBE2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0898-5E13-4AEA-9DDC-E88B6B7B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B952-5C83-4B8B-962F-599F6695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ACF5-854E-4E3A-A07D-489D6EAF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EF25-66A5-4D1C-A304-CF843481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0652-E425-464F-ABA6-12225463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262B-9159-4139-93A2-CE19FB95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117-2905-4393-879B-F5730803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3F1D-16DA-4CF2-9A39-EBD33CB8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56FF-EDA8-4B7F-A8CD-94FF7D2D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88D0-B49C-488E-87DC-BB8AABEA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13CB-9266-4251-8E92-3E52E5A3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A007-411F-4DC7-B4F5-3B1D8F468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Filename: j0131109.wmf&#13;File Size: 13 KB"/>
          <p:cNvPicPr/>
          <p:nvPr/>
        </p:nvPicPr>
        <p:blipFill>
          <a:blip r:embed="rId1"/>
          <a:stretch/>
        </p:blipFill>
        <p:spPr>
          <a:xfrm>
            <a:off x="0" y="541188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260280"/>
            <a:ext cx="4752720" cy="5184720"/>
          </a:xfrm>
          <a:prstGeom prst="wedgeRoundRectCallout">
            <a:avLst>
              <a:gd name="adj1" fmla="val -36375"/>
              <a:gd name="adj2" fmla="val 57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Dans mon sandwich il y a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2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3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4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5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6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7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333360"/>
            <a:ext cx="3313080" cy="43164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6929280" y="2366640"/>
            <a:ext cx="720720" cy="3708360"/>
          </a:xfrm>
          <a:custGeom>
            <a:avLst/>
            <a:gdLst>
              <a:gd name="textAreaLeft" fmla="*/ 211680 w 720720"/>
              <a:gd name="textAreaRight" fmla="*/ 721080 w 720720"/>
              <a:gd name="textAreaTop" fmla="*/ 128160 h 3708360"/>
              <a:gd name="textAreaBottom" fmla="*/ 3580200 h 37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49"/>
                  <a:pt x="0" y="1497"/>
                </a:cubicBezTo>
                <a:lnTo>
                  <a:pt x="0" y="20103"/>
                </a:lnTo>
                <a:cubicBezTo>
                  <a:pt x="0" y="20852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Filename: FD00513_.wmf&#13;File Size: 5 KB"/>
          <p:cNvPicPr/>
          <p:nvPr/>
        </p:nvPicPr>
        <p:blipFill>
          <a:blip r:embed="rId2"/>
          <a:stretch/>
        </p:blipFill>
        <p:spPr>
          <a:xfrm>
            <a:off x="5724360" y="836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Filename: FD00513_.wmf&#13;File Size: 5 KB"/>
          <p:cNvPicPr/>
          <p:nvPr/>
        </p:nvPicPr>
        <p:blipFill>
          <a:blip r:embed="rId3"/>
          <a:stretch/>
        </p:blipFill>
        <p:spPr>
          <a:xfrm>
            <a:off x="637236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Filename: FD00513_.wmf&#13;File Size: 5 KB"/>
          <p:cNvPicPr/>
          <p:nvPr/>
        </p:nvPicPr>
        <p:blipFill>
          <a:blip r:embed="rId4"/>
          <a:stretch/>
        </p:blipFill>
        <p:spPr>
          <a:xfrm>
            <a:off x="702000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Filename: FD00513_.wmf&#13;File Size: 5 KB"/>
          <p:cNvPicPr/>
          <p:nvPr/>
        </p:nvPicPr>
        <p:blipFill>
          <a:blip r:embed="rId5"/>
          <a:stretch/>
        </p:blipFill>
        <p:spPr>
          <a:xfrm>
            <a:off x="766764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Filename: FD00513_.wmf&#13;File Size: 5 KB"/>
          <p:cNvPicPr/>
          <p:nvPr/>
        </p:nvPicPr>
        <p:blipFill>
          <a:blip r:embed="rId6"/>
          <a:stretch/>
        </p:blipFill>
        <p:spPr>
          <a:xfrm>
            <a:off x="8317080" y="83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38036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0872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9636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2800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6720" y="1341360"/>
            <a:ext cx="14256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4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45964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675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0072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27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0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0400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1672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9308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2436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11760" y="1784520"/>
            <a:ext cx="3259080" cy="376200"/>
          </a:xfrm>
          <a:custGeom>
            <a:avLst/>
            <a:gdLst/>
            <a:ahLst/>
            <a:rect l="l" t="t" r="r" b="b"/>
            <a:pathLst>
              <a:path w="2053" h="237">
                <a:moveTo>
                  <a:pt x="17" y="120"/>
                </a:moveTo>
                <a:cubicBezTo>
                  <a:pt x="37" y="89"/>
                  <a:pt x="49" y="89"/>
                  <a:pt x="83" y="78"/>
                </a:cubicBezTo>
                <a:cubicBezTo>
                  <a:pt x="165" y="84"/>
                  <a:pt x="224" y="102"/>
                  <a:pt x="300" y="78"/>
                </a:cubicBezTo>
                <a:cubicBezTo>
                  <a:pt x="345" y="85"/>
                  <a:pt x="389" y="96"/>
                  <a:pt x="434" y="103"/>
                </a:cubicBezTo>
                <a:cubicBezTo>
                  <a:pt x="448" y="100"/>
                  <a:pt x="463" y="100"/>
                  <a:pt x="476" y="95"/>
                </a:cubicBezTo>
                <a:cubicBezTo>
                  <a:pt x="507" y="83"/>
                  <a:pt x="519" y="55"/>
                  <a:pt x="551" y="45"/>
                </a:cubicBezTo>
                <a:cubicBezTo>
                  <a:pt x="619" y="54"/>
                  <a:pt x="606" y="61"/>
                  <a:pt x="659" y="78"/>
                </a:cubicBezTo>
                <a:cubicBezTo>
                  <a:pt x="701" y="75"/>
                  <a:pt x="743" y="77"/>
                  <a:pt x="785" y="70"/>
                </a:cubicBezTo>
                <a:cubicBezTo>
                  <a:pt x="812" y="66"/>
                  <a:pt x="811" y="44"/>
                  <a:pt x="826" y="28"/>
                </a:cubicBezTo>
                <a:cubicBezTo>
                  <a:pt x="842" y="11"/>
                  <a:pt x="855" y="10"/>
                  <a:pt x="876" y="3"/>
                </a:cubicBezTo>
                <a:cubicBezTo>
                  <a:pt x="912" y="6"/>
                  <a:pt x="949" y="6"/>
                  <a:pt x="985" y="11"/>
                </a:cubicBezTo>
                <a:cubicBezTo>
                  <a:pt x="1018" y="15"/>
                  <a:pt x="1053" y="43"/>
                  <a:pt x="1085" y="53"/>
                </a:cubicBezTo>
                <a:cubicBezTo>
                  <a:pt x="1143" y="45"/>
                  <a:pt x="1162" y="35"/>
                  <a:pt x="1219" y="45"/>
                </a:cubicBezTo>
                <a:cubicBezTo>
                  <a:pt x="1283" y="87"/>
                  <a:pt x="1249" y="81"/>
                  <a:pt x="1319" y="70"/>
                </a:cubicBezTo>
                <a:cubicBezTo>
                  <a:pt x="1367" y="22"/>
                  <a:pt x="1381" y="38"/>
                  <a:pt x="1444" y="53"/>
                </a:cubicBezTo>
                <a:cubicBezTo>
                  <a:pt x="1523" y="40"/>
                  <a:pt x="1594" y="27"/>
                  <a:pt x="1669" y="3"/>
                </a:cubicBezTo>
                <a:cubicBezTo>
                  <a:pt x="1731" y="22"/>
                  <a:pt x="1728" y="19"/>
                  <a:pt x="1811" y="11"/>
                </a:cubicBezTo>
                <a:cubicBezTo>
                  <a:pt x="1847" y="0"/>
                  <a:pt x="1864" y="7"/>
                  <a:pt x="1895" y="28"/>
                </a:cubicBezTo>
                <a:cubicBezTo>
                  <a:pt x="1922" y="68"/>
                  <a:pt x="1957" y="67"/>
                  <a:pt x="2003" y="78"/>
                </a:cubicBezTo>
                <a:cubicBezTo>
                  <a:pt x="2014" y="84"/>
                  <a:pt x="2029" y="85"/>
                  <a:pt x="2037" y="95"/>
                </a:cubicBezTo>
                <a:cubicBezTo>
                  <a:pt x="2047" y="109"/>
                  <a:pt x="2053" y="145"/>
                  <a:pt x="2053" y="145"/>
                </a:cubicBezTo>
                <a:cubicBezTo>
                  <a:pt x="2041" y="193"/>
                  <a:pt x="2039" y="181"/>
                  <a:pt x="1995" y="195"/>
                </a:cubicBezTo>
                <a:cubicBezTo>
                  <a:pt x="1948" y="188"/>
                  <a:pt x="1898" y="193"/>
                  <a:pt x="1853" y="178"/>
                </a:cubicBezTo>
                <a:cubicBezTo>
                  <a:pt x="1843" y="175"/>
                  <a:pt x="1845" y="156"/>
                  <a:pt x="1836" y="153"/>
                </a:cubicBezTo>
                <a:cubicBezTo>
                  <a:pt x="1812" y="145"/>
                  <a:pt x="1786" y="148"/>
                  <a:pt x="1761" y="145"/>
                </a:cubicBezTo>
                <a:cubicBezTo>
                  <a:pt x="1702" y="156"/>
                  <a:pt x="1655" y="172"/>
                  <a:pt x="1594" y="178"/>
                </a:cubicBezTo>
                <a:cubicBezTo>
                  <a:pt x="1532" y="170"/>
                  <a:pt x="1497" y="162"/>
                  <a:pt x="1436" y="170"/>
                </a:cubicBezTo>
                <a:cubicBezTo>
                  <a:pt x="1366" y="217"/>
                  <a:pt x="1316" y="161"/>
                  <a:pt x="1252" y="145"/>
                </a:cubicBezTo>
                <a:cubicBezTo>
                  <a:pt x="1184" y="99"/>
                  <a:pt x="1173" y="153"/>
                  <a:pt x="1119" y="170"/>
                </a:cubicBezTo>
                <a:cubicBezTo>
                  <a:pt x="1079" y="196"/>
                  <a:pt x="1069" y="184"/>
                  <a:pt x="1027" y="170"/>
                </a:cubicBezTo>
                <a:cubicBezTo>
                  <a:pt x="984" y="176"/>
                  <a:pt x="957" y="183"/>
                  <a:pt x="918" y="195"/>
                </a:cubicBezTo>
                <a:cubicBezTo>
                  <a:pt x="910" y="201"/>
                  <a:pt x="903" y="211"/>
                  <a:pt x="893" y="212"/>
                </a:cubicBezTo>
                <a:cubicBezTo>
                  <a:pt x="837" y="219"/>
                  <a:pt x="857" y="185"/>
                  <a:pt x="810" y="170"/>
                </a:cubicBezTo>
                <a:cubicBezTo>
                  <a:pt x="762" y="176"/>
                  <a:pt x="715" y="198"/>
                  <a:pt x="668" y="203"/>
                </a:cubicBezTo>
                <a:cubicBezTo>
                  <a:pt x="623" y="208"/>
                  <a:pt x="579" y="209"/>
                  <a:pt x="534" y="212"/>
                </a:cubicBezTo>
                <a:cubicBezTo>
                  <a:pt x="488" y="227"/>
                  <a:pt x="381" y="199"/>
                  <a:pt x="334" y="195"/>
                </a:cubicBezTo>
                <a:cubicBezTo>
                  <a:pt x="298" y="183"/>
                  <a:pt x="289" y="177"/>
                  <a:pt x="250" y="187"/>
                </a:cubicBezTo>
                <a:cubicBezTo>
                  <a:pt x="200" y="237"/>
                  <a:pt x="151" y="223"/>
                  <a:pt x="75" y="228"/>
                </a:cubicBezTo>
                <a:cubicBezTo>
                  <a:pt x="61" y="225"/>
                  <a:pt x="44" y="229"/>
                  <a:pt x="33" y="220"/>
                </a:cubicBezTo>
                <a:cubicBezTo>
                  <a:pt x="17" y="208"/>
                  <a:pt x="0" y="170"/>
                  <a:pt x="0" y="170"/>
                </a:cubicBezTo>
                <a:cubicBezTo>
                  <a:pt x="3" y="159"/>
                  <a:pt x="4" y="147"/>
                  <a:pt x="8" y="137"/>
                </a:cubicBezTo>
                <a:cubicBezTo>
                  <a:pt x="14" y="122"/>
                  <a:pt x="37" y="98"/>
                  <a:pt x="17" y="120"/>
                </a:cubicBezTo>
                <a:close/>
              </a:path>
            </a:pathLst>
          </a:custGeom>
          <a:solidFill>
            <a:srgbClr val="d84e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Filename: FD00131_.wmf&#13;File Size: 5 KB"/>
          <p:cNvPicPr/>
          <p:nvPr/>
        </p:nvPicPr>
        <p:blipFill>
          <a:blip r:embed="rId7"/>
          <a:stretch/>
        </p:blipFill>
        <p:spPr>
          <a:xfrm>
            <a:off x="5724360" y="2205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Filename: FD00131_.wmf&#13;File Size: 5 KB"/>
          <p:cNvPicPr/>
          <p:nvPr/>
        </p:nvPicPr>
        <p:blipFill>
          <a:blip r:embed="rId8"/>
          <a:stretch/>
        </p:blipFill>
        <p:spPr>
          <a:xfrm>
            <a:off x="637236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Filename: FD00131_.wmf&#13;File Size: 5 KB"/>
          <p:cNvPicPr/>
          <p:nvPr/>
        </p:nvPicPr>
        <p:blipFill>
          <a:blip r:embed="rId9"/>
          <a:stretch/>
        </p:blipFill>
        <p:spPr>
          <a:xfrm>
            <a:off x="709308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Filename: FD00131_.wmf&#13;File Size: 5 KB"/>
          <p:cNvPicPr/>
          <p:nvPr/>
        </p:nvPicPr>
        <p:blipFill>
          <a:blip r:embed="rId10"/>
          <a:stretch/>
        </p:blipFill>
        <p:spPr>
          <a:xfrm>
            <a:off x="774072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Filename: FD00131_.wmf&#13;File Size: 5 KB"/>
          <p:cNvPicPr/>
          <p:nvPr/>
        </p:nvPicPr>
        <p:blipFill>
          <a:blip r:embed="rId11"/>
          <a:stretch/>
        </p:blipFill>
        <p:spPr>
          <a:xfrm>
            <a:off x="8317080" y="2133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Filename: j0193478.wmf&#13;File Size: 19 KB"/>
          <p:cNvPicPr/>
          <p:nvPr/>
        </p:nvPicPr>
        <p:blipFill>
          <a:blip r:embed="rId12"/>
          <a:stretch/>
        </p:blipFill>
        <p:spPr>
          <a:xfrm>
            <a:off x="615636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Filename: j0193478.wmf&#13;File Size: 19 KB"/>
          <p:cNvPicPr/>
          <p:nvPr/>
        </p:nvPicPr>
        <p:blipFill>
          <a:blip r:embed="rId13"/>
          <a:stretch/>
        </p:blipFill>
        <p:spPr>
          <a:xfrm>
            <a:off x="673272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Filename: j0193478.wmf&#13;File Size: 19 KB"/>
          <p:cNvPicPr/>
          <p:nvPr/>
        </p:nvPicPr>
        <p:blipFill>
          <a:blip r:embed="rId14"/>
          <a:stretch/>
        </p:blipFill>
        <p:spPr>
          <a:xfrm>
            <a:off x="7308720" y="2708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Filename: j0193478.wmf&#13;File Size: 19 KB"/>
          <p:cNvPicPr/>
          <p:nvPr/>
        </p:nvPicPr>
        <p:blipFill>
          <a:blip r:embed="rId15"/>
          <a:stretch/>
        </p:blipFill>
        <p:spPr>
          <a:xfrm>
            <a:off x="788508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Filename: j0193478.wmf&#13;File Size: 19 KB"/>
          <p:cNvPicPr/>
          <p:nvPr/>
        </p:nvPicPr>
        <p:blipFill>
          <a:blip r:embed="rId16"/>
          <a:stretch/>
        </p:blipFill>
        <p:spPr>
          <a:xfrm>
            <a:off x="8459640" y="2637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Filename: AN04144_.wmf&#13;File Size: 4 KB"/>
          <p:cNvPicPr/>
          <p:nvPr/>
        </p:nvPicPr>
        <p:blipFill>
          <a:blip r:embed="rId17"/>
          <a:stretch/>
        </p:blipFill>
        <p:spPr>
          <a:xfrm>
            <a:off x="5508720" y="3213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Filename: AN04144_.wmf&#13;File Size: 4 KB"/>
          <p:cNvPicPr/>
          <p:nvPr/>
        </p:nvPicPr>
        <p:blipFill>
          <a:blip r:embed="rId18"/>
          <a:stretch/>
        </p:blipFill>
        <p:spPr>
          <a:xfrm>
            <a:off x="7308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Filename: AN04144_.wmf&#13;File Size: 4 KB"/>
          <p:cNvPicPr/>
          <p:nvPr/>
        </p:nvPicPr>
        <p:blipFill>
          <a:blip r:embed="rId19"/>
          <a:stretch/>
        </p:blipFill>
        <p:spPr>
          <a:xfrm>
            <a:off x="6659640" y="3284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Filename: AN04144_.wmf&#13;File Size: 4 KB"/>
          <p:cNvPicPr/>
          <p:nvPr/>
        </p:nvPicPr>
        <p:blipFill>
          <a:blip r:embed="rId20"/>
          <a:stretch/>
        </p:blipFill>
        <p:spPr>
          <a:xfrm>
            <a:off x="6084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Filename: AN04144_.wmf&#13;File Size: 4 KB"/>
          <p:cNvPicPr/>
          <p:nvPr/>
        </p:nvPicPr>
        <p:blipFill>
          <a:blip r:embed="rId21"/>
          <a:stretch/>
        </p:blipFill>
        <p:spPr>
          <a:xfrm>
            <a:off x="7956720" y="3284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580000" y="3860640"/>
            <a:ext cx="3313080" cy="43200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Filename: j0193478.wmf&#13;File Size: 19 KB"/>
          <p:cNvPicPr/>
          <p:nvPr/>
        </p:nvPicPr>
        <p:blipFill>
          <a:blip r:embed="rId22"/>
          <a:stretch/>
        </p:blipFill>
        <p:spPr>
          <a:xfrm>
            <a:off x="5580000" y="2708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Filename: j0131109.wmf&#13;File Size: 13 KB"/>
          <p:cNvPicPr/>
          <p:nvPr/>
        </p:nvPicPr>
        <p:blipFill>
          <a:blip r:embed="rId1"/>
          <a:stretch/>
        </p:blipFill>
        <p:spPr>
          <a:xfrm>
            <a:off x="0" y="541188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260280"/>
            <a:ext cx="4752720" cy="5184720"/>
          </a:xfrm>
          <a:prstGeom prst="wedgeRoundRectCallout">
            <a:avLst>
              <a:gd name="adj1" fmla="val -36375"/>
              <a:gd name="adj2" fmla="val 57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Dans mon sandwich il y a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fro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3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4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5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6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7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51640" y="333360"/>
            <a:ext cx="3313080" cy="43164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6929280" y="2366640"/>
            <a:ext cx="720720" cy="3708360"/>
          </a:xfrm>
          <a:custGeom>
            <a:avLst/>
            <a:gdLst>
              <a:gd name="textAreaLeft" fmla="*/ 211680 w 720720"/>
              <a:gd name="textAreaRight" fmla="*/ 721080 w 720720"/>
              <a:gd name="textAreaTop" fmla="*/ 128160 h 3708360"/>
              <a:gd name="textAreaBottom" fmla="*/ 3580200 h 37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49"/>
                  <a:pt x="0" y="1497"/>
                </a:cubicBezTo>
                <a:lnTo>
                  <a:pt x="0" y="20103"/>
                </a:lnTo>
                <a:cubicBezTo>
                  <a:pt x="0" y="20852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Filename: FD00513_.wmf&#13;File Size: 5 KB"/>
          <p:cNvPicPr/>
          <p:nvPr/>
        </p:nvPicPr>
        <p:blipFill>
          <a:blip r:embed="rId2"/>
          <a:stretch/>
        </p:blipFill>
        <p:spPr>
          <a:xfrm>
            <a:off x="5724360" y="836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Filename: FD00513_.wmf&#13;File Size: 5 KB"/>
          <p:cNvPicPr/>
          <p:nvPr/>
        </p:nvPicPr>
        <p:blipFill>
          <a:blip r:embed="rId3"/>
          <a:stretch/>
        </p:blipFill>
        <p:spPr>
          <a:xfrm>
            <a:off x="637236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Filename: FD00513_.wmf&#13;File Size: 5 KB"/>
          <p:cNvPicPr/>
          <p:nvPr/>
        </p:nvPicPr>
        <p:blipFill>
          <a:blip r:embed="rId4"/>
          <a:stretch/>
        </p:blipFill>
        <p:spPr>
          <a:xfrm>
            <a:off x="702000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Filename: FD00513_.wmf&#13;File Size: 5 KB"/>
          <p:cNvPicPr/>
          <p:nvPr/>
        </p:nvPicPr>
        <p:blipFill>
          <a:blip r:embed="rId5"/>
          <a:stretch/>
        </p:blipFill>
        <p:spPr>
          <a:xfrm>
            <a:off x="766764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Filename: FD00513_.wmf&#13;File Size: 5 KB"/>
          <p:cNvPicPr/>
          <p:nvPr/>
        </p:nvPicPr>
        <p:blipFill>
          <a:blip r:embed="rId6"/>
          <a:stretch/>
        </p:blipFill>
        <p:spPr>
          <a:xfrm>
            <a:off x="8317080" y="83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036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0872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9636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2800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56720" y="1341360"/>
            <a:ext cx="14256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4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45964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675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27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0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11760" y="1784520"/>
            <a:ext cx="3259080" cy="376200"/>
          </a:xfrm>
          <a:custGeom>
            <a:avLst/>
            <a:gdLst/>
            <a:ahLst/>
            <a:rect l="l" t="t" r="r" b="b"/>
            <a:pathLst>
              <a:path w="2053" h="237">
                <a:moveTo>
                  <a:pt x="17" y="120"/>
                </a:moveTo>
                <a:cubicBezTo>
                  <a:pt x="37" y="89"/>
                  <a:pt x="49" y="89"/>
                  <a:pt x="83" y="78"/>
                </a:cubicBezTo>
                <a:cubicBezTo>
                  <a:pt x="165" y="84"/>
                  <a:pt x="224" y="102"/>
                  <a:pt x="300" y="78"/>
                </a:cubicBezTo>
                <a:cubicBezTo>
                  <a:pt x="345" y="85"/>
                  <a:pt x="389" y="96"/>
                  <a:pt x="434" y="103"/>
                </a:cubicBezTo>
                <a:cubicBezTo>
                  <a:pt x="448" y="100"/>
                  <a:pt x="463" y="100"/>
                  <a:pt x="476" y="95"/>
                </a:cubicBezTo>
                <a:cubicBezTo>
                  <a:pt x="507" y="83"/>
                  <a:pt x="519" y="55"/>
                  <a:pt x="551" y="45"/>
                </a:cubicBezTo>
                <a:cubicBezTo>
                  <a:pt x="619" y="54"/>
                  <a:pt x="606" y="61"/>
                  <a:pt x="659" y="78"/>
                </a:cubicBezTo>
                <a:cubicBezTo>
                  <a:pt x="701" y="75"/>
                  <a:pt x="743" y="77"/>
                  <a:pt x="785" y="70"/>
                </a:cubicBezTo>
                <a:cubicBezTo>
                  <a:pt x="812" y="66"/>
                  <a:pt x="811" y="44"/>
                  <a:pt x="826" y="28"/>
                </a:cubicBezTo>
                <a:cubicBezTo>
                  <a:pt x="842" y="11"/>
                  <a:pt x="855" y="10"/>
                  <a:pt x="876" y="3"/>
                </a:cubicBezTo>
                <a:cubicBezTo>
                  <a:pt x="912" y="6"/>
                  <a:pt x="949" y="6"/>
                  <a:pt x="985" y="11"/>
                </a:cubicBezTo>
                <a:cubicBezTo>
                  <a:pt x="1018" y="15"/>
                  <a:pt x="1053" y="43"/>
                  <a:pt x="1085" y="53"/>
                </a:cubicBezTo>
                <a:cubicBezTo>
                  <a:pt x="1143" y="45"/>
                  <a:pt x="1162" y="35"/>
                  <a:pt x="1219" y="45"/>
                </a:cubicBezTo>
                <a:cubicBezTo>
                  <a:pt x="1283" y="87"/>
                  <a:pt x="1249" y="81"/>
                  <a:pt x="1319" y="70"/>
                </a:cubicBezTo>
                <a:cubicBezTo>
                  <a:pt x="1367" y="22"/>
                  <a:pt x="1381" y="38"/>
                  <a:pt x="1444" y="53"/>
                </a:cubicBezTo>
                <a:cubicBezTo>
                  <a:pt x="1523" y="40"/>
                  <a:pt x="1594" y="27"/>
                  <a:pt x="1669" y="3"/>
                </a:cubicBezTo>
                <a:cubicBezTo>
                  <a:pt x="1731" y="22"/>
                  <a:pt x="1728" y="19"/>
                  <a:pt x="1811" y="11"/>
                </a:cubicBezTo>
                <a:cubicBezTo>
                  <a:pt x="1847" y="0"/>
                  <a:pt x="1864" y="7"/>
                  <a:pt x="1895" y="28"/>
                </a:cubicBezTo>
                <a:cubicBezTo>
                  <a:pt x="1922" y="68"/>
                  <a:pt x="1957" y="67"/>
                  <a:pt x="2003" y="78"/>
                </a:cubicBezTo>
                <a:cubicBezTo>
                  <a:pt x="2014" y="84"/>
                  <a:pt x="2029" y="85"/>
                  <a:pt x="2037" y="95"/>
                </a:cubicBezTo>
                <a:cubicBezTo>
                  <a:pt x="2047" y="109"/>
                  <a:pt x="2053" y="145"/>
                  <a:pt x="2053" y="145"/>
                </a:cubicBezTo>
                <a:cubicBezTo>
                  <a:pt x="2041" y="193"/>
                  <a:pt x="2039" y="181"/>
                  <a:pt x="1995" y="195"/>
                </a:cubicBezTo>
                <a:cubicBezTo>
                  <a:pt x="1948" y="188"/>
                  <a:pt x="1898" y="193"/>
                  <a:pt x="1853" y="178"/>
                </a:cubicBezTo>
                <a:cubicBezTo>
                  <a:pt x="1843" y="175"/>
                  <a:pt x="1845" y="156"/>
                  <a:pt x="1836" y="153"/>
                </a:cubicBezTo>
                <a:cubicBezTo>
                  <a:pt x="1812" y="145"/>
                  <a:pt x="1786" y="148"/>
                  <a:pt x="1761" y="145"/>
                </a:cubicBezTo>
                <a:cubicBezTo>
                  <a:pt x="1702" y="156"/>
                  <a:pt x="1655" y="172"/>
                  <a:pt x="1594" y="178"/>
                </a:cubicBezTo>
                <a:cubicBezTo>
                  <a:pt x="1532" y="170"/>
                  <a:pt x="1497" y="162"/>
                  <a:pt x="1436" y="170"/>
                </a:cubicBezTo>
                <a:cubicBezTo>
                  <a:pt x="1366" y="217"/>
                  <a:pt x="1316" y="161"/>
                  <a:pt x="1252" y="145"/>
                </a:cubicBezTo>
                <a:cubicBezTo>
                  <a:pt x="1184" y="99"/>
                  <a:pt x="1173" y="153"/>
                  <a:pt x="1119" y="170"/>
                </a:cubicBezTo>
                <a:cubicBezTo>
                  <a:pt x="1079" y="196"/>
                  <a:pt x="1069" y="184"/>
                  <a:pt x="1027" y="170"/>
                </a:cubicBezTo>
                <a:cubicBezTo>
                  <a:pt x="984" y="176"/>
                  <a:pt x="957" y="183"/>
                  <a:pt x="918" y="195"/>
                </a:cubicBezTo>
                <a:cubicBezTo>
                  <a:pt x="910" y="201"/>
                  <a:pt x="903" y="211"/>
                  <a:pt x="893" y="212"/>
                </a:cubicBezTo>
                <a:cubicBezTo>
                  <a:pt x="837" y="219"/>
                  <a:pt x="857" y="185"/>
                  <a:pt x="810" y="170"/>
                </a:cubicBezTo>
                <a:cubicBezTo>
                  <a:pt x="762" y="176"/>
                  <a:pt x="715" y="198"/>
                  <a:pt x="668" y="203"/>
                </a:cubicBezTo>
                <a:cubicBezTo>
                  <a:pt x="623" y="208"/>
                  <a:pt x="579" y="209"/>
                  <a:pt x="534" y="212"/>
                </a:cubicBezTo>
                <a:cubicBezTo>
                  <a:pt x="488" y="227"/>
                  <a:pt x="381" y="199"/>
                  <a:pt x="334" y="195"/>
                </a:cubicBezTo>
                <a:cubicBezTo>
                  <a:pt x="298" y="183"/>
                  <a:pt x="289" y="177"/>
                  <a:pt x="250" y="187"/>
                </a:cubicBezTo>
                <a:cubicBezTo>
                  <a:pt x="200" y="237"/>
                  <a:pt x="151" y="223"/>
                  <a:pt x="75" y="228"/>
                </a:cubicBezTo>
                <a:cubicBezTo>
                  <a:pt x="61" y="225"/>
                  <a:pt x="44" y="229"/>
                  <a:pt x="33" y="220"/>
                </a:cubicBezTo>
                <a:cubicBezTo>
                  <a:pt x="17" y="208"/>
                  <a:pt x="0" y="170"/>
                  <a:pt x="0" y="170"/>
                </a:cubicBezTo>
                <a:cubicBezTo>
                  <a:pt x="3" y="159"/>
                  <a:pt x="4" y="147"/>
                  <a:pt x="8" y="137"/>
                </a:cubicBezTo>
                <a:cubicBezTo>
                  <a:pt x="14" y="122"/>
                  <a:pt x="37" y="98"/>
                  <a:pt x="17" y="120"/>
                </a:cubicBezTo>
                <a:close/>
              </a:path>
            </a:pathLst>
          </a:custGeom>
          <a:solidFill>
            <a:srgbClr val="d84e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Filename: FD00131_.wmf&#13;File Size: 5 KB"/>
          <p:cNvPicPr/>
          <p:nvPr/>
        </p:nvPicPr>
        <p:blipFill>
          <a:blip r:embed="rId7"/>
          <a:stretch/>
        </p:blipFill>
        <p:spPr>
          <a:xfrm>
            <a:off x="5724360" y="2205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Filename: FD00131_.wmf&#13;File Size: 5 KB"/>
          <p:cNvPicPr/>
          <p:nvPr/>
        </p:nvPicPr>
        <p:blipFill>
          <a:blip r:embed="rId8"/>
          <a:stretch/>
        </p:blipFill>
        <p:spPr>
          <a:xfrm>
            <a:off x="637236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Filename: FD00131_.wmf&#13;File Size: 5 KB"/>
          <p:cNvPicPr/>
          <p:nvPr/>
        </p:nvPicPr>
        <p:blipFill>
          <a:blip r:embed="rId9"/>
          <a:stretch/>
        </p:blipFill>
        <p:spPr>
          <a:xfrm>
            <a:off x="709308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Filename: FD00131_.wmf&#13;File Size: 5 KB"/>
          <p:cNvPicPr/>
          <p:nvPr/>
        </p:nvPicPr>
        <p:blipFill>
          <a:blip r:embed="rId10"/>
          <a:stretch/>
        </p:blipFill>
        <p:spPr>
          <a:xfrm>
            <a:off x="774072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Filename: FD00131_.wmf&#13;File Size: 5 KB"/>
          <p:cNvPicPr/>
          <p:nvPr/>
        </p:nvPicPr>
        <p:blipFill>
          <a:blip r:embed="rId11"/>
          <a:stretch/>
        </p:blipFill>
        <p:spPr>
          <a:xfrm>
            <a:off x="8317080" y="2133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Filename: j0193478.wmf&#13;File Size: 19 KB"/>
          <p:cNvPicPr/>
          <p:nvPr/>
        </p:nvPicPr>
        <p:blipFill>
          <a:blip r:embed="rId12"/>
          <a:stretch/>
        </p:blipFill>
        <p:spPr>
          <a:xfrm>
            <a:off x="615636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Filename: j0193478.wmf&#13;File Size: 19 KB"/>
          <p:cNvPicPr/>
          <p:nvPr/>
        </p:nvPicPr>
        <p:blipFill>
          <a:blip r:embed="rId13"/>
          <a:stretch/>
        </p:blipFill>
        <p:spPr>
          <a:xfrm>
            <a:off x="673272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Filename: j0193478.wmf&#13;File Size: 19 KB"/>
          <p:cNvPicPr/>
          <p:nvPr/>
        </p:nvPicPr>
        <p:blipFill>
          <a:blip r:embed="rId14"/>
          <a:stretch/>
        </p:blipFill>
        <p:spPr>
          <a:xfrm>
            <a:off x="7308720" y="2708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Filename: j0193478.wmf&#13;File Size: 19 KB"/>
          <p:cNvPicPr/>
          <p:nvPr/>
        </p:nvPicPr>
        <p:blipFill>
          <a:blip r:embed="rId15"/>
          <a:stretch/>
        </p:blipFill>
        <p:spPr>
          <a:xfrm>
            <a:off x="788508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Filename: j0193478.wmf&#13;File Size: 19 KB"/>
          <p:cNvPicPr/>
          <p:nvPr/>
        </p:nvPicPr>
        <p:blipFill>
          <a:blip r:embed="rId16"/>
          <a:stretch/>
        </p:blipFill>
        <p:spPr>
          <a:xfrm>
            <a:off x="8459640" y="2637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Filename: AN04144_.wmf&#13;File Size: 4 KB"/>
          <p:cNvPicPr/>
          <p:nvPr/>
        </p:nvPicPr>
        <p:blipFill>
          <a:blip r:embed="rId17"/>
          <a:stretch/>
        </p:blipFill>
        <p:spPr>
          <a:xfrm>
            <a:off x="5508720" y="3213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Filename: AN04144_.wmf&#13;File Size: 4 KB"/>
          <p:cNvPicPr/>
          <p:nvPr/>
        </p:nvPicPr>
        <p:blipFill>
          <a:blip r:embed="rId18"/>
          <a:stretch/>
        </p:blipFill>
        <p:spPr>
          <a:xfrm>
            <a:off x="7308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Filename: AN04144_.wmf&#13;File Size: 4 KB"/>
          <p:cNvPicPr/>
          <p:nvPr/>
        </p:nvPicPr>
        <p:blipFill>
          <a:blip r:embed="rId19"/>
          <a:stretch/>
        </p:blipFill>
        <p:spPr>
          <a:xfrm>
            <a:off x="6659640" y="3284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Filename: AN04144_.wmf&#13;File Size: 4 KB"/>
          <p:cNvPicPr/>
          <p:nvPr/>
        </p:nvPicPr>
        <p:blipFill>
          <a:blip r:embed="rId20"/>
          <a:stretch/>
        </p:blipFill>
        <p:spPr>
          <a:xfrm>
            <a:off x="6084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Filename: AN04144_.wmf&#13;File Size: 4 KB"/>
          <p:cNvPicPr/>
          <p:nvPr/>
        </p:nvPicPr>
        <p:blipFill>
          <a:blip r:embed="rId21"/>
          <a:stretch/>
        </p:blipFill>
        <p:spPr>
          <a:xfrm>
            <a:off x="7956720" y="3284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80000" y="3860640"/>
            <a:ext cx="3313080" cy="43200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Filename: j0193478.wmf&#13;File Size: 19 KB"/>
          <p:cNvPicPr/>
          <p:nvPr/>
        </p:nvPicPr>
        <p:blipFill>
          <a:blip r:embed="rId22"/>
          <a:stretch/>
        </p:blipFill>
        <p:spPr>
          <a:xfrm>
            <a:off x="5580000" y="2708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Filename: j0131109.wmf&#13;File Size: 13 KB"/>
          <p:cNvPicPr/>
          <p:nvPr/>
        </p:nvPicPr>
        <p:blipFill>
          <a:blip r:embed="rId1"/>
          <a:stretch/>
        </p:blipFill>
        <p:spPr>
          <a:xfrm>
            <a:off x="0" y="541188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4000" y="260280"/>
            <a:ext cx="4752720" cy="5184720"/>
          </a:xfrm>
          <a:prstGeom prst="wedgeRoundRectCallout">
            <a:avLst>
              <a:gd name="adj1" fmla="val -36375"/>
              <a:gd name="adj2" fmla="val 57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Dans mon sandwich il y a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fro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es petits po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4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5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6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7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51640" y="333360"/>
            <a:ext cx="3313080" cy="43164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6929280" y="2366640"/>
            <a:ext cx="720720" cy="3708360"/>
          </a:xfrm>
          <a:custGeom>
            <a:avLst/>
            <a:gdLst>
              <a:gd name="textAreaLeft" fmla="*/ 211680 w 720720"/>
              <a:gd name="textAreaRight" fmla="*/ 721080 w 720720"/>
              <a:gd name="textAreaTop" fmla="*/ 128160 h 3708360"/>
              <a:gd name="textAreaBottom" fmla="*/ 3580200 h 37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49"/>
                  <a:pt x="0" y="1497"/>
                </a:cubicBezTo>
                <a:lnTo>
                  <a:pt x="0" y="20103"/>
                </a:lnTo>
                <a:cubicBezTo>
                  <a:pt x="0" y="20852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Filename: FD00513_.wmf&#13;File Size: 5 KB"/>
          <p:cNvPicPr/>
          <p:nvPr/>
        </p:nvPicPr>
        <p:blipFill>
          <a:blip r:embed="rId2"/>
          <a:stretch/>
        </p:blipFill>
        <p:spPr>
          <a:xfrm>
            <a:off x="5724360" y="836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Filename: FD00513_.wmf&#13;File Size: 5 KB"/>
          <p:cNvPicPr/>
          <p:nvPr/>
        </p:nvPicPr>
        <p:blipFill>
          <a:blip r:embed="rId3"/>
          <a:stretch/>
        </p:blipFill>
        <p:spPr>
          <a:xfrm>
            <a:off x="637236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Filename: FD00513_.wmf&#13;File Size: 5 KB"/>
          <p:cNvPicPr/>
          <p:nvPr/>
        </p:nvPicPr>
        <p:blipFill>
          <a:blip r:embed="rId4"/>
          <a:stretch/>
        </p:blipFill>
        <p:spPr>
          <a:xfrm>
            <a:off x="702000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Filename: FD00513_.wmf&#13;File Size: 5 KB"/>
          <p:cNvPicPr/>
          <p:nvPr/>
        </p:nvPicPr>
        <p:blipFill>
          <a:blip r:embed="rId5"/>
          <a:stretch/>
        </p:blipFill>
        <p:spPr>
          <a:xfrm>
            <a:off x="766764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Filename: FD00513_.wmf&#13;File Size: 5 KB"/>
          <p:cNvPicPr/>
          <p:nvPr/>
        </p:nvPicPr>
        <p:blipFill>
          <a:blip r:embed="rId6"/>
          <a:stretch/>
        </p:blipFill>
        <p:spPr>
          <a:xfrm>
            <a:off x="8317080" y="83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38036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0872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02800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56720" y="1341360"/>
            <a:ext cx="14256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4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45964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675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0072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27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0400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1672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9308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200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11760" y="1784520"/>
            <a:ext cx="3259080" cy="376200"/>
          </a:xfrm>
          <a:custGeom>
            <a:avLst/>
            <a:gdLst/>
            <a:ahLst/>
            <a:rect l="l" t="t" r="r" b="b"/>
            <a:pathLst>
              <a:path w="2053" h="237">
                <a:moveTo>
                  <a:pt x="17" y="120"/>
                </a:moveTo>
                <a:cubicBezTo>
                  <a:pt x="37" y="89"/>
                  <a:pt x="49" y="89"/>
                  <a:pt x="83" y="78"/>
                </a:cubicBezTo>
                <a:cubicBezTo>
                  <a:pt x="165" y="84"/>
                  <a:pt x="224" y="102"/>
                  <a:pt x="300" y="78"/>
                </a:cubicBezTo>
                <a:cubicBezTo>
                  <a:pt x="345" y="85"/>
                  <a:pt x="389" y="96"/>
                  <a:pt x="434" y="103"/>
                </a:cubicBezTo>
                <a:cubicBezTo>
                  <a:pt x="448" y="100"/>
                  <a:pt x="463" y="100"/>
                  <a:pt x="476" y="95"/>
                </a:cubicBezTo>
                <a:cubicBezTo>
                  <a:pt x="507" y="83"/>
                  <a:pt x="519" y="55"/>
                  <a:pt x="551" y="45"/>
                </a:cubicBezTo>
                <a:cubicBezTo>
                  <a:pt x="619" y="54"/>
                  <a:pt x="606" y="61"/>
                  <a:pt x="659" y="78"/>
                </a:cubicBezTo>
                <a:cubicBezTo>
                  <a:pt x="701" y="75"/>
                  <a:pt x="743" y="77"/>
                  <a:pt x="785" y="70"/>
                </a:cubicBezTo>
                <a:cubicBezTo>
                  <a:pt x="812" y="66"/>
                  <a:pt x="811" y="44"/>
                  <a:pt x="826" y="28"/>
                </a:cubicBezTo>
                <a:cubicBezTo>
                  <a:pt x="842" y="11"/>
                  <a:pt x="855" y="10"/>
                  <a:pt x="876" y="3"/>
                </a:cubicBezTo>
                <a:cubicBezTo>
                  <a:pt x="912" y="6"/>
                  <a:pt x="949" y="6"/>
                  <a:pt x="985" y="11"/>
                </a:cubicBezTo>
                <a:cubicBezTo>
                  <a:pt x="1018" y="15"/>
                  <a:pt x="1053" y="43"/>
                  <a:pt x="1085" y="53"/>
                </a:cubicBezTo>
                <a:cubicBezTo>
                  <a:pt x="1143" y="45"/>
                  <a:pt x="1162" y="35"/>
                  <a:pt x="1219" y="45"/>
                </a:cubicBezTo>
                <a:cubicBezTo>
                  <a:pt x="1283" y="87"/>
                  <a:pt x="1249" y="81"/>
                  <a:pt x="1319" y="70"/>
                </a:cubicBezTo>
                <a:cubicBezTo>
                  <a:pt x="1367" y="22"/>
                  <a:pt x="1381" y="38"/>
                  <a:pt x="1444" y="53"/>
                </a:cubicBezTo>
                <a:cubicBezTo>
                  <a:pt x="1523" y="40"/>
                  <a:pt x="1594" y="27"/>
                  <a:pt x="1669" y="3"/>
                </a:cubicBezTo>
                <a:cubicBezTo>
                  <a:pt x="1731" y="22"/>
                  <a:pt x="1728" y="19"/>
                  <a:pt x="1811" y="11"/>
                </a:cubicBezTo>
                <a:cubicBezTo>
                  <a:pt x="1847" y="0"/>
                  <a:pt x="1864" y="7"/>
                  <a:pt x="1895" y="28"/>
                </a:cubicBezTo>
                <a:cubicBezTo>
                  <a:pt x="1922" y="68"/>
                  <a:pt x="1957" y="67"/>
                  <a:pt x="2003" y="78"/>
                </a:cubicBezTo>
                <a:cubicBezTo>
                  <a:pt x="2014" y="84"/>
                  <a:pt x="2029" y="85"/>
                  <a:pt x="2037" y="95"/>
                </a:cubicBezTo>
                <a:cubicBezTo>
                  <a:pt x="2047" y="109"/>
                  <a:pt x="2053" y="145"/>
                  <a:pt x="2053" y="145"/>
                </a:cubicBezTo>
                <a:cubicBezTo>
                  <a:pt x="2041" y="193"/>
                  <a:pt x="2039" y="181"/>
                  <a:pt x="1995" y="195"/>
                </a:cubicBezTo>
                <a:cubicBezTo>
                  <a:pt x="1948" y="188"/>
                  <a:pt x="1898" y="193"/>
                  <a:pt x="1853" y="178"/>
                </a:cubicBezTo>
                <a:cubicBezTo>
                  <a:pt x="1843" y="175"/>
                  <a:pt x="1845" y="156"/>
                  <a:pt x="1836" y="153"/>
                </a:cubicBezTo>
                <a:cubicBezTo>
                  <a:pt x="1812" y="145"/>
                  <a:pt x="1786" y="148"/>
                  <a:pt x="1761" y="145"/>
                </a:cubicBezTo>
                <a:cubicBezTo>
                  <a:pt x="1702" y="156"/>
                  <a:pt x="1655" y="172"/>
                  <a:pt x="1594" y="178"/>
                </a:cubicBezTo>
                <a:cubicBezTo>
                  <a:pt x="1532" y="170"/>
                  <a:pt x="1497" y="162"/>
                  <a:pt x="1436" y="170"/>
                </a:cubicBezTo>
                <a:cubicBezTo>
                  <a:pt x="1366" y="217"/>
                  <a:pt x="1316" y="161"/>
                  <a:pt x="1252" y="145"/>
                </a:cubicBezTo>
                <a:cubicBezTo>
                  <a:pt x="1184" y="99"/>
                  <a:pt x="1173" y="153"/>
                  <a:pt x="1119" y="170"/>
                </a:cubicBezTo>
                <a:cubicBezTo>
                  <a:pt x="1079" y="196"/>
                  <a:pt x="1069" y="184"/>
                  <a:pt x="1027" y="170"/>
                </a:cubicBezTo>
                <a:cubicBezTo>
                  <a:pt x="984" y="176"/>
                  <a:pt x="957" y="183"/>
                  <a:pt x="918" y="195"/>
                </a:cubicBezTo>
                <a:cubicBezTo>
                  <a:pt x="910" y="201"/>
                  <a:pt x="903" y="211"/>
                  <a:pt x="893" y="212"/>
                </a:cubicBezTo>
                <a:cubicBezTo>
                  <a:pt x="837" y="219"/>
                  <a:pt x="857" y="185"/>
                  <a:pt x="810" y="170"/>
                </a:cubicBezTo>
                <a:cubicBezTo>
                  <a:pt x="762" y="176"/>
                  <a:pt x="715" y="198"/>
                  <a:pt x="668" y="203"/>
                </a:cubicBezTo>
                <a:cubicBezTo>
                  <a:pt x="623" y="208"/>
                  <a:pt x="579" y="209"/>
                  <a:pt x="534" y="212"/>
                </a:cubicBezTo>
                <a:cubicBezTo>
                  <a:pt x="488" y="227"/>
                  <a:pt x="381" y="199"/>
                  <a:pt x="334" y="195"/>
                </a:cubicBezTo>
                <a:cubicBezTo>
                  <a:pt x="298" y="183"/>
                  <a:pt x="289" y="177"/>
                  <a:pt x="250" y="187"/>
                </a:cubicBezTo>
                <a:cubicBezTo>
                  <a:pt x="200" y="237"/>
                  <a:pt x="151" y="223"/>
                  <a:pt x="75" y="228"/>
                </a:cubicBezTo>
                <a:cubicBezTo>
                  <a:pt x="61" y="225"/>
                  <a:pt x="44" y="229"/>
                  <a:pt x="33" y="220"/>
                </a:cubicBezTo>
                <a:cubicBezTo>
                  <a:pt x="17" y="208"/>
                  <a:pt x="0" y="170"/>
                  <a:pt x="0" y="170"/>
                </a:cubicBezTo>
                <a:cubicBezTo>
                  <a:pt x="3" y="159"/>
                  <a:pt x="4" y="147"/>
                  <a:pt x="8" y="137"/>
                </a:cubicBezTo>
                <a:cubicBezTo>
                  <a:pt x="14" y="122"/>
                  <a:pt x="37" y="98"/>
                  <a:pt x="17" y="120"/>
                </a:cubicBezTo>
                <a:close/>
              </a:path>
            </a:pathLst>
          </a:custGeom>
          <a:solidFill>
            <a:srgbClr val="d84e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Filename: FD00131_.wmf&#13;File Size: 5 KB"/>
          <p:cNvPicPr/>
          <p:nvPr/>
        </p:nvPicPr>
        <p:blipFill>
          <a:blip r:embed="rId7"/>
          <a:stretch/>
        </p:blipFill>
        <p:spPr>
          <a:xfrm>
            <a:off x="5724360" y="2205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Filename: FD00131_.wmf&#13;File Size: 5 KB"/>
          <p:cNvPicPr/>
          <p:nvPr/>
        </p:nvPicPr>
        <p:blipFill>
          <a:blip r:embed="rId8"/>
          <a:stretch/>
        </p:blipFill>
        <p:spPr>
          <a:xfrm>
            <a:off x="637236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Filename: FD00131_.wmf&#13;File Size: 5 KB"/>
          <p:cNvPicPr/>
          <p:nvPr/>
        </p:nvPicPr>
        <p:blipFill>
          <a:blip r:embed="rId9"/>
          <a:stretch/>
        </p:blipFill>
        <p:spPr>
          <a:xfrm>
            <a:off x="709308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Filename: FD00131_.wmf&#13;File Size: 5 KB"/>
          <p:cNvPicPr/>
          <p:nvPr/>
        </p:nvPicPr>
        <p:blipFill>
          <a:blip r:embed="rId10"/>
          <a:stretch/>
        </p:blipFill>
        <p:spPr>
          <a:xfrm>
            <a:off x="774072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Filename: FD00131_.wmf&#13;File Size: 5 KB"/>
          <p:cNvPicPr/>
          <p:nvPr/>
        </p:nvPicPr>
        <p:blipFill>
          <a:blip r:embed="rId11"/>
          <a:stretch/>
        </p:blipFill>
        <p:spPr>
          <a:xfrm>
            <a:off x="8317080" y="2133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Filename: j0193478.wmf&#13;File Size: 19 KB"/>
          <p:cNvPicPr/>
          <p:nvPr/>
        </p:nvPicPr>
        <p:blipFill>
          <a:blip r:embed="rId12"/>
          <a:stretch/>
        </p:blipFill>
        <p:spPr>
          <a:xfrm>
            <a:off x="615636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Filename: j0193478.wmf&#13;File Size: 19 KB"/>
          <p:cNvPicPr/>
          <p:nvPr/>
        </p:nvPicPr>
        <p:blipFill>
          <a:blip r:embed="rId13"/>
          <a:stretch/>
        </p:blipFill>
        <p:spPr>
          <a:xfrm>
            <a:off x="673272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Filename: j0193478.wmf&#13;File Size: 19 KB"/>
          <p:cNvPicPr/>
          <p:nvPr/>
        </p:nvPicPr>
        <p:blipFill>
          <a:blip r:embed="rId14"/>
          <a:stretch/>
        </p:blipFill>
        <p:spPr>
          <a:xfrm>
            <a:off x="7308720" y="2708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Filename: j0193478.wmf&#13;File Size: 19 KB"/>
          <p:cNvPicPr/>
          <p:nvPr/>
        </p:nvPicPr>
        <p:blipFill>
          <a:blip r:embed="rId15"/>
          <a:stretch/>
        </p:blipFill>
        <p:spPr>
          <a:xfrm>
            <a:off x="788508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Filename: j0193478.wmf&#13;File Size: 19 KB"/>
          <p:cNvPicPr/>
          <p:nvPr/>
        </p:nvPicPr>
        <p:blipFill>
          <a:blip r:embed="rId16"/>
          <a:stretch/>
        </p:blipFill>
        <p:spPr>
          <a:xfrm>
            <a:off x="8459640" y="2637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Filename: AN04144_.wmf&#13;File Size: 4 KB"/>
          <p:cNvPicPr/>
          <p:nvPr/>
        </p:nvPicPr>
        <p:blipFill>
          <a:blip r:embed="rId17"/>
          <a:stretch/>
        </p:blipFill>
        <p:spPr>
          <a:xfrm>
            <a:off x="5508720" y="3213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Filename: AN04144_.wmf&#13;File Size: 4 KB"/>
          <p:cNvPicPr/>
          <p:nvPr/>
        </p:nvPicPr>
        <p:blipFill>
          <a:blip r:embed="rId18"/>
          <a:stretch/>
        </p:blipFill>
        <p:spPr>
          <a:xfrm>
            <a:off x="7308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Filename: AN04144_.wmf&#13;File Size: 4 KB"/>
          <p:cNvPicPr/>
          <p:nvPr/>
        </p:nvPicPr>
        <p:blipFill>
          <a:blip r:embed="rId19"/>
          <a:stretch/>
        </p:blipFill>
        <p:spPr>
          <a:xfrm>
            <a:off x="6659640" y="3284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Filename: AN04144_.wmf&#13;File Size: 4 KB"/>
          <p:cNvPicPr/>
          <p:nvPr/>
        </p:nvPicPr>
        <p:blipFill>
          <a:blip r:embed="rId20"/>
          <a:stretch/>
        </p:blipFill>
        <p:spPr>
          <a:xfrm>
            <a:off x="6084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Filename: AN04144_.wmf&#13;File Size: 4 KB"/>
          <p:cNvPicPr/>
          <p:nvPr/>
        </p:nvPicPr>
        <p:blipFill>
          <a:blip r:embed="rId21"/>
          <a:stretch/>
        </p:blipFill>
        <p:spPr>
          <a:xfrm>
            <a:off x="7956720" y="3284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580000" y="3860640"/>
            <a:ext cx="3313080" cy="43200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Filename: j0193478.wmf&#13;File Size: 19 KB"/>
          <p:cNvPicPr/>
          <p:nvPr/>
        </p:nvPicPr>
        <p:blipFill>
          <a:blip r:embed="rId22"/>
          <a:stretch/>
        </p:blipFill>
        <p:spPr>
          <a:xfrm>
            <a:off x="5580000" y="2708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Filename: j0131109.wmf&#13;File Size: 13 KB"/>
          <p:cNvPicPr/>
          <p:nvPr/>
        </p:nvPicPr>
        <p:blipFill>
          <a:blip r:embed="rId1"/>
          <a:stretch/>
        </p:blipFill>
        <p:spPr>
          <a:xfrm>
            <a:off x="0" y="541188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4000" y="260280"/>
            <a:ext cx="4752720" cy="5184720"/>
          </a:xfrm>
          <a:prstGeom prst="wedgeRoundRectCallout">
            <a:avLst>
              <a:gd name="adj1" fmla="val -36375"/>
              <a:gd name="adj2" fmla="val 57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Dans mon sandwich il y a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fro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es petits po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e la conf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5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6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7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333360"/>
            <a:ext cx="3313080" cy="43164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6929280" y="2366640"/>
            <a:ext cx="720720" cy="3708360"/>
          </a:xfrm>
          <a:custGeom>
            <a:avLst/>
            <a:gdLst>
              <a:gd name="textAreaLeft" fmla="*/ 211680 w 720720"/>
              <a:gd name="textAreaRight" fmla="*/ 721080 w 720720"/>
              <a:gd name="textAreaTop" fmla="*/ 128160 h 3708360"/>
              <a:gd name="textAreaBottom" fmla="*/ 3580200 h 37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49"/>
                  <a:pt x="0" y="1497"/>
                </a:cubicBezTo>
                <a:lnTo>
                  <a:pt x="0" y="20103"/>
                </a:lnTo>
                <a:cubicBezTo>
                  <a:pt x="0" y="20852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Filename: FD00513_.wmf&#13;File Size: 5 KB"/>
          <p:cNvPicPr/>
          <p:nvPr/>
        </p:nvPicPr>
        <p:blipFill>
          <a:blip r:embed="rId2"/>
          <a:stretch/>
        </p:blipFill>
        <p:spPr>
          <a:xfrm>
            <a:off x="5724360" y="836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Filename: FD00513_.wmf&#13;File Size: 5 KB"/>
          <p:cNvPicPr/>
          <p:nvPr/>
        </p:nvPicPr>
        <p:blipFill>
          <a:blip r:embed="rId3"/>
          <a:stretch/>
        </p:blipFill>
        <p:spPr>
          <a:xfrm>
            <a:off x="637236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Filename: FD00513_.wmf&#13;File Size: 5 KB"/>
          <p:cNvPicPr/>
          <p:nvPr/>
        </p:nvPicPr>
        <p:blipFill>
          <a:blip r:embed="rId4"/>
          <a:stretch/>
        </p:blipFill>
        <p:spPr>
          <a:xfrm>
            <a:off x="702000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Filename: FD00513_.wmf&#13;File Size: 5 KB"/>
          <p:cNvPicPr/>
          <p:nvPr/>
        </p:nvPicPr>
        <p:blipFill>
          <a:blip r:embed="rId5"/>
          <a:stretch/>
        </p:blipFill>
        <p:spPr>
          <a:xfrm>
            <a:off x="766764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Filename: FD00513_.wmf&#13;File Size: 5 KB"/>
          <p:cNvPicPr/>
          <p:nvPr/>
        </p:nvPicPr>
        <p:blipFill>
          <a:blip r:embed="rId6"/>
          <a:stretch/>
        </p:blipFill>
        <p:spPr>
          <a:xfrm>
            <a:off x="8317080" y="83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38036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0872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02800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956720" y="1341360"/>
            <a:ext cx="14256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24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45964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675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0072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7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0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0400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1672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9308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2436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1200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11760" y="1784520"/>
            <a:ext cx="3259080" cy="376200"/>
          </a:xfrm>
          <a:custGeom>
            <a:avLst/>
            <a:gdLst/>
            <a:ahLst/>
            <a:rect l="l" t="t" r="r" b="b"/>
            <a:pathLst>
              <a:path w="2053" h="237">
                <a:moveTo>
                  <a:pt x="17" y="120"/>
                </a:moveTo>
                <a:cubicBezTo>
                  <a:pt x="37" y="89"/>
                  <a:pt x="49" y="89"/>
                  <a:pt x="83" y="78"/>
                </a:cubicBezTo>
                <a:cubicBezTo>
                  <a:pt x="165" y="84"/>
                  <a:pt x="224" y="102"/>
                  <a:pt x="300" y="78"/>
                </a:cubicBezTo>
                <a:cubicBezTo>
                  <a:pt x="345" y="85"/>
                  <a:pt x="389" y="96"/>
                  <a:pt x="434" y="103"/>
                </a:cubicBezTo>
                <a:cubicBezTo>
                  <a:pt x="448" y="100"/>
                  <a:pt x="463" y="100"/>
                  <a:pt x="476" y="95"/>
                </a:cubicBezTo>
                <a:cubicBezTo>
                  <a:pt x="507" y="83"/>
                  <a:pt x="519" y="55"/>
                  <a:pt x="551" y="45"/>
                </a:cubicBezTo>
                <a:cubicBezTo>
                  <a:pt x="619" y="54"/>
                  <a:pt x="606" y="61"/>
                  <a:pt x="659" y="78"/>
                </a:cubicBezTo>
                <a:cubicBezTo>
                  <a:pt x="701" y="75"/>
                  <a:pt x="743" y="77"/>
                  <a:pt x="785" y="70"/>
                </a:cubicBezTo>
                <a:cubicBezTo>
                  <a:pt x="812" y="66"/>
                  <a:pt x="811" y="44"/>
                  <a:pt x="826" y="28"/>
                </a:cubicBezTo>
                <a:cubicBezTo>
                  <a:pt x="842" y="11"/>
                  <a:pt x="855" y="10"/>
                  <a:pt x="876" y="3"/>
                </a:cubicBezTo>
                <a:cubicBezTo>
                  <a:pt x="912" y="6"/>
                  <a:pt x="949" y="6"/>
                  <a:pt x="985" y="11"/>
                </a:cubicBezTo>
                <a:cubicBezTo>
                  <a:pt x="1018" y="15"/>
                  <a:pt x="1053" y="43"/>
                  <a:pt x="1085" y="53"/>
                </a:cubicBezTo>
                <a:cubicBezTo>
                  <a:pt x="1143" y="45"/>
                  <a:pt x="1162" y="35"/>
                  <a:pt x="1219" y="45"/>
                </a:cubicBezTo>
                <a:cubicBezTo>
                  <a:pt x="1283" y="87"/>
                  <a:pt x="1249" y="81"/>
                  <a:pt x="1319" y="70"/>
                </a:cubicBezTo>
                <a:cubicBezTo>
                  <a:pt x="1367" y="22"/>
                  <a:pt x="1381" y="38"/>
                  <a:pt x="1444" y="53"/>
                </a:cubicBezTo>
                <a:cubicBezTo>
                  <a:pt x="1523" y="40"/>
                  <a:pt x="1594" y="27"/>
                  <a:pt x="1669" y="3"/>
                </a:cubicBezTo>
                <a:cubicBezTo>
                  <a:pt x="1731" y="22"/>
                  <a:pt x="1728" y="19"/>
                  <a:pt x="1811" y="11"/>
                </a:cubicBezTo>
                <a:cubicBezTo>
                  <a:pt x="1847" y="0"/>
                  <a:pt x="1864" y="7"/>
                  <a:pt x="1895" y="28"/>
                </a:cubicBezTo>
                <a:cubicBezTo>
                  <a:pt x="1922" y="68"/>
                  <a:pt x="1957" y="67"/>
                  <a:pt x="2003" y="78"/>
                </a:cubicBezTo>
                <a:cubicBezTo>
                  <a:pt x="2014" y="84"/>
                  <a:pt x="2029" y="85"/>
                  <a:pt x="2037" y="95"/>
                </a:cubicBezTo>
                <a:cubicBezTo>
                  <a:pt x="2047" y="109"/>
                  <a:pt x="2053" y="145"/>
                  <a:pt x="2053" y="145"/>
                </a:cubicBezTo>
                <a:cubicBezTo>
                  <a:pt x="2041" y="193"/>
                  <a:pt x="2039" y="181"/>
                  <a:pt x="1995" y="195"/>
                </a:cubicBezTo>
                <a:cubicBezTo>
                  <a:pt x="1948" y="188"/>
                  <a:pt x="1898" y="193"/>
                  <a:pt x="1853" y="178"/>
                </a:cubicBezTo>
                <a:cubicBezTo>
                  <a:pt x="1843" y="175"/>
                  <a:pt x="1845" y="156"/>
                  <a:pt x="1836" y="153"/>
                </a:cubicBezTo>
                <a:cubicBezTo>
                  <a:pt x="1812" y="145"/>
                  <a:pt x="1786" y="148"/>
                  <a:pt x="1761" y="145"/>
                </a:cubicBezTo>
                <a:cubicBezTo>
                  <a:pt x="1702" y="156"/>
                  <a:pt x="1655" y="172"/>
                  <a:pt x="1594" y="178"/>
                </a:cubicBezTo>
                <a:cubicBezTo>
                  <a:pt x="1532" y="170"/>
                  <a:pt x="1497" y="162"/>
                  <a:pt x="1436" y="170"/>
                </a:cubicBezTo>
                <a:cubicBezTo>
                  <a:pt x="1366" y="217"/>
                  <a:pt x="1316" y="161"/>
                  <a:pt x="1252" y="145"/>
                </a:cubicBezTo>
                <a:cubicBezTo>
                  <a:pt x="1184" y="99"/>
                  <a:pt x="1173" y="153"/>
                  <a:pt x="1119" y="170"/>
                </a:cubicBezTo>
                <a:cubicBezTo>
                  <a:pt x="1079" y="196"/>
                  <a:pt x="1069" y="184"/>
                  <a:pt x="1027" y="170"/>
                </a:cubicBezTo>
                <a:cubicBezTo>
                  <a:pt x="984" y="176"/>
                  <a:pt x="957" y="183"/>
                  <a:pt x="918" y="195"/>
                </a:cubicBezTo>
                <a:cubicBezTo>
                  <a:pt x="910" y="201"/>
                  <a:pt x="903" y="211"/>
                  <a:pt x="893" y="212"/>
                </a:cubicBezTo>
                <a:cubicBezTo>
                  <a:pt x="837" y="219"/>
                  <a:pt x="857" y="185"/>
                  <a:pt x="810" y="170"/>
                </a:cubicBezTo>
                <a:cubicBezTo>
                  <a:pt x="762" y="176"/>
                  <a:pt x="715" y="198"/>
                  <a:pt x="668" y="203"/>
                </a:cubicBezTo>
                <a:cubicBezTo>
                  <a:pt x="623" y="208"/>
                  <a:pt x="579" y="209"/>
                  <a:pt x="534" y="212"/>
                </a:cubicBezTo>
                <a:cubicBezTo>
                  <a:pt x="488" y="227"/>
                  <a:pt x="381" y="199"/>
                  <a:pt x="334" y="195"/>
                </a:cubicBezTo>
                <a:cubicBezTo>
                  <a:pt x="298" y="183"/>
                  <a:pt x="289" y="177"/>
                  <a:pt x="250" y="187"/>
                </a:cubicBezTo>
                <a:cubicBezTo>
                  <a:pt x="200" y="237"/>
                  <a:pt x="151" y="223"/>
                  <a:pt x="75" y="228"/>
                </a:cubicBezTo>
                <a:cubicBezTo>
                  <a:pt x="61" y="225"/>
                  <a:pt x="44" y="229"/>
                  <a:pt x="33" y="220"/>
                </a:cubicBezTo>
                <a:cubicBezTo>
                  <a:pt x="17" y="208"/>
                  <a:pt x="0" y="170"/>
                  <a:pt x="0" y="170"/>
                </a:cubicBezTo>
                <a:cubicBezTo>
                  <a:pt x="3" y="159"/>
                  <a:pt x="4" y="147"/>
                  <a:pt x="8" y="137"/>
                </a:cubicBezTo>
                <a:cubicBezTo>
                  <a:pt x="14" y="122"/>
                  <a:pt x="37" y="98"/>
                  <a:pt x="17" y="120"/>
                </a:cubicBezTo>
                <a:close/>
              </a:path>
            </a:pathLst>
          </a:custGeom>
          <a:solidFill>
            <a:srgbClr val="d84e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Filename: FD00131_.wmf&#13;File Size: 5 KB"/>
          <p:cNvPicPr/>
          <p:nvPr/>
        </p:nvPicPr>
        <p:blipFill>
          <a:blip r:embed="rId7"/>
          <a:stretch/>
        </p:blipFill>
        <p:spPr>
          <a:xfrm>
            <a:off x="5724360" y="2205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Filename: FD00131_.wmf&#13;File Size: 5 KB"/>
          <p:cNvPicPr/>
          <p:nvPr/>
        </p:nvPicPr>
        <p:blipFill>
          <a:blip r:embed="rId8"/>
          <a:stretch/>
        </p:blipFill>
        <p:spPr>
          <a:xfrm>
            <a:off x="637236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Filename: FD00131_.wmf&#13;File Size: 5 KB"/>
          <p:cNvPicPr/>
          <p:nvPr/>
        </p:nvPicPr>
        <p:blipFill>
          <a:blip r:embed="rId9"/>
          <a:stretch/>
        </p:blipFill>
        <p:spPr>
          <a:xfrm>
            <a:off x="709308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Filename: FD00131_.wmf&#13;File Size: 5 KB"/>
          <p:cNvPicPr/>
          <p:nvPr/>
        </p:nvPicPr>
        <p:blipFill>
          <a:blip r:embed="rId10"/>
          <a:stretch/>
        </p:blipFill>
        <p:spPr>
          <a:xfrm>
            <a:off x="774072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Filename: FD00131_.wmf&#13;File Size: 5 KB"/>
          <p:cNvPicPr/>
          <p:nvPr/>
        </p:nvPicPr>
        <p:blipFill>
          <a:blip r:embed="rId11"/>
          <a:stretch/>
        </p:blipFill>
        <p:spPr>
          <a:xfrm>
            <a:off x="8317080" y="2133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Filename: j0193478.wmf&#13;File Size: 19 KB"/>
          <p:cNvPicPr/>
          <p:nvPr/>
        </p:nvPicPr>
        <p:blipFill>
          <a:blip r:embed="rId12"/>
          <a:stretch/>
        </p:blipFill>
        <p:spPr>
          <a:xfrm>
            <a:off x="615636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Filename: j0193478.wmf&#13;File Size: 19 KB"/>
          <p:cNvPicPr/>
          <p:nvPr/>
        </p:nvPicPr>
        <p:blipFill>
          <a:blip r:embed="rId13"/>
          <a:stretch/>
        </p:blipFill>
        <p:spPr>
          <a:xfrm>
            <a:off x="673272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Filename: j0193478.wmf&#13;File Size: 19 KB"/>
          <p:cNvPicPr/>
          <p:nvPr/>
        </p:nvPicPr>
        <p:blipFill>
          <a:blip r:embed="rId14"/>
          <a:stretch/>
        </p:blipFill>
        <p:spPr>
          <a:xfrm>
            <a:off x="7308720" y="2708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Filename: j0193478.wmf&#13;File Size: 19 KB"/>
          <p:cNvPicPr/>
          <p:nvPr/>
        </p:nvPicPr>
        <p:blipFill>
          <a:blip r:embed="rId15"/>
          <a:stretch/>
        </p:blipFill>
        <p:spPr>
          <a:xfrm>
            <a:off x="788508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Filename: j0193478.wmf&#13;File Size: 19 KB"/>
          <p:cNvPicPr/>
          <p:nvPr/>
        </p:nvPicPr>
        <p:blipFill>
          <a:blip r:embed="rId16"/>
          <a:stretch/>
        </p:blipFill>
        <p:spPr>
          <a:xfrm>
            <a:off x="8459640" y="2637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Filename: AN04144_.wmf&#13;File Size: 4 KB"/>
          <p:cNvPicPr/>
          <p:nvPr/>
        </p:nvPicPr>
        <p:blipFill>
          <a:blip r:embed="rId17"/>
          <a:stretch/>
        </p:blipFill>
        <p:spPr>
          <a:xfrm>
            <a:off x="5508720" y="3213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Filename: AN04144_.wmf&#13;File Size: 4 KB"/>
          <p:cNvPicPr/>
          <p:nvPr/>
        </p:nvPicPr>
        <p:blipFill>
          <a:blip r:embed="rId18"/>
          <a:stretch/>
        </p:blipFill>
        <p:spPr>
          <a:xfrm>
            <a:off x="7308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Filename: AN04144_.wmf&#13;File Size: 4 KB"/>
          <p:cNvPicPr/>
          <p:nvPr/>
        </p:nvPicPr>
        <p:blipFill>
          <a:blip r:embed="rId19"/>
          <a:stretch/>
        </p:blipFill>
        <p:spPr>
          <a:xfrm>
            <a:off x="6659640" y="3284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Filename: AN04144_.wmf&#13;File Size: 4 KB"/>
          <p:cNvPicPr/>
          <p:nvPr/>
        </p:nvPicPr>
        <p:blipFill>
          <a:blip r:embed="rId20"/>
          <a:stretch/>
        </p:blipFill>
        <p:spPr>
          <a:xfrm>
            <a:off x="6084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Filename: AN04144_.wmf&#13;File Size: 4 KB"/>
          <p:cNvPicPr/>
          <p:nvPr/>
        </p:nvPicPr>
        <p:blipFill>
          <a:blip r:embed="rId21"/>
          <a:stretch/>
        </p:blipFill>
        <p:spPr>
          <a:xfrm>
            <a:off x="7956720" y="3284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580000" y="3860640"/>
            <a:ext cx="3313080" cy="43200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Filename: j0193478.wmf&#13;File Size: 19 KB"/>
          <p:cNvPicPr/>
          <p:nvPr/>
        </p:nvPicPr>
        <p:blipFill>
          <a:blip r:embed="rId22"/>
          <a:stretch/>
        </p:blipFill>
        <p:spPr>
          <a:xfrm>
            <a:off x="5580000" y="2708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Filename: j0131109.wmf&#13;File Size: 13 KB"/>
          <p:cNvPicPr/>
          <p:nvPr/>
        </p:nvPicPr>
        <p:blipFill>
          <a:blip r:embed="rId1"/>
          <a:stretch/>
        </p:blipFill>
        <p:spPr>
          <a:xfrm>
            <a:off x="0" y="541188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4000" y="260280"/>
            <a:ext cx="4752720" cy="5184720"/>
          </a:xfrm>
          <a:prstGeom prst="wedgeRoundRectCallout">
            <a:avLst>
              <a:gd name="adj1" fmla="val -36375"/>
              <a:gd name="adj2" fmla="val 57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Dans mon sandwich il y a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fro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es petits po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e la conf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bift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6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7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51640" y="333360"/>
            <a:ext cx="3313080" cy="43164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6929280" y="2366640"/>
            <a:ext cx="720720" cy="3708360"/>
          </a:xfrm>
          <a:custGeom>
            <a:avLst/>
            <a:gdLst>
              <a:gd name="textAreaLeft" fmla="*/ 211680 w 720720"/>
              <a:gd name="textAreaRight" fmla="*/ 721080 w 720720"/>
              <a:gd name="textAreaTop" fmla="*/ 128160 h 3708360"/>
              <a:gd name="textAreaBottom" fmla="*/ 3580200 h 37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49"/>
                  <a:pt x="0" y="1497"/>
                </a:cubicBezTo>
                <a:lnTo>
                  <a:pt x="0" y="20103"/>
                </a:lnTo>
                <a:cubicBezTo>
                  <a:pt x="0" y="20852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Filename: FD00513_.wmf&#13;File Size: 5 KB"/>
          <p:cNvPicPr/>
          <p:nvPr/>
        </p:nvPicPr>
        <p:blipFill>
          <a:blip r:embed="rId2"/>
          <a:stretch/>
        </p:blipFill>
        <p:spPr>
          <a:xfrm>
            <a:off x="5724360" y="836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Filename: FD00513_.wmf&#13;File Size: 5 KB"/>
          <p:cNvPicPr/>
          <p:nvPr/>
        </p:nvPicPr>
        <p:blipFill>
          <a:blip r:embed="rId3"/>
          <a:stretch/>
        </p:blipFill>
        <p:spPr>
          <a:xfrm>
            <a:off x="637236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Filename: FD00513_.wmf&#13;File Size: 5 KB"/>
          <p:cNvPicPr/>
          <p:nvPr/>
        </p:nvPicPr>
        <p:blipFill>
          <a:blip r:embed="rId4"/>
          <a:stretch/>
        </p:blipFill>
        <p:spPr>
          <a:xfrm>
            <a:off x="702000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Filename: FD00513_.wmf&#13;File Size: 5 KB"/>
          <p:cNvPicPr/>
          <p:nvPr/>
        </p:nvPicPr>
        <p:blipFill>
          <a:blip r:embed="rId5"/>
          <a:stretch/>
        </p:blipFill>
        <p:spPr>
          <a:xfrm>
            <a:off x="766764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Filename: FD00513_.wmf&#13;File Size: 5 KB"/>
          <p:cNvPicPr/>
          <p:nvPr/>
        </p:nvPicPr>
        <p:blipFill>
          <a:blip r:embed="rId6"/>
          <a:stretch/>
        </p:blipFill>
        <p:spPr>
          <a:xfrm>
            <a:off x="8317080" y="83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38036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9636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2800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956720" y="1341360"/>
            <a:ext cx="14256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4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45964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75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0072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27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0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0400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1672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9308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2436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1200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11760" y="1784520"/>
            <a:ext cx="3259080" cy="376200"/>
          </a:xfrm>
          <a:custGeom>
            <a:avLst/>
            <a:gdLst/>
            <a:ahLst/>
            <a:rect l="l" t="t" r="r" b="b"/>
            <a:pathLst>
              <a:path w="2053" h="237">
                <a:moveTo>
                  <a:pt x="17" y="120"/>
                </a:moveTo>
                <a:cubicBezTo>
                  <a:pt x="37" y="89"/>
                  <a:pt x="49" y="89"/>
                  <a:pt x="83" y="78"/>
                </a:cubicBezTo>
                <a:cubicBezTo>
                  <a:pt x="165" y="84"/>
                  <a:pt x="224" y="102"/>
                  <a:pt x="300" y="78"/>
                </a:cubicBezTo>
                <a:cubicBezTo>
                  <a:pt x="345" y="85"/>
                  <a:pt x="389" y="96"/>
                  <a:pt x="434" y="103"/>
                </a:cubicBezTo>
                <a:cubicBezTo>
                  <a:pt x="448" y="100"/>
                  <a:pt x="463" y="100"/>
                  <a:pt x="476" y="95"/>
                </a:cubicBezTo>
                <a:cubicBezTo>
                  <a:pt x="507" y="83"/>
                  <a:pt x="519" y="55"/>
                  <a:pt x="551" y="45"/>
                </a:cubicBezTo>
                <a:cubicBezTo>
                  <a:pt x="619" y="54"/>
                  <a:pt x="606" y="61"/>
                  <a:pt x="659" y="78"/>
                </a:cubicBezTo>
                <a:cubicBezTo>
                  <a:pt x="701" y="75"/>
                  <a:pt x="743" y="77"/>
                  <a:pt x="785" y="70"/>
                </a:cubicBezTo>
                <a:cubicBezTo>
                  <a:pt x="812" y="66"/>
                  <a:pt x="811" y="44"/>
                  <a:pt x="826" y="28"/>
                </a:cubicBezTo>
                <a:cubicBezTo>
                  <a:pt x="842" y="11"/>
                  <a:pt x="855" y="10"/>
                  <a:pt x="876" y="3"/>
                </a:cubicBezTo>
                <a:cubicBezTo>
                  <a:pt x="912" y="6"/>
                  <a:pt x="949" y="6"/>
                  <a:pt x="985" y="11"/>
                </a:cubicBezTo>
                <a:cubicBezTo>
                  <a:pt x="1018" y="15"/>
                  <a:pt x="1053" y="43"/>
                  <a:pt x="1085" y="53"/>
                </a:cubicBezTo>
                <a:cubicBezTo>
                  <a:pt x="1143" y="45"/>
                  <a:pt x="1162" y="35"/>
                  <a:pt x="1219" y="45"/>
                </a:cubicBezTo>
                <a:cubicBezTo>
                  <a:pt x="1283" y="87"/>
                  <a:pt x="1249" y="81"/>
                  <a:pt x="1319" y="70"/>
                </a:cubicBezTo>
                <a:cubicBezTo>
                  <a:pt x="1367" y="22"/>
                  <a:pt x="1381" y="38"/>
                  <a:pt x="1444" y="53"/>
                </a:cubicBezTo>
                <a:cubicBezTo>
                  <a:pt x="1523" y="40"/>
                  <a:pt x="1594" y="27"/>
                  <a:pt x="1669" y="3"/>
                </a:cubicBezTo>
                <a:cubicBezTo>
                  <a:pt x="1731" y="22"/>
                  <a:pt x="1728" y="19"/>
                  <a:pt x="1811" y="11"/>
                </a:cubicBezTo>
                <a:cubicBezTo>
                  <a:pt x="1847" y="0"/>
                  <a:pt x="1864" y="7"/>
                  <a:pt x="1895" y="28"/>
                </a:cubicBezTo>
                <a:cubicBezTo>
                  <a:pt x="1922" y="68"/>
                  <a:pt x="1957" y="67"/>
                  <a:pt x="2003" y="78"/>
                </a:cubicBezTo>
                <a:cubicBezTo>
                  <a:pt x="2014" y="84"/>
                  <a:pt x="2029" y="85"/>
                  <a:pt x="2037" y="95"/>
                </a:cubicBezTo>
                <a:cubicBezTo>
                  <a:pt x="2047" y="109"/>
                  <a:pt x="2053" y="145"/>
                  <a:pt x="2053" y="145"/>
                </a:cubicBezTo>
                <a:cubicBezTo>
                  <a:pt x="2041" y="193"/>
                  <a:pt x="2039" y="181"/>
                  <a:pt x="1995" y="195"/>
                </a:cubicBezTo>
                <a:cubicBezTo>
                  <a:pt x="1948" y="188"/>
                  <a:pt x="1898" y="193"/>
                  <a:pt x="1853" y="178"/>
                </a:cubicBezTo>
                <a:cubicBezTo>
                  <a:pt x="1843" y="175"/>
                  <a:pt x="1845" y="156"/>
                  <a:pt x="1836" y="153"/>
                </a:cubicBezTo>
                <a:cubicBezTo>
                  <a:pt x="1812" y="145"/>
                  <a:pt x="1786" y="148"/>
                  <a:pt x="1761" y="145"/>
                </a:cubicBezTo>
                <a:cubicBezTo>
                  <a:pt x="1702" y="156"/>
                  <a:pt x="1655" y="172"/>
                  <a:pt x="1594" y="178"/>
                </a:cubicBezTo>
                <a:cubicBezTo>
                  <a:pt x="1532" y="170"/>
                  <a:pt x="1497" y="162"/>
                  <a:pt x="1436" y="170"/>
                </a:cubicBezTo>
                <a:cubicBezTo>
                  <a:pt x="1366" y="217"/>
                  <a:pt x="1316" y="161"/>
                  <a:pt x="1252" y="145"/>
                </a:cubicBezTo>
                <a:cubicBezTo>
                  <a:pt x="1184" y="99"/>
                  <a:pt x="1173" y="153"/>
                  <a:pt x="1119" y="170"/>
                </a:cubicBezTo>
                <a:cubicBezTo>
                  <a:pt x="1079" y="196"/>
                  <a:pt x="1069" y="184"/>
                  <a:pt x="1027" y="170"/>
                </a:cubicBezTo>
                <a:cubicBezTo>
                  <a:pt x="984" y="176"/>
                  <a:pt x="957" y="183"/>
                  <a:pt x="918" y="195"/>
                </a:cubicBezTo>
                <a:cubicBezTo>
                  <a:pt x="910" y="201"/>
                  <a:pt x="903" y="211"/>
                  <a:pt x="893" y="212"/>
                </a:cubicBezTo>
                <a:cubicBezTo>
                  <a:pt x="837" y="219"/>
                  <a:pt x="857" y="185"/>
                  <a:pt x="810" y="170"/>
                </a:cubicBezTo>
                <a:cubicBezTo>
                  <a:pt x="762" y="176"/>
                  <a:pt x="715" y="198"/>
                  <a:pt x="668" y="203"/>
                </a:cubicBezTo>
                <a:cubicBezTo>
                  <a:pt x="623" y="208"/>
                  <a:pt x="579" y="209"/>
                  <a:pt x="534" y="212"/>
                </a:cubicBezTo>
                <a:cubicBezTo>
                  <a:pt x="488" y="227"/>
                  <a:pt x="381" y="199"/>
                  <a:pt x="334" y="195"/>
                </a:cubicBezTo>
                <a:cubicBezTo>
                  <a:pt x="298" y="183"/>
                  <a:pt x="289" y="177"/>
                  <a:pt x="250" y="187"/>
                </a:cubicBezTo>
                <a:cubicBezTo>
                  <a:pt x="200" y="237"/>
                  <a:pt x="151" y="223"/>
                  <a:pt x="75" y="228"/>
                </a:cubicBezTo>
                <a:cubicBezTo>
                  <a:pt x="61" y="225"/>
                  <a:pt x="44" y="229"/>
                  <a:pt x="33" y="220"/>
                </a:cubicBezTo>
                <a:cubicBezTo>
                  <a:pt x="17" y="208"/>
                  <a:pt x="0" y="170"/>
                  <a:pt x="0" y="170"/>
                </a:cubicBezTo>
                <a:cubicBezTo>
                  <a:pt x="3" y="159"/>
                  <a:pt x="4" y="147"/>
                  <a:pt x="8" y="137"/>
                </a:cubicBezTo>
                <a:cubicBezTo>
                  <a:pt x="14" y="122"/>
                  <a:pt x="37" y="98"/>
                  <a:pt x="17" y="120"/>
                </a:cubicBezTo>
                <a:close/>
              </a:path>
            </a:pathLst>
          </a:custGeom>
          <a:solidFill>
            <a:srgbClr val="d84e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Filename: FD00131_.wmf&#13;File Size: 5 KB"/>
          <p:cNvPicPr/>
          <p:nvPr/>
        </p:nvPicPr>
        <p:blipFill>
          <a:blip r:embed="rId7"/>
          <a:stretch/>
        </p:blipFill>
        <p:spPr>
          <a:xfrm>
            <a:off x="5724360" y="2205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Filename: FD00131_.wmf&#13;File Size: 5 KB"/>
          <p:cNvPicPr/>
          <p:nvPr/>
        </p:nvPicPr>
        <p:blipFill>
          <a:blip r:embed="rId8"/>
          <a:stretch/>
        </p:blipFill>
        <p:spPr>
          <a:xfrm>
            <a:off x="637236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Filename: FD00131_.wmf&#13;File Size: 5 KB"/>
          <p:cNvPicPr/>
          <p:nvPr/>
        </p:nvPicPr>
        <p:blipFill>
          <a:blip r:embed="rId9"/>
          <a:stretch/>
        </p:blipFill>
        <p:spPr>
          <a:xfrm>
            <a:off x="709308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Filename: FD00131_.wmf&#13;File Size: 5 KB"/>
          <p:cNvPicPr/>
          <p:nvPr/>
        </p:nvPicPr>
        <p:blipFill>
          <a:blip r:embed="rId10"/>
          <a:stretch/>
        </p:blipFill>
        <p:spPr>
          <a:xfrm>
            <a:off x="774072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Filename: FD00131_.wmf&#13;File Size: 5 KB"/>
          <p:cNvPicPr/>
          <p:nvPr/>
        </p:nvPicPr>
        <p:blipFill>
          <a:blip r:embed="rId11"/>
          <a:stretch/>
        </p:blipFill>
        <p:spPr>
          <a:xfrm>
            <a:off x="8317080" y="2133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Filename: j0193478.wmf&#13;File Size: 19 KB"/>
          <p:cNvPicPr/>
          <p:nvPr/>
        </p:nvPicPr>
        <p:blipFill>
          <a:blip r:embed="rId12"/>
          <a:stretch/>
        </p:blipFill>
        <p:spPr>
          <a:xfrm>
            <a:off x="615636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Filename: j0193478.wmf&#13;File Size: 19 KB"/>
          <p:cNvPicPr/>
          <p:nvPr/>
        </p:nvPicPr>
        <p:blipFill>
          <a:blip r:embed="rId13"/>
          <a:stretch/>
        </p:blipFill>
        <p:spPr>
          <a:xfrm>
            <a:off x="673272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Filename: j0193478.wmf&#13;File Size: 19 KB"/>
          <p:cNvPicPr/>
          <p:nvPr/>
        </p:nvPicPr>
        <p:blipFill>
          <a:blip r:embed="rId14"/>
          <a:stretch/>
        </p:blipFill>
        <p:spPr>
          <a:xfrm>
            <a:off x="7308720" y="2708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Filename: j0193478.wmf&#13;File Size: 19 KB"/>
          <p:cNvPicPr/>
          <p:nvPr/>
        </p:nvPicPr>
        <p:blipFill>
          <a:blip r:embed="rId15"/>
          <a:stretch/>
        </p:blipFill>
        <p:spPr>
          <a:xfrm>
            <a:off x="788508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Filename: j0193478.wmf&#13;File Size: 19 KB"/>
          <p:cNvPicPr/>
          <p:nvPr/>
        </p:nvPicPr>
        <p:blipFill>
          <a:blip r:embed="rId16"/>
          <a:stretch/>
        </p:blipFill>
        <p:spPr>
          <a:xfrm>
            <a:off x="8459640" y="2637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Filename: AN04144_.wmf&#13;File Size: 4 KB"/>
          <p:cNvPicPr/>
          <p:nvPr/>
        </p:nvPicPr>
        <p:blipFill>
          <a:blip r:embed="rId17"/>
          <a:stretch/>
        </p:blipFill>
        <p:spPr>
          <a:xfrm>
            <a:off x="5508720" y="3213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Filename: AN04144_.wmf&#13;File Size: 4 KB"/>
          <p:cNvPicPr/>
          <p:nvPr/>
        </p:nvPicPr>
        <p:blipFill>
          <a:blip r:embed="rId18"/>
          <a:stretch/>
        </p:blipFill>
        <p:spPr>
          <a:xfrm>
            <a:off x="7308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Filename: AN04144_.wmf&#13;File Size: 4 KB"/>
          <p:cNvPicPr/>
          <p:nvPr/>
        </p:nvPicPr>
        <p:blipFill>
          <a:blip r:embed="rId19"/>
          <a:stretch/>
        </p:blipFill>
        <p:spPr>
          <a:xfrm>
            <a:off x="6659640" y="3284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Filename: AN04144_.wmf&#13;File Size: 4 KB"/>
          <p:cNvPicPr/>
          <p:nvPr/>
        </p:nvPicPr>
        <p:blipFill>
          <a:blip r:embed="rId20"/>
          <a:stretch/>
        </p:blipFill>
        <p:spPr>
          <a:xfrm>
            <a:off x="6084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Filename: AN04144_.wmf&#13;File Size: 4 KB"/>
          <p:cNvPicPr/>
          <p:nvPr/>
        </p:nvPicPr>
        <p:blipFill>
          <a:blip r:embed="rId21"/>
          <a:stretch/>
        </p:blipFill>
        <p:spPr>
          <a:xfrm>
            <a:off x="7956720" y="3284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580000" y="3860640"/>
            <a:ext cx="3313080" cy="43200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Filename: j0193478.wmf&#13;File Size: 19 KB"/>
          <p:cNvPicPr/>
          <p:nvPr/>
        </p:nvPicPr>
        <p:blipFill>
          <a:blip r:embed="rId22"/>
          <a:stretch/>
        </p:blipFill>
        <p:spPr>
          <a:xfrm>
            <a:off x="5580000" y="2708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Filename: j0131109.wmf&#13;File Size: 13 KB"/>
          <p:cNvPicPr/>
          <p:nvPr/>
        </p:nvPicPr>
        <p:blipFill>
          <a:blip r:embed="rId1"/>
          <a:stretch/>
        </p:blipFill>
        <p:spPr>
          <a:xfrm>
            <a:off x="0" y="541188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4000" y="260280"/>
            <a:ext cx="4752720" cy="5184720"/>
          </a:xfrm>
          <a:prstGeom prst="wedgeRoundRectCallout">
            <a:avLst>
              <a:gd name="adj1" fmla="val -36375"/>
              <a:gd name="adj2" fmla="val 57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Dans mon sandwich il y a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fro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es petits po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e la conf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bift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e la salade v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7.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51640" y="333360"/>
            <a:ext cx="3313080" cy="43164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6929280" y="2366640"/>
            <a:ext cx="720720" cy="3708360"/>
          </a:xfrm>
          <a:custGeom>
            <a:avLst/>
            <a:gdLst>
              <a:gd name="textAreaLeft" fmla="*/ 211680 w 720720"/>
              <a:gd name="textAreaRight" fmla="*/ 721080 w 720720"/>
              <a:gd name="textAreaTop" fmla="*/ 128160 h 3708360"/>
              <a:gd name="textAreaBottom" fmla="*/ 3580200 h 37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49"/>
                  <a:pt x="0" y="1497"/>
                </a:cubicBezTo>
                <a:lnTo>
                  <a:pt x="0" y="20103"/>
                </a:lnTo>
                <a:cubicBezTo>
                  <a:pt x="0" y="20852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Filename: FD00513_.wmf&#13;File Size: 5 KB"/>
          <p:cNvPicPr/>
          <p:nvPr/>
        </p:nvPicPr>
        <p:blipFill>
          <a:blip r:embed="rId2"/>
          <a:stretch/>
        </p:blipFill>
        <p:spPr>
          <a:xfrm>
            <a:off x="5724360" y="836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Filename: FD00513_.wmf&#13;File Size: 5 KB"/>
          <p:cNvPicPr/>
          <p:nvPr/>
        </p:nvPicPr>
        <p:blipFill>
          <a:blip r:embed="rId3"/>
          <a:stretch/>
        </p:blipFill>
        <p:spPr>
          <a:xfrm>
            <a:off x="637236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Filename: FD00513_.wmf&#13;File Size: 5 KB"/>
          <p:cNvPicPr/>
          <p:nvPr/>
        </p:nvPicPr>
        <p:blipFill>
          <a:blip r:embed="rId4"/>
          <a:stretch/>
        </p:blipFill>
        <p:spPr>
          <a:xfrm>
            <a:off x="702000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Filename: FD00513_.wmf&#13;File Size: 5 KB"/>
          <p:cNvPicPr/>
          <p:nvPr/>
        </p:nvPicPr>
        <p:blipFill>
          <a:blip r:embed="rId5"/>
          <a:stretch/>
        </p:blipFill>
        <p:spPr>
          <a:xfrm>
            <a:off x="766764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Filename: FD00513_.wmf&#13;File Size: 5 KB"/>
          <p:cNvPicPr/>
          <p:nvPr/>
        </p:nvPicPr>
        <p:blipFill>
          <a:blip r:embed="rId6"/>
          <a:stretch/>
        </p:blipFill>
        <p:spPr>
          <a:xfrm>
            <a:off x="8317080" y="83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38036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0872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9636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2800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56720" y="1341360"/>
            <a:ext cx="14256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24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5964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675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0072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27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0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0400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51672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09308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200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11760" y="1784520"/>
            <a:ext cx="3259080" cy="376200"/>
          </a:xfrm>
          <a:custGeom>
            <a:avLst/>
            <a:gdLst/>
            <a:ahLst/>
            <a:rect l="l" t="t" r="r" b="b"/>
            <a:pathLst>
              <a:path w="2053" h="237">
                <a:moveTo>
                  <a:pt x="17" y="120"/>
                </a:moveTo>
                <a:cubicBezTo>
                  <a:pt x="37" y="89"/>
                  <a:pt x="49" y="89"/>
                  <a:pt x="83" y="78"/>
                </a:cubicBezTo>
                <a:cubicBezTo>
                  <a:pt x="165" y="84"/>
                  <a:pt x="224" y="102"/>
                  <a:pt x="300" y="78"/>
                </a:cubicBezTo>
                <a:cubicBezTo>
                  <a:pt x="345" y="85"/>
                  <a:pt x="389" y="96"/>
                  <a:pt x="434" y="103"/>
                </a:cubicBezTo>
                <a:cubicBezTo>
                  <a:pt x="448" y="100"/>
                  <a:pt x="463" y="100"/>
                  <a:pt x="476" y="95"/>
                </a:cubicBezTo>
                <a:cubicBezTo>
                  <a:pt x="507" y="83"/>
                  <a:pt x="519" y="55"/>
                  <a:pt x="551" y="45"/>
                </a:cubicBezTo>
                <a:cubicBezTo>
                  <a:pt x="619" y="54"/>
                  <a:pt x="606" y="61"/>
                  <a:pt x="659" y="78"/>
                </a:cubicBezTo>
                <a:cubicBezTo>
                  <a:pt x="701" y="75"/>
                  <a:pt x="743" y="77"/>
                  <a:pt x="785" y="70"/>
                </a:cubicBezTo>
                <a:cubicBezTo>
                  <a:pt x="812" y="66"/>
                  <a:pt x="811" y="44"/>
                  <a:pt x="826" y="28"/>
                </a:cubicBezTo>
                <a:cubicBezTo>
                  <a:pt x="842" y="11"/>
                  <a:pt x="855" y="10"/>
                  <a:pt x="876" y="3"/>
                </a:cubicBezTo>
                <a:cubicBezTo>
                  <a:pt x="912" y="6"/>
                  <a:pt x="949" y="6"/>
                  <a:pt x="985" y="11"/>
                </a:cubicBezTo>
                <a:cubicBezTo>
                  <a:pt x="1018" y="15"/>
                  <a:pt x="1053" y="43"/>
                  <a:pt x="1085" y="53"/>
                </a:cubicBezTo>
                <a:cubicBezTo>
                  <a:pt x="1143" y="45"/>
                  <a:pt x="1162" y="35"/>
                  <a:pt x="1219" y="45"/>
                </a:cubicBezTo>
                <a:cubicBezTo>
                  <a:pt x="1283" y="87"/>
                  <a:pt x="1249" y="81"/>
                  <a:pt x="1319" y="70"/>
                </a:cubicBezTo>
                <a:cubicBezTo>
                  <a:pt x="1367" y="22"/>
                  <a:pt x="1381" y="38"/>
                  <a:pt x="1444" y="53"/>
                </a:cubicBezTo>
                <a:cubicBezTo>
                  <a:pt x="1523" y="40"/>
                  <a:pt x="1594" y="27"/>
                  <a:pt x="1669" y="3"/>
                </a:cubicBezTo>
                <a:cubicBezTo>
                  <a:pt x="1731" y="22"/>
                  <a:pt x="1728" y="19"/>
                  <a:pt x="1811" y="11"/>
                </a:cubicBezTo>
                <a:cubicBezTo>
                  <a:pt x="1847" y="0"/>
                  <a:pt x="1864" y="7"/>
                  <a:pt x="1895" y="28"/>
                </a:cubicBezTo>
                <a:cubicBezTo>
                  <a:pt x="1922" y="68"/>
                  <a:pt x="1957" y="67"/>
                  <a:pt x="2003" y="78"/>
                </a:cubicBezTo>
                <a:cubicBezTo>
                  <a:pt x="2014" y="84"/>
                  <a:pt x="2029" y="85"/>
                  <a:pt x="2037" y="95"/>
                </a:cubicBezTo>
                <a:cubicBezTo>
                  <a:pt x="2047" y="109"/>
                  <a:pt x="2053" y="145"/>
                  <a:pt x="2053" y="145"/>
                </a:cubicBezTo>
                <a:cubicBezTo>
                  <a:pt x="2041" y="193"/>
                  <a:pt x="2039" y="181"/>
                  <a:pt x="1995" y="195"/>
                </a:cubicBezTo>
                <a:cubicBezTo>
                  <a:pt x="1948" y="188"/>
                  <a:pt x="1898" y="193"/>
                  <a:pt x="1853" y="178"/>
                </a:cubicBezTo>
                <a:cubicBezTo>
                  <a:pt x="1843" y="175"/>
                  <a:pt x="1845" y="156"/>
                  <a:pt x="1836" y="153"/>
                </a:cubicBezTo>
                <a:cubicBezTo>
                  <a:pt x="1812" y="145"/>
                  <a:pt x="1786" y="148"/>
                  <a:pt x="1761" y="145"/>
                </a:cubicBezTo>
                <a:cubicBezTo>
                  <a:pt x="1702" y="156"/>
                  <a:pt x="1655" y="172"/>
                  <a:pt x="1594" y="178"/>
                </a:cubicBezTo>
                <a:cubicBezTo>
                  <a:pt x="1532" y="170"/>
                  <a:pt x="1497" y="162"/>
                  <a:pt x="1436" y="170"/>
                </a:cubicBezTo>
                <a:cubicBezTo>
                  <a:pt x="1366" y="217"/>
                  <a:pt x="1316" y="161"/>
                  <a:pt x="1252" y="145"/>
                </a:cubicBezTo>
                <a:cubicBezTo>
                  <a:pt x="1184" y="99"/>
                  <a:pt x="1173" y="153"/>
                  <a:pt x="1119" y="170"/>
                </a:cubicBezTo>
                <a:cubicBezTo>
                  <a:pt x="1079" y="196"/>
                  <a:pt x="1069" y="184"/>
                  <a:pt x="1027" y="170"/>
                </a:cubicBezTo>
                <a:cubicBezTo>
                  <a:pt x="984" y="176"/>
                  <a:pt x="957" y="183"/>
                  <a:pt x="918" y="195"/>
                </a:cubicBezTo>
                <a:cubicBezTo>
                  <a:pt x="910" y="201"/>
                  <a:pt x="903" y="211"/>
                  <a:pt x="893" y="212"/>
                </a:cubicBezTo>
                <a:cubicBezTo>
                  <a:pt x="837" y="219"/>
                  <a:pt x="857" y="185"/>
                  <a:pt x="810" y="170"/>
                </a:cubicBezTo>
                <a:cubicBezTo>
                  <a:pt x="762" y="176"/>
                  <a:pt x="715" y="198"/>
                  <a:pt x="668" y="203"/>
                </a:cubicBezTo>
                <a:cubicBezTo>
                  <a:pt x="623" y="208"/>
                  <a:pt x="579" y="209"/>
                  <a:pt x="534" y="212"/>
                </a:cubicBezTo>
                <a:cubicBezTo>
                  <a:pt x="488" y="227"/>
                  <a:pt x="381" y="199"/>
                  <a:pt x="334" y="195"/>
                </a:cubicBezTo>
                <a:cubicBezTo>
                  <a:pt x="298" y="183"/>
                  <a:pt x="289" y="177"/>
                  <a:pt x="250" y="187"/>
                </a:cubicBezTo>
                <a:cubicBezTo>
                  <a:pt x="200" y="237"/>
                  <a:pt x="151" y="223"/>
                  <a:pt x="75" y="228"/>
                </a:cubicBezTo>
                <a:cubicBezTo>
                  <a:pt x="61" y="225"/>
                  <a:pt x="44" y="229"/>
                  <a:pt x="33" y="220"/>
                </a:cubicBezTo>
                <a:cubicBezTo>
                  <a:pt x="17" y="208"/>
                  <a:pt x="0" y="170"/>
                  <a:pt x="0" y="170"/>
                </a:cubicBezTo>
                <a:cubicBezTo>
                  <a:pt x="3" y="159"/>
                  <a:pt x="4" y="147"/>
                  <a:pt x="8" y="137"/>
                </a:cubicBezTo>
                <a:cubicBezTo>
                  <a:pt x="14" y="122"/>
                  <a:pt x="37" y="98"/>
                  <a:pt x="17" y="120"/>
                </a:cubicBezTo>
                <a:close/>
              </a:path>
            </a:pathLst>
          </a:custGeom>
          <a:solidFill>
            <a:srgbClr val="d84e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Filename: FD00131_.wmf&#13;File Size: 5 KB"/>
          <p:cNvPicPr/>
          <p:nvPr/>
        </p:nvPicPr>
        <p:blipFill>
          <a:blip r:embed="rId7"/>
          <a:stretch/>
        </p:blipFill>
        <p:spPr>
          <a:xfrm>
            <a:off x="5724360" y="2205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Filename: FD00131_.wmf&#13;File Size: 5 KB"/>
          <p:cNvPicPr/>
          <p:nvPr/>
        </p:nvPicPr>
        <p:blipFill>
          <a:blip r:embed="rId8"/>
          <a:stretch/>
        </p:blipFill>
        <p:spPr>
          <a:xfrm>
            <a:off x="637236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Filename: FD00131_.wmf&#13;File Size: 5 KB"/>
          <p:cNvPicPr/>
          <p:nvPr/>
        </p:nvPicPr>
        <p:blipFill>
          <a:blip r:embed="rId9"/>
          <a:stretch/>
        </p:blipFill>
        <p:spPr>
          <a:xfrm>
            <a:off x="709308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Filename: FD00131_.wmf&#13;File Size: 5 KB"/>
          <p:cNvPicPr/>
          <p:nvPr/>
        </p:nvPicPr>
        <p:blipFill>
          <a:blip r:embed="rId10"/>
          <a:stretch/>
        </p:blipFill>
        <p:spPr>
          <a:xfrm>
            <a:off x="774072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Filename: FD00131_.wmf&#13;File Size: 5 KB"/>
          <p:cNvPicPr/>
          <p:nvPr/>
        </p:nvPicPr>
        <p:blipFill>
          <a:blip r:embed="rId11"/>
          <a:stretch/>
        </p:blipFill>
        <p:spPr>
          <a:xfrm>
            <a:off x="8317080" y="2133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Filename: j0193478.wmf&#13;File Size: 19 KB"/>
          <p:cNvPicPr/>
          <p:nvPr/>
        </p:nvPicPr>
        <p:blipFill>
          <a:blip r:embed="rId12"/>
          <a:stretch/>
        </p:blipFill>
        <p:spPr>
          <a:xfrm>
            <a:off x="615636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Filename: j0193478.wmf&#13;File Size: 19 KB"/>
          <p:cNvPicPr/>
          <p:nvPr/>
        </p:nvPicPr>
        <p:blipFill>
          <a:blip r:embed="rId13"/>
          <a:stretch/>
        </p:blipFill>
        <p:spPr>
          <a:xfrm>
            <a:off x="673272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Filename: j0193478.wmf&#13;File Size: 19 KB"/>
          <p:cNvPicPr/>
          <p:nvPr/>
        </p:nvPicPr>
        <p:blipFill>
          <a:blip r:embed="rId14"/>
          <a:stretch/>
        </p:blipFill>
        <p:spPr>
          <a:xfrm>
            <a:off x="7308720" y="2708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Filename: j0193478.wmf&#13;File Size: 19 KB"/>
          <p:cNvPicPr/>
          <p:nvPr/>
        </p:nvPicPr>
        <p:blipFill>
          <a:blip r:embed="rId15"/>
          <a:stretch/>
        </p:blipFill>
        <p:spPr>
          <a:xfrm>
            <a:off x="788508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Filename: j0193478.wmf&#13;File Size: 19 KB"/>
          <p:cNvPicPr/>
          <p:nvPr/>
        </p:nvPicPr>
        <p:blipFill>
          <a:blip r:embed="rId16"/>
          <a:stretch/>
        </p:blipFill>
        <p:spPr>
          <a:xfrm>
            <a:off x="8459640" y="2637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Filename: AN04144_.wmf&#13;File Size: 4 KB"/>
          <p:cNvPicPr/>
          <p:nvPr/>
        </p:nvPicPr>
        <p:blipFill>
          <a:blip r:embed="rId17"/>
          <a:stretch/>
        </p:blipFill>
        <p:spPr>
          <a:xfrm>
            <a:off x="5508720" y="3213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Filename: AN04144_.wmf&#13;File Size: 4 KB"/>
          <p:cNvPicPr/>
          <p:nvPr/>
        </p:nvPicPr>
        <p:blipFill>
          <a:blip r:embed="rId18"/>
          <a:stretch/>
        </p:blipFill>
        <p:spPr>
          <a:xfrm>
            <a:off x="7308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Filename: AN04144_.wmf&#13;File Size: 4 KB"/>
          <p:cNvPicPr/>
          <p:nvPr/>
        </p:nvPicPr>
        <p:blipFill>
          <a:blip r:embed="rId19"/>
          <a:stretch/>
        </p:blipFill>
        <p:spPr>
          <a:xfrm>
            <a:off x="6659640" y="3284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Filename: AN04144_.wmf&#13;File Size: 4 KB"/>
          <p:cNvPicPr/>
          <p:nvPr/>
        </p:nvPicPr>
        <p:blipFill>
          <a:blip r:embed="rId20"/>
          <a:stretch/>
        </p:blipFill>
        <p:spPr>
          <a:xfrm>
            <a:off x="6084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Filename: AN04144_.wmf&#13;File Size: 4 KB"/>
          <p:cNvPicPr/>
          <p:nvPr/>
        </p:nvPicPr>
        <p:blipFill>
          <a:blip r:embed="rId21"/>
          <a:stretch/>
        </p:blipFill>
        <p:spPr>
          <a:xfrm>
            <a:off x="7956720" y="3284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5580000" y="3860640"/>
            <a:ext cx="3313080" cy="43200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Filename: j0193478.wmf&#13;File Size: 19 KB"/>
          <p:cNvPicPr/>
          <p:nvPr/>
        </p:nvPicPr>
        <p:blipFill>
          <a:blip r:embed="rId22"/>
          <a:stretch/>
        </p:blipFill>
        <p:spPr>
          <a:xfrm>
            <a:off x="5580000" y="2708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Filename: j0131109.wmf&#13;File Size: 13 KB"/>
          <p:cNvPicPr/>
          <p:nvPr/>
        </p:nvPicPr>
        <p:blipFill>
          <a:blip r:embed="rId1"/>
          <a:stretch/>
        </p:blipFill>
        <p:spPr>
          <a:xfrm>
            <a:off x="0" y="541188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24000" y="260280"/>
            <a:ext cx="4752720" cy="5184720"/>
          </a:xfrm>
          <a:prstGeom prst="wedgeRoundRectCallout">
            <a:avLst>
              <a:gd name="adj1" fmla="val -36375"/>
              <a:gd name="adj2" fmla="val 57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Dans mon sandwich il y a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fro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es petits po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e la conf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bift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e la salade v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du poi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333360"/>
            <a:ext cx="3313080" cy="43164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6929280" y="2366640"/>
            <a:ext cx="720720" cy="3708360"/>
          </a:xfrm>
          <a:custGeom>
            <a:avLst/>
            <a:gdLst>
              <a:gd name="textAreaLeft" fmla="*/ 211680 w 720720"/>
              <a:gd name="textAreaRight" fmla="*/ 721080 w 720720"/>
              <a:gd name="textAreaTop" fmla="*/ 128160 h 3708360"/>
              <a:gd name="textAreaBottom" fmla="*/ 3580200 h 37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49"/>
                  <a:pt x="0" y="1497"/>
                </a:cubicBezTo>
                <a:lnTo>
                  <a:pt x="0" y="20103"/>
                </a:lnTo>
                <a:cubicBezTo>
                  <a:pt x="0" y="20852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Filename: FD00513_.wmf&#13;File Size: 5 KB"/>
          <p:cNvPicPr/>
          <p:nvPr/>
        </p:nvPicPr>
        <p:blipFill>
          <a:blip r:embed="rId2"/>
          <a:stretch/>
        </p:blipFill>
        <p:spPr>
          <a:xfrm>
            <a:off x="5724360" y="836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Filename: FD00513_.wmf&#13;File Size: 5 KB"/>
          <p:cNvPicPr/>
          <p:nvPr/>
        </p:nvPicPr>
        <p:blipFill>
          <a:blip r:embed="rId3"/>
          <a:stretch/>
        </p:blipFill>
        <p:spPr>
          <a:xfrm>
            <a:off x="637236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Filename: FD00513_.wmf&#13;File Size: 5 KB"/>
          <p:cNvPicPr/>
          <p:nvPr/>
        </p:nvPicPr>
        <p:blipFill>
          <a:blip r:embed="rId4"/>
          <a:stretch/>
        </p:blipFill>
        <p:spPr>
          <a:xfrm>
            <a:off x="702000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Filename: FD00513_.wmf&#13;File Size: 5 KB"/>
          <p:cNvPicPr/>
          <p:nvPr/>
        </p:nvPicPr>
        <p:blipFill>
          <a:blip r:embed="rId5"/>
          <a:stretch/>
        </p:blipFill>
        <p:spPr>
          <a:xfrm>
            <a:off x="766764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Filename: FD00513_.wmf&#13;File Size: 5 KB"/>
          <p:cNvPicPr/>
          <p:nvPr/>
        </p:nvPicPr>
        <p:blipFill>
          <a:blip r:embed="rId6"/>
          <a:stretch/>
        </p:blipFill>
        <p:spPr>
          <a:xfrm>
            <a:off x="8317080" y="83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38036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30872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9636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028000" y="155736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956720" y="1341360"/>
            <a:ext cx="14256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24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45964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675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30072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227640" y="134136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0400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04000" y="1628640"/>
            <a:ext cx="142920" cy="14472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516720" y="141300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9308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724360" y="1484280"/>
            <a:ext cx="14292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12000" y="1484280"/>
            <a:ext cx="142560" cy="144360"/>
          </a:xfrm>
          <a:prstGeom prst="ellipse">
            <a:avLst/>
          </a:prstGeom>
          <a:solidFill>
            <a:srgbClr val="1ad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11760" y="1784520"/>
            <a:ext cx="3259080" cy="376200"/>
          </a:xfrm>
          <a:custGeom>
            <a:avLst/>
            <a:gdLst/>
            <a:ahLst/>
            <a:rect l="l" t="t" r="r" b="b"/>
            <a:pathLst>
              <a:path w="2053" h="237">
                <a:moveTo>
                  <a:pt x="17" y="120"/>
                </a:moveTo>
                <a:cubicBezTo>
                  <a:pt x="37" y="89"/>
                  <a:pt x="49" y="89"/>
                  <a:pt x="83" y="78"/>
                </a:cubicBezTo>
                <a:cubicBezTo>
                  <a:pt x="165" y="84"/>
                  <a:pt x="224" y="102"/>
                  <a:pt x="300" y="78"/>
                </a:cubicBezTo>
                <a:cubicBezTo>
                  <a:pt x="345" y="85"/>
                  <a:pt x="389" y="96"/>
                  <a:pt x="434" y="103"/>
                </a:cubicBezTo>
                <a:cubicBezTo>
                  <a:pt x="448" y="100"/>
                  <a:pt x="463" y="100"/>
                  <a:pt x="476" y="95"/>
                </a:cubicBezTo>
                <a:cubicBezTo>
                  <a:pt x="507" y="83"/>
                  <a:pt x="519" y="55"/>
                  <a:pt x="551" y="45"/>
                </a:cubicBezTo>
                <a:cubicBezTo>
                  <a:pt x="619" y="54"/>
                  <a:pt x="606" y="61"/>
                  <a:pt x="659" y="78"/>
                </a:cubicBezTo>
                <a:cubicBezTo>
                  <a:pt x="701" y="75"/>
                  <a:pt x="743" y="77"/>
                  <a:pt x="785" y="70"/>
                </a:cubicBezTo>
                <a:cubicBezTo>
                  <a:pt x="812" y="66"/>
                  <a:pt x="811" y="44"/>
                  <a:pt x="826" y="28"/>
                </a:cubicBezTo>
                <a:cubicBezTo>
                  <a:pt x="842" y="11"/>
                  <a:pt x="855" y="10"/>
                  <a:pt x="876" y="3"/>
                </a:cubicBezTo>
                <a:cubicBezTo>
                  <a:pt x="912" y="6"/>
                  <a:pt x="949" y="6"/>
                  <a:pt x="985" y="11"/>
                </a:cubicBezTo>
                <a:cubicBezTo>
                  <a:pt x="1018" y="15"/>
                  <a:pt x="1053" y="43"/>
                  <a:pt x="1085" y="53"/>
                </a:cubicBezTo>
                <a:cubicBezTo>
                  <a:pt x="1143" y="45"/>
                  <a:pt x="1162" y="35"/>
                  <a:pt x="1219" y="45"/>
                </a:cubicBezTo>
                <a:cubicBezTo>
                  <a:pt x="1283" y="87"/>
                  <a:pt x="1249" y="81"/>
                  <a:pt x="1319" y="70"/>
                </a:cubicBezTo>
                <a:cubicBezTo>
                  <a:pt x="1367" y="22"/>
                  <a:pt x="1381" y="38"/>
                  <a:pt x="1444" y="53"/>
                </a:cubicBezTo>
                <a:cubicBezTo>
                  <a:pt x="1523" y="40"/>
                  <a:pt x="1594" y="27"/>
                  <a:pt x="1669" y="3"/>
                </a:cubicBezTo>
                <a:cubicBezTo>
                  <a:pt x="1731" y="22"/>
                  <a:pt x="1728" y="19"/>
                  <a:pt x="1811" y="11"/>
                </a:cubicBezTo>
                <a:cubicBezTo>
                  <a:pt x="1847" y="0"/>
                  <a:pt x="1864" y="7"/>
                  <a:pt x="1895" y="28"/>
                </a:cubicBezTo>
                <a:cubicBezTo>
                  <a:pt x="1922" y="68"/>
                  <a:pt x="1957" y="67"/>
                  <a:pt x="2003" y="78"/>
                </a:cubicBezTo>
                <a:cubicBezTo>
                  <a:pt x="2014" y="84"/>
                  <a:pt x="2029" y="85"/>
                  <a:pt x="2037" y="95"/>
                </a:cubicBezTo>
                <a:cubicBezTo>
                  <a:pt x="2047" y="109"/>
                  <a:pt x="2053" y="145"/>
                  <a:pt x="2053" y="145"/>
                </a:cubicBezTo>
                <a:cubicBezTo>
                  <a:pt x="2041" y="193"/>
                  <a:pt x="2039" y="181"/>
                  <a:pt x="1995" y="195"/>
                </a:cubicBezTo>
                <a:cubicBezTo>
                  <a:pt x="1948" y="188"/>
                  <a:pt x="1898" y="193"/>
                  <a:pt x="1853" y="178"/>
                </a:cubicBezTo>
                <a:cubicBezTo>
                  <a:pt x="1843" y="175"/>
                  <a:pt x="1845" y="156"/>
                  <a:pt x="1836" y="153"/>
                </a:cubicBezTo>
                <a:cubicBezTo>
                  <a:pt x="1812" y="145"/>
                  <a:pt x="1786" y="148"/>
                  <a:pt x="1761" y="145"/>
                </a:cubicBezTo>
                <a:cubicBezTo>
                  <a:pt x="1702" y="156"/>
                  <a:pt x="1655" y="172"/>
                  <a:pt x="1594" y="178"/>
                </a:cubicBezTo>
                <a:cubicBezTo>
                  <a:pt x="1532" y="170"/>
                  <a:pt x="1497" y="162"/>
                  <a:pt x="1436" y="170"/>
                </a:cubicBezTo>
                <a:cubicBezTo>
                  <a:pt x="1366" y="217"/>
                  <a:pt x="1316" y="161"/>
                  <a:pt x="1252" y="145"/>
                </a:cubicBezTo>
                <a:cubicBezTo>
                  <a:pt x="1184" y="99"/>
                  <a:pt x="1173" y="153"/>
                  <a:pt x="1119" y="170"/>
                </a:cubicBezTo>
                <a:cubicBezTo>
                  <a:pt x="1079" y="196"/>
                  <a:pt x="1069" y="184"/>
                  <a:pt x="1027" y="170"/>
                </a:cubicBezTo>
                <a:cubicBezTo>
                  <a:pt x="984" y="176"/>
                  <a:pt x="957" y="183"/>
                  <a:pt x="918" y="195"/>
                </a:cubicBezTo>
                <a:cubicBezTo>
                  <a:pt x="910" y="201"/>
                  <a:pt x="903" y="211"/>
                  <a:pt x="893" y="212"/>
                </a:cubicBezTo>
                <a:cubicBezTo>
                  <a:pt x="837" y="219"/>
                  <a:pt x="857" y="185"/>
                  <a:pt x="810" y="170"/>
                </a:cubicBezTo>
                <a:cubicBezTo>
                  <a:pt x="762" y="176"/>
                  <a:pt x="715" y="198"/>
                  <a:pt x="668" y="203"/>
                </a:cubicBezTo>
                <a:cubicBezTo>
                  <a:pt x="623" y="208"/>
                  <a:pt x="579" y="209"/>
                  <a:pt x="534" y="212"/>
                </a:cubicBezTo>
                <a:cubicBezTo>
                  <a:pt x="488" y="227"/>
                  <a:pt x="381" y="199"/>
                  <a:pt x="334" y="195"/>
                </a:cubicBezTo>
                <a:cubicBezTo>
                  <a:pt x="298" y="183"/>
                  <a:pt x="289" y="177"/>
                  <a:pt x="250" y="187"/>
                </a:cubicBezTo>
                <a:cubicBezTo>
                  <a:pt x="200" y="237"/>
                  <a:pt x="151" y="223"/>
                  <a:pt x="75" y="228"/>
                </a:cubicBezTo>
                <a:cubicBezTo>
                  <a:pt x="61" y="225"/>
                  <a:pt x="44" y="229"/>
                  <a:pt x="33" y="220"/>
                </a:cubicBezTo>
                <a:cubicBezTo>
                  <a:pt x="17" y="208"/>
                  <a:pt x="0" y="170"/>
                  <a:pt x="0" y="170"/>
                </a:cubicBezTo>
                <a:cubicBezTo>
                  <a:pt x="3" y="159"/>
                  <a:pt x="4" y="147"/>
                  <a:pt x="8" y="137"/>
                </a:cubicBezTo>
                <a:cubicBezTo>
                  <a:pt x="14" y="122"/>
                  <a:pt x="37" y="98"/>
                  <a:pt x="17" y="120"/>
                </a:cubicBezTo>
                <a:close/>
              </a:path>
            </a:pathLst>
          </a:custGeom>
          <a:solidFill>
            <a:srgbClr val="d84e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Filename: FD00131_.wmf&#13;File Size: 5 KB"/>
          <p:cNvPicPr/>
          <p:nvPr/>
        </p:nvPicPr>
        <p:blipFill>
          <a:blip r:embed="rId7"/>
          <a:stretch/>
        </p:blipFill>
        <p:spPr>
          <a:xfrm>
            <a:off x="5724360" y="2205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Filename: FD00131_.wmf&#13;File Size: 5 KB"/>
          <p:cNvPicPr/>
          <p:nvPr/>
        </p:nvPicPr>
        <p:blipFill>
          <a:blip r:embed="rId8"/>
          <a:stretch/>
        </p:blipFill>
        <p:spPr>
          <a:xfrm>
            <a:off x="637236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Filename: FD00131_.wmf&#13;File Size: 5 KB"/>
          <p:cNvPicPr/>
          <p:nvPr/>
        </p:nvPicPr>
        <p:blipFill>
          <a:blip r:embed="rId9"/>
          <a:stretch/>
        </p:blipFill>
        <p:spPr>
          <a:xfrm>
            <a:off x="709308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Filename: FD00131_.wmf&#13;File Size: 5 KB"/>
          <p:cNvPicPr/>
          <p:nvPr/>
        </p:nvPicPr>
        <p:blipFill>
          <a:blip r:embed="rId10"/>
          <a:stretch/>
        </p:blipFill>
        <p:spPr>
          <a:xfrm>
            <a:off x="7740720" y="220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Filename: FD00131_.wmf&#13;File Size: 5 KB"/>
          <p:cNvPicPr/>
          <p:nvPr/>
        </p:nvPicPr>
        <p:blipFill>
          <a:blip r:embed="rId11"/>
          <a:stretch/>
        </p:blipFill>
        <p:spPr>
          <a:xfrm>
            <a:off x="8317080" y="2133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Filename: j0193478.wmf&#13;File Size: 19 KB"/>
          <p:cNvPicPr/>
          <p:nvPr/>
        </p:nvPicPr>
        <p:blipFill>
          <a:blip r:embed="rId12"/>
          <a:stretch/>
        </p:blipFill>
        <p:spPr>
          <a:xfrm>
            <a:off x="615636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Filename: j0193478.wmf&#13;File Size: 19 KB"/>
          <p:cNvPicPr/>
          <p:nvPr/>
        </p:nvPicPr>
        <p:blipFill>
          <a:blip r:embed="rId13"/>
          <a:stretch/>
        </p:blipFill>
        <p:spPr>
          <a:xfrm>
            <a:off x="673272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Filename: j0193478.wmf&#13;File Size: 19 KB"/>
          <p:cNvPicPr/>
          <p:nvPr/>
        </p:nvPicPr>
        <p:blipFill>
          <a:blip r:embed="rId14"/>
          <a:stretch/>
        </p:blipFill>
        <p:spPr>
          <a:xfrm>
            <a:off x="7308720" y="2708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Filename: j0193478.wmf&#13;File Size: 19 KB"/>
          <p:cNvPicPr/>
          <p:nvPr/>
        </p:nvPicPr>
        <p:blipFill>
          <a:blip r:embed="rId15"/>
          <a:stretch/>
        </p:blipFill>
        <p:spPr>
          <a:xfrm>
            <a:off x="788508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Filename: j0193478.wmf&#13;File Size: 19 KB"/>
          <p:cNvPicPr/>
          <p:nvPr/>
        </p:nvPicPr>
        <p:blipFill>
          <a:blip r:embed="rId16"/>
          <a:stretch/>
        </p:blipFill>
        <p:spPr>
          <a:xfrm>
            <a:off x="8459640" y="2637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Filename: AN04144_.wmf&#13;File Size: 4 KB"/>
          <p:cNvPicPr/>
          <p:nvPr/>
        </p:nvPicPr>
        <p:blipFill>
          <a:blip r:embed="rId17"/>
          <a:stretch/>
        </p:blipFill>
        <p:spPr>
          <a:xfrm>
            <a:off x="5508720" y="3213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Filename: AN04144_.wmf&#13;File Size: 4 KB"/>
          <p:cNvPicPr/>
          <p:nvPr/>
        </p:nvPicPr>
        <p:blipFill>
          <a:blip r:embed="rId18"/>
          <a:stretch/>
        </p:blipFill>
        <p:spPr>
          <a:xfrm>
            <a:off x="7308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Filename: AN04144_.wmf&#13;File Size: 4 KB"/>
          <p:cNvPicPr/>
          <p:nvPr/>
        </p:nvPicPr>
        <p:blipFill>
          <a:blip r:embed="rId19"/>
          <a:stretch/>
        </p:blipFill>
        <p:spPr>
          <a:xfrm>
            <a:off x="6659640" y="3284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Filename: AN04144_.wmf&#13;File Size: 4 KB"/>
          <p:cNvPicPr/>
          <p:nvPr/>
        </p:nvPicPr>
        <p:blipFill>
          <a:blip r:embed="rId20"/>
          <a:stretch/>
        </p:blipFill>
        <p:spPr>
          <a:xfrm>
            <a:off x="6084720" y="328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Filename: AN04144_.wmf&#13;File Size: 4 KB"/>
          <p:cNvPicPr/>
          <p:nvPr/>
        </p:nvPicPr>
        <p:blipFill>
          <a:blip r:embed="rId21"/>
          <a:stretch/>
        </p:blipFill>
        <p:spPr>
          <a:xfrm>
            <a:off x="7956720" y="3284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580000" y="3860640"/>
            <a:ext cx="3313080" cy="432000"/>
          </a:xfrm>
          <a:prstGeom prst="roundRect">
            <a:avLst>
              <a:gd name="adj" fmla="val 16667"/>
            </a:avLst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Filename: j0193478.wmf&#13;File Size: 19 KB"/>
          <p:cNvPicPr/>
          <p:nvPr/>
        </p:nvPicPr>
        <p:blipFill>
          <a:blip r:embed="rId22"/>
          <a:stretch/>
        </p:blipFill>
        <p:spPr>
          <a:xfrm>
            <a:off x="5580000" y="2708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19:26:26Z</dcterms:created>
  <dc:creator>CSeccombe</dc:creator>
  <dc:description/>
  <dc:language>en-US</dc:language>
  <cp:lastModifiedBy>PSeccombe</cp:lastModifiedBy>
  <dcterms:modified xsi:type="dcterms:W3CDTF">2005-08-03T21:11:35Z</dcterms:modified>
  <cp:revision>4</cp:revision>
  <dc:subject/>
  <dc:title>Slide 1</dc:title>
</cp:coreProperties>
</file>