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12.jpeg" ContentType="image/jpeg"/>
  <Override PartName="/ppt/media/image11.jpeg" ContentType="image/jpeg"/>
  <Override PartName="/ppt/media/image31.gif" ContentType="image/gif"/>
  <Override PartName="/ppt/media/image13.jpeg" ContentType="image/jpeg"/>
  <Override PartName="/ppt/media/image30.gif" ContentType="image/gif"/>
  <Override PartName="/ppt/media/image14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.jpeg" ContentType="image/jpeg"/>
  <Override PartName="/ppt/media/image1.png" ContentType="image/png"/>
  <Override PartName="/ppt/media/image16.png" ContentType="image/png"/>
  <Override PartName="/ppt/media/image17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75A-D5EC-4E7C-89E1-E3B46B04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4AE-A3AB-4F96-ACDA-11CAFF0A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AAD-9183-432D-9E6B-F43EB3EF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D2CC-5C34-4ECA-BA3B-7A236D03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208-4F70-4FAD-8EBC-6E04CBBF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B81C-758C-4D6B-9463-4E22FD4B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A29-2214-4906-93EF-2FC59A69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BB0-F38A-417F-824E-14AC9C25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A5ED-44A7-42CB-9566-8CF2BAAD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3F1B-2CE5-4116-857C-5C19E9E5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D3DA-2365-476C-9BBE-029A683C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610B-3C1C-43EF-9011-A6E03DFA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C3B9-12D2-46D3-9374-6D59BEAA47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perso.wanadoo.fr/pharma.mez/pharmacie.JPG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hyperlink" Target="http://perso.wanadoo.fr/pharma.mez/pharmacie.JPG" TargetMode="External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www.be-cool.com/ceria-gryzon/assets/images/ieg067.jpg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11.jpeg"/><Relationship Id="rId9" Type="http://schemas.openxmlformats.org/officeDocument/2006/relationships/hyperlink" Target="http://perso.wanadoo.fr/pharma.mez/pharmacie.JPG" TargetMode="External"/><Relationship Id="rId10" Type="http://schemas.openxmlformats.org/officeDocument/2006/relationships/image" Target="../media/image4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image" Target="../media/image18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19.jpeg"/><Relationship Id="rId9" Type="http://schemas.openxmlformats.org/officeDocument/2006/relationships/image" Target="../media/image23.jpeg"/><Relationship Id="rId10" Type="http://schemas.openxmlformats.org/officeDocument/2006/relationships/image" Target="../media/image20.jpeg"/><Relationship Id="rId11" Type="http://schemas.openxmlformats.org/officeDocument/2006/relationships/image" Target="../media/image24.jpeg"/><Relationship Id="rId12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6.png"/><Relationship Id="rId4" Type="http://schemas.openxmlformats.org/officeDocument/2006/relationships/image" Target="../media/image28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e-cool.com/ceria-gryzon/assets/images/ieg067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erso.wanadoo.fr/pharma.mez/pharmacie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2205000"/>
            <a:ext cx="5616360" cy="23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 ville</a:t>
            </a:r>
            <a:endParaRPr b="0" lang="en-US" sz="8000" spc="1" strike="noStrike">
              <a:ln w="255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66920" cy="1192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332000" y="0"/>
            <a:ext cx="1581120" cy="1185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0"/>
            <a:ext cx="1584360" cy="120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4500720" y="0"/>
            <a:ext cx="1584000" cy="1185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6084720" y="0"/>
            <a:ext cx="1727280" cy="1154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7812000" y="0"/>
            <a:ext cx="1332000" cy="1125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7777080" y="5665680"/>
            <a:ext cx="1366920" cy="1192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6227640" y="5672160"/>
            <a:ext cx="1581120" cy="1185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43280" y="5657760"/>
            <a:ext cx="1584360" cy="1200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3"/>
          <a:stretch/>
        </p:blipFill>
        <p:spPr>
          <a:xfrm>
            <a:off x="3059280" y="5672160"/>
            <a:ext cx="1584000" cy="1185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4"/>
          <a:stretch/>
        </p:blipFill>
        <p:spPr>
          <a:xfrm>
            <a:off x="1332000" y="5703840"/>
            <a:ext cx="1727280" cy="1154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5"/>
          <a:stretch/>
        </p:blipFill>
        <p:spPr>
          <a:xfrm>
            <a:off x="0" y="5732640"/>
            <a:ext cx="1332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4000" y="3789360"/>
            <a:ext cx="3649680" cy="2738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95640" y="5157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Le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cin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13413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Le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collè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932360" y="404640"/>
            <a:ext cx="3984480" cy="29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617560" cy="4032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356000" y="3716280"/>
            <a:ext cx="4442040" cy="2960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987640" y="1557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Le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supermarc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5084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Le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marc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3280" y="260280"/>
            <a:ext cx="3945240" cy="3959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63640" y="198900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Comic Sans MS"/>
              </a:rPr>
              <a:t>Le</a:t>
            </a:r>
            <a:r>
              <a:rPr b="1" lang="en-US" sz="3200" spc="-1" strike="noStrike">
                <a:solidFill>
                  <a:srgbClr val="4d4d4d"/>
                </a:solidFill>
                <a:latin typeface="Comic Sans MS"/>
              </a:rPr>
              <a:t> restau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9280" y="3213000"/>
            <a:ext cx="3456000" cy="3357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708360" y="4941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Comic Sans MS"/>
              </a:rPr>
              <a:t>Le</a:t>
            </a: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4d4d4d"/>
                </a:solidFill>
                <a:latin typeface="Comic Sans MS"/>
              </a:rPr>
              <a:t>z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4487760" cy="336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932360" y="981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Comic Sans MS"/>
              </a:rPr>
              <a:t>Le</a:t>
            </a:r>
            <a:r>
              <a:rPr b="1" lang="en-US" sz="3200" spc="-1" strike="noStrike">
                <a:solidFill>
                  <a:srgbClr val="4d4d4d"/>
                </a:solidFill>
                <a:latin typeface="Comic Sans MS"/>
              </a:rPr>
              <a:t> caf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508720" y="2852640"/>
            <a:ext cx="3089160" cy="3381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132000" y="5300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Le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tab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3738600" cy="4065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67280" y="5013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Comic Sans MS"/>
              </a:rPr>
              <a:t>L’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égl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148360" y="476280"/>
            <a:ext cx="3657600" cy="2749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484360" y="1052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Comic Sans MS"/>
              </a:rPr>
              <a:t>L’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hô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392360" cy="3271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788000" y="1484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Comic Sans MS"/>
              </a:rPr>
              <a:t>L’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arrêt de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643280" y="3860640"/>
            <a:ext cx="4268880" cy="274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50920" y="522936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Comic Sans MS"/>
              </a:rPr>
              <a:t>L’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60520" y="1600200"/>
            <a:ext cx="2031840" cy="21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55720" y="3938760"/>
            <a:ext cx="3241440" cy="2187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5643720" y="4008600"/>
            <a:ext cx="2047680" cy="2047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9640" y="260280"/>
            <a:ext cx="8136000" cy="10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90000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219564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658800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363528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500364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2"/>
          <a:stretch/>
        </p:blipFill>
        <p:spPr>
          <a:xfrm>
            <a:off x="7885080" y="404640"/>
            <a:ext cx="565200" cy="792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16000" y="1557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155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48360" y="40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a boulang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a pâtiss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a bouch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a charcut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195640" y="404640"/>
            <a:ext cx="415800" cy="863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63528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507672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6516720" y="404640"/>
            <a:ext cx="415800" cy="863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8028000" y="404640"/>
            <a:ext cx="4158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60280"/>
            <a:ext cx="8136000" cy="10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19564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58800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500364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88508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1714680" y="1600200"/>
            <a:ext cx="1523880" cy="2185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80000" y="2149560"/>
            <a:ext cx="1806480" cy="1365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1619280" y="4317840"/>
            <a:ext cx="1714320" cy="1428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5940360" y="3938760"/>
            <a:ext cx="1452600" cy="2187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042920" y="184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32360" y="2060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92720" y="393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a confis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a pharm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a ban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a po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195640" y="404640"/>
            <a:ext cx="415800" cy="863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63528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507672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516720" y="404640"/>
            <a:ext cx="415800" cy="863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8028000" y="404640"/>
            <a:ext cx="4158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4360" y="1484280"/>
            <a:ext cx="7848360" cy="36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63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808080"/>
                </a:solidFill>
                <a:latin typeface="Comic Sans MS"/>
              </a:rPr>
              <a:t>Dans ma ville, il y a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95640" y="0"/>
            <a:ext cx="1190880" cy="1666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380360" y="0"/>
            <a:ext cx="1190520" cy="1666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924360" y="5191200"/>
            <a:ext cx="1190520" cy="1666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11280" y="0"/>
            <a:ext cx="1190520" cy="1666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308720" y="5191200"/>
            <a:ext cx="1190880" cy="1666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68360" y="5191200"/>
            <a:ext cx="11905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260280"/>
            <a:ext cx="8136000" cy="10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19564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58800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500364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788508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>
            <a:off x="5067360" y="1622520"/>
            <a:ext cx="3200400" cy="2139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0"/>
          <a:stretch/>
        </p:blipFill>
        <p:spPr>
          <a:xfrm>
            <a:off x="1285920" y="4246560"/>
            <a:ext cx="2381040" cy="15717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1"/>
          <a:stretch/>
        </p:blipFill>
        <p:spPr>
          <a:xfrm>
            <a:off x="5743440" y="3938760"/>
            <a:ext cx="1846440" cy="2187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68360" y="155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00720" y="1628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422100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393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a 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a bibliothè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a mai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a pis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195640" y="404640"/>
            <a:ext cx="415800" cy="863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63528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507672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6516720" y="404640"/>
            <a:ext cx="415800" cy="863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8028000" y="404640"/>
            <a:ext cx="4158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260280"/>
            <a:ext cx="8136000" cy="10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19564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58800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500364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788508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1407960" y="1600200"/>
            <a:ext cx="2136960" cy="2185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5195880" y="1739880"/>
            <a:ext cx="2943360" cy="1905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1017720" y="3938760"/>
            <a:ext cx="2917800" cy="2187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971640" y="155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43280" y="1700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393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e jardin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e st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e collè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e cin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2195640" y="404640"/>
            <a:ext cx="415800" cy="863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363528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507672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6516720" y="404640"/>
            <a:ext cx="415800" cy="863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8028000" y="404640"/>
            <a:ext cx="4158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260280"/>
            <a:ext cx="8136000" cy="10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19564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58800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500364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788508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8"/>
          <a:stretch/>
        </p:blipFill>
        <p:spPr>
          <a:xfrm>
            <a:off x="1649520" y="1600200"/>
            <a:ext cx="1654200" cy="2185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0"/>
          <a:stretch/>
        </p:blipFill>
        <p:spPr>
          <a:xfrm>
            <a:off x="5238720" y="40798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1"/>
          <a:stretch/>
        </p:blipFill>
        <p:spPr>
          <a:xfrm>
            <a:off x="5668920" y="1600200"/>
            <a:ext cx="1997280" cy="2185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042920" y="1628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19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16360" y="4005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e supermarc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e tab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 caf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e marc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2195640" y="404640"/>
            <a:ext cx="415800" cy="8636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363528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507672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6516720" y="404640"/>
            <a:ext cx="415800" cy="863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7"/>
          <a:stretch/>
        </p:blipFill>
        <p:spPr>
          <a:xfrm>
            <a:off x="8028000" y="404640"/>
            <a:ext cx="4158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260280"/>
            <a:ext cx="8136000" cy="10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219564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658800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500364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7885080" y="404640"/>
            <a:ext cx="565200" cy="792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8"/>
          <a:stretch/>
        </p:blipFill>
        <p:spPr>
          <a:xfrm>
            <a:off x="1332000" y="1623960"/>
            <a:ext cx="2232000" cy="20844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9"/>
          <a:stretch/>
        </p:blipFill>
        <p:spPr>
          <a:xfrm>
            <a:off x="5162400" y="1677960"/>
            <a:ext cx="3009960" cy="20289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0"/>
          <a:stretch/>
        </p:blipFill>
        <p:spPr>
          <a:xfrm>
            <a:off x="1006560" y="3938760"/>
            <a:ext cx="2938320" cy="21873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1"/>
          <a:stretch/>
        </p:blipFill>
        <p:spPr>
          <a:xfrm>
            <a:off x="4965840" y="3938760"/>
            <a:ext cx="3402000" cy="21873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55640" y="1628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43280" y="1700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8360" y="393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00720" y="4005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’égl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’hô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’arrêt de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2195640" y="404640"/>
            <a:ext cx="415800" cy="8636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363528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5076720" y="404640"/>
            <a:ext cx="416160" cy="863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6516720" y="404640"/>
            <a:ext cx="415800" cy="863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7"/>
          <a:stretch/>
        </p:blipFill>
        <p:spPr>
          <a:xfrm>
            <a:off x="8028000" y="404640"/>
            <a:ext cx="4158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4360" y="476280"/>
            <a:ext cx="7848360" cy="36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63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808080"/>
                </a:solidFill>
                <a:latin typeface="Comic Sans MS"/>
              </a:rPr>
              <a:t>Un peu de grammai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419640" y="3933720"/>
            <a:ext cx="24955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042920" y="836640"/>
            <a:ext cx="6913800" cy="51134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63640" y="1700280"/>
            <a:ext cx="55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184464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Comic Sans MS"/>
              </a:rPr>
              <a:t>To go 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637000"/>
            <a:ext cx="5472360" cy="37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4d4d4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4d4d4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Aller à+</a:t>
            </a: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le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aller </a:t>
            </a: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4d4d4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Aller à+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la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aller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à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4d4d4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Aller à+</a:t>
            </a:r>
            <a:r>
              <a:rPr b="1" lang="en-GB" sz="3200" spc="-1" strike="noStrike">
                <a:solidFill>
                  <a:srgbClr val="33cc33"/>
                </a:solidFill>
                <a:latin typeface="Comic Sans MS"/>
              </a:rPr>
              <a:t>l’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aller </a:t>
            </a:r>
            <a:r>
              <a:rPr b="1" lang="en-GB" sz="3200" spc="-1" strike="noStrike">
                <a:solidFill>
                  <a:srgbClr val="33cc33"/>
                </a:solidFill>
                <a:latin typeface="Comic Sans MS"/>
              </a:rPr>
              <a:t>à l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382920" cy="295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219640" y="3951360"/>
            <a:ext cx="3598920" cy="2698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08360" y="141300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La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boulang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5445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La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pâtiss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042920" y="836640"/>
            <a:ext cx="6913800" cy="51134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63640" y="1700280"/>
            <a:ext cx="55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18446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Comic Sans MS"/>
              </a:rPr>
              <a:t>To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2492280"/>
            <a:ext cx="3816360" cy="31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Je v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Tu 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Il / Elle 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Nous a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Vous all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Ils / Elles v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2678400" cy="28814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4788000" y="476280"/>
            <a:ext cx="3887640" cy="25160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468360" y="3933720"/>
            <a:ext cx="3889440" cy="2502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5292720" y="3645000"/>
            <a:ext cx="2814480" cy="2881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0" y="33336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11640" y="47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9337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1636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476360" y="2852640"/>
            <a:ext cx="6264360" cy="3627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1547640" y="1052640"/>
            <a:ext cx="5524560" cy="1685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50760">
                  <a:solidFill>
                    <a:srgbClr val="4d4d4d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c'est fini!</a:t>
            </a:r>
            <a:endParaRPr b="1" lang="en-US" sz="9600" spc="1" strike="noStrike">
              <a:ln w="50760">
                <a:solidFill>
                  <a:srgbClr val="4d4d4d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260280"/>
            <a:ext cx="4319280" cy="2919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24000" y="3213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92360" y="981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La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bouch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4653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La</a:t>
            </a:r>
            <a:r>
              <a:rPr b="1" lang="en-US" sz="3200" spc="-1" strike="noStrike">
                <a:solidFill>
                  <a:srgbClr val="4d4d4d"/>
                </a:solidFill>
                <a:latin typeface="Comic Sans MS"/>
              </a:rPr>
              <a:t> charcut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3284640"/>
            <a:ext cx="4268880" cy="3233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32000" y="5445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La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pharm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13000" cy="4608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132000" y="1125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La 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confis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3810240" cy="3174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227640" y="404640"/>
            <a:ext cx="2732040" cy="4113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284720" y="1484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La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po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5516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La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ban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3624120" cy="2717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716360" y="3933720"/>
            <a:ext cx="4043520" cy="2703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140360" y="1557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La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4941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La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bibliothè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2792160" cy="3454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59280" y="5013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La</a:t>
            </a:r>
            <a:r>
              <a:rPr b="1" lang="en-US" sz="3200" spc="-1" strike="noStrike">
                <a:solidFill>
                  <a:srgbClr val="4d4d4d"/>
                </a:solidFill>
                <a:latin typeface="Comic Sans MS"/>
              </a:rPr>
              <a:t> pis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003640" y="333360"/>
            <a:ext cx="3961080" cy="2903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916360" y="1268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La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mai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2867040" cy="2933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572000" y="3855960"/>
            <a:ext cx="3951360" cy="2557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348000" y="17002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Le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jardin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486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Comic Sans MS"/>
              </a:rPr>
              <a:t>Le</a:t>
            </a:r>
            <a:r>
              <a:rPr b="1" lang="en-GB" sz="3200" spc="-1" strike="noStrike">
                <a:solidFill>
                  <a:srgbClr val="4d4d4d"/>
                </a:solidFill>
                <a:latin typeface="Comic Sans MS"/>
              </a:rPr>
              <a:t> st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1:15:54Z</dcterms:created>
  <dc:creator>Amelie Azeem-Rault</dc:creator>
  <dc:description/>
  <dc:language>en-US</dc:language>
  <cp:lastModifiedBy>PSeccombe</cp:lastModifiedBy>
  <dcterms:modified xsi:type="dcterms:W3CDTF">2005-08-03T21:13:55Z</dcterms:modified>
  <cp:revision>254</cp:revision>
  <dc:subject/>
  <dc:title>Slide 1</dc:title>
</cp:coreProperties>
</file>