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28.jpeg" ContentType="image/jpeg"/>
  <Override PartName="/ppt/media/image7.jpeg" ContentType="image/jpeg"/>
  <Override PartName="/ppt/media/image9.jpeg" ContentType="image/jpeg"/>
  <Override PartName="/ppt/media/image12.jpeg" ContentType="image/jpeg"/>
  <Override PartName="/ppt/media/image11.jpeg" ContentType="image/jpeg"/>
  <Override PartName="/ppt/media/image31.gif" ContentType="image/gif"/>
  <Override PartName="/ppt/media/image13.jpeg" ContentType="image/jpeg"/>
  <Override PartName="/ppt/media/image30.gif" ContentType="image/gif"/>
  <Override PartName="/ppt/media/image14.jpeg" ContentType="image/jpeg"/>
  <Override PartName="/ppt/media/image8.gif" ContentType="image/gif"/>
  <Override PartName="/ppt/media/image18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3.jpeg" ContentType="image/jpeg"/>
  <Override PartName="/ppt/media/image1.png" ContentType="image/png"/>
  <Override PartName="/ppt/media/image16.png" ContentType="image/png"/>
  <Override PartName="/ppt/media/image17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B182-05DD-4E1B-A017-58C95DA51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A611-E844-4E2E-902F-C330471F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1DCC-F0F9-444A-BEF0-3CFE1DEB3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630A-6387-4024-83C3-A4C4B89FD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91AB-448B-4C25-9CC1-088B053F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9952-7BDA-411F-8F31-CDDECC0A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B3AA-A6FC-4C5B-94EC-450968B2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4223-046A-4628-8E16-51B183C0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C259-AD3E-4D49-A951-A40DCA82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B60F-B300-4B12-A138-BE22777F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9AD7-31C7-47F6-B901-2BCBDFB5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81F8-0868-46EB-B720-6F25D35D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DD5B-9EC7-4BA6-8290-2943E0F41BF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perso.wanadoo.fr/pharma.mez/pharmacie.JPG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2.jpeg"/><Relationship Id="rId10" Type="http://schemas.openxmlformats.org/officeDocument/2006/relationships/image" Target="../media/image3.jpeg"/><Relationship Id="rId11" Type="http://schemas.openxmlformats.org/officeDocument/2006/relationships/hyperlink" Target="http://perso.wanadoo.fr/pharma.mez/pharmacie.JPG" TargetMode="External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6.jpeg"/><Relationship Id="rId15" Type="http://schemas.openxmlformats.org/officeDocument/2006/relationships/image" Target="../media/image7.jpe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www.be-cool.com/ceria-gryzon/assets/images/ieg067.jpg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image" Target="../media/image29.gif"/><Relationship Id="rId6" Type="http://schemas.openxmlformats.org/officeDocument/2006/relationships/image" Target="../media/image29.gif"/><Relationship Id="rId7" Type="http://schemas.openxmlformats.org/officeDocument/2006/relationships/image" Target="../media/image29.gif"/><Relationship Id="rId8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11.jpeg"/><Relationship Id="rId9" Type="http://schemas.openxmlformats.org/officeDocument/2006/relationships/hyperlink" Target="http://perso.wanadoo.fr/pharma.mez/pharmacie.JPG" TargetMode="External"/><Relationship Id="rId10" Type="http://schemas.openxmlformats.org/officeDocument/2006/relationships/image" Target="../media/image4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image" Target="../media/image29.gif"/><Relationship Id="rId6" Type="http://schemas.openxmlformats.org/officeDocument/2006/relationships/image" Target="../media/image29.gif"/><Relationship Id="rId7" Type="http://schemas.openxmlformats.org/officeDocument/2006/relationships/image" Target="../media/image29.gif"/><Relationship Id="rId8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image" Target="../media/image29.gif"/><Relationship Id="rId6" Type="http://schemas.openxmlformats.org/officeDocument/2006/relationships/image" Target="../media/image29.gif"/><Relationship Id="rId7" Type="http://schemas.openxmlformats.org/officeDocument/2006/relationships/image" Target="../media/image29.gif"/><Relationship Id="rId8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15.jpeg"/><Relationship Id="rId9" Type="http://schemas.openxmlformats.org/officeDocument/2006/relationships/image" Target="../media/image16.png"/><Relationship Id="rId10" Type="http://schemas.openxmlformats.org/officeDocument/2006/relationships/image" Target="../media/image18.jpe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image" Target="../media/image29.gif"/><Relationship Id="rId6" Type="http://schemas.openxmlformats.org/officeDocument/2006/relationships/image" Target="../media/image29.gif"/><Relationship Id="rId7" Type="http://schemas.openxmlformats.org/officeDocument/2006/relationships/image" Target="../media/image29.gif"/><Relationship Id="rId8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19.jpeg"/><Relationship Id="rId9" Type="http://schemas.openxmlformats.org/officeDocument/2006/relationships/image" Target="../media/image23.jpeg"/><Relationship Id="rId10" Type="http://schemas.openxmlformats.org/officeDocument/2006/relationships/image" Target="../media/image20.jpeg"/><Relationship Id="rId11" Type="http://schemas.openxmlformats.org/officeDocument/2006/relationships/image" Target="../media/image24.jpeg"/><Relationship Id="rId12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image" Target="../media/image29.gif"/><Relationship Id="rId6" Type="http://schemas.openxmlformats.org/officeDocument/2006/relationships/image" Target="../media/image29.gif"/><Relationship Id="rId7" Type="http://schemas.openxmlformats.org/officeDocument/2006/relationships/image" Target="../media/image29.gif"/><Relationship Id="rId8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28.jpeg"/><Relationship Id="rId12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image" Target="../media/image29.gif"/><Relationship Id="rId6" Type="http://schemas.openxmlformats.org/officeDocument/2006/relationships/image" Target="../media/image29.gif"/><Relationship Id="rId7" Type="http://schemas.openxmlformats.org/officeDocument/2006/relationships/image" Target="../media/image29.gif"/><Relationship Id="rId8" Type="http://schemas.openxmlformats.org/officeDocument/2006/relationships/slideLayout" Target="../slideLayouts/slideLayout1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6.png"/><Relationship Id="rId4" Type="http://schemas.openxmlformats.org/officeDocument/2006/relationships/image" Target="../media/image28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e-cool.com/ceria-gryzon/assets/images/ieg067.jpg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perso.wanadoo.fr/pharma.mez/pharmacie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35280" y="2205000"/>
            <a:ext cx="5616360" cy="239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a ville</a:t>
            </a:r>
            <a:endParaRPr b="0" lang="en-US" sz="8000" spc="1" strike="noStrike">
              <a:ln w="25560">
                <a:solidFill>
                  <a:srgbClr val="000000"/>
                </a:solidFill>
                <a:miter/>
              </a:ln>
              <a:solidFill>
                <a:srgbClr val="808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66920" cy="1192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332000" y="0"/>
            <a:ext cx="1581120" cy="1185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16360" y="0"/>
            <a:ext cx="1584360" cy="1200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4500720" y="0"/>
            <a:ext cx="1584000" cy="1185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6084720" y="0"/>
            <a:ext cx="1727280" cy="1154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7812000" y="0"/>
            <a:ext cx="1332000" cy="1125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7777080" y="5665680"/>
            <a:ext cx="1366920" cy="1192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0"/>
          <a:stretch/>
        </p:blipFill>
        <p:spPr>
          <a:xfrm>
            <a:off x="6227640" y="5672160"/>
            <a:ext cx="1581120" cy="1185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643280" y="5657760"/>
            <a:ext cx="1584360" cy="1200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3"/>
          <a:stretch/>
        </p:blipFill>
        <p:spPr>
          <a:xfrm>
            <a:off x="3059280" y="5672160"/>
            <a:ext cx="1584000" cy="1185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4"/>
          <a:stretch/>
        </p:blipFill>
        <p:spPr>
          <a:xfrm>
            <a:off x="1332000" y="5703840"/>
            <a:ext cx="1727280" cy="1154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5"/>
          <a:stretch/>
        </p:blipFill>
        <p:spPr>
          <a:xfrm>
            <a:off x="0" y="5732640"/>
            <a:ext cx="13320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24000" y="3789360"/>
            <a:ext cx="3649680" cy="2738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995640" y="51577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ff"/>
                </a:solidFill>
                <a:latin typeface="Comic Sans MS"/>
              </a:rPr>
              <a:t>Le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 ciné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11280" y="134136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ff"/>
                </a:solidFill>
                <a:latin typeface="Comic Sans MS"/>
              </a:rPr>
              <a:t>Le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 collè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932360" y="404640"/>
            <a:ext cx="3984480" cy="29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2617560" cy="4032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356000" y="3716280"/>
            <a:ext cx="4442040" cy="2960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987640" y="1557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ff"/>
                </a:solidFill>
                <a:latin typeface="Comic Sans MS"/>
              </a:rPr>
              <a:t>Le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 supermarch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50920" y="50846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ff"/>
                </a:solidFill>
                <a:latin typeface="Comic Sans MS"/>
              </a:rPr>
              <a:t>Le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 march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43280" y="260280"/>
            <a:ext cx="3945240" cy="3959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763640" y="198900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Comic Sans MS"/>
              </a:rPr>
              <a:t>Le</a:t>
            </a:r>
            <a:r>
              <a:rPr b="1" lang="en-US" sz="3200" spc="-1" strike="noStrike">
                <a:solidFill>
                  <a:srgbClr val="4d4d4d"/>
                </a:solidFill>
                <a:latin typeface="Comic Sans MS"/>
              </a:rPr>
              <a:t> restau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79280" y="3213000"/>
            <a:ext cx="3456000" cy="3357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708360" y="49417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Comic Sans MS"/>
              </a:rPr>
              <a:t>Le</a:t>
            </a:r>
            <a:r>
              <a:rPr b="1" lang="en-US" sz="32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4d4d4d"/>
                </a:solidFill>
                <a:latin typeface="Comic Sans MS"/>
              </a:rPr>
              <a:t>z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4487760" cy="336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932360" y="9810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Comic Sans MS"/>
              </a:rPr>
              <a:t>Le</a:t>
            </a:r>
            <a:r>
              <a:rPr b="1" lang="en-US" sz="3200" spc="-1" strike="noStrike">
                <a:solidFill>
                  <a:srgbClr val="4d4d4d"/>
                </a:solidFill>
                <a:latin typeface="Comic Sans MS"/>
              </a:rPr>
              <a:t> caf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508720" y="2852640"/>
            <a:ext cx="3089160" cy="3381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132000" y="53006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ff"/>
                </a:solidFill>
                <a:latin typeface="Comic Sans MS"/>
              </a:rPr>
              <a:t>Le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 tab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50920" y="2421000"/>
            <a:ext cx="3738600" cy="4065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067280" y="50133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cc33"/>
                </a:solidFill>
                <a:latin typeface="Comic Sans MS"/>
              </a:rPr>
              <a:t>L’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égl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148360" y="476280"/>
            <a:ext cx="3657600" cy="27496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484360" y="10526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cc33"/>
                </a:solidFill>
                <a:latin typeface="Comic Sans MS"/>
              </a:rPr>
              <a:t>L’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hô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392360" cy="3271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788000" y="148428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cc33"/>
                </a:solidFill>
                <a:latin typeface="Comic Sans MS"/>
              </a:rPr>
              <a:t>L’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arrêt de 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643280" y="3860640"/>
            <a:ext cx="4268880" cy="2745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050920" y="5229360"/>
            <a:ext cx="25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cc33"/>
                </a:solidFill>
                <a:latin typeface="Comic Sans MS"/>
              </a:rPr>
              <a:t>L’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hô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60520" y="1600200"/>
            <a:ext cx="2031840" cy="2185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55720" y="3938760"/>
            <a:ext cx="3241440" cy="2187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5643720" y="4008600"/>
            <a:ext cx="2047680" cy="2047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39640" y="260280"/>
            <a:ext cx="8136000" cy="1081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507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90000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219564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658800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363528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1"/>
          <a:stretch/>
        </p:blipFill>
        <p:spPr>
          <a:xfrm>
            <a:off x="500364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2"/>
          <a:stretch/>
        </p:blipFill>
        <p:spPr>
          <a:xfrm>
            <a:off x="7885080" y="404640"/>
            <a:ext cx="565200" cy="792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116000" y="1557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16360" y="155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3933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48360" y="4076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La boulange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La pâtisse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La bouche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a charcute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00120" y="417240"/>
            <a:ext cx="7944120" cy="857520"/>
          </a:xfrm>
          <a:prstGeom prst="rect">
            <a:avLst/>
          </a:prstGeom>
          <a:solidFill>
            <a:srgbClr val="bbe0e3"/>
          </a:solidFill>
          <a:ln w="50760">
            <a:solidFill>
              <a:srgbClr val="4d4d4d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26920" y="404640"/>
            <a:ext cx="416160" cy="863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2195640" y="404640"/>
            <a:ext cx="415800" cy="863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3635280" y="404640"/>
            <a:ext cx="416160" cy="863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5076720" y="404640"/>
            <a:ext cx="416160" cy="863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6516720" y="404640"/>
            <a:ext cx="415800" cy="863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8028000" y="404640"/>
            <a:ext cx="4158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60280"/>
            <a:ext cx="8136000" cy="1081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507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90000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19564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658800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363528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500364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788508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1714680" y="1600200"/>
            <a:ext cx="1523880" cy="2185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580000" y="2149560"/>
            <a:ext cx="1806480" cy="1365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1"/>
          <a:stretch/>
        </p:blipFill>
        <p:spPr>
          <a:xfrm>
            <a:off x="1619280" y="4317840"/>
            <a:ext cx="1714320" cy="14288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2"/>
          <a:stretch/>
        </p:blipFill>
        <p:spPr>
          <a:xfrm>
            <a:off x="5940360" y="3938760"/>
            <a:ext cx="1452600" cy="2187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042920" y="1844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32360" y="2060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42920" y="4221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92720" y="3933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La confise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La pharma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La ban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La po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00120" y="417240"/>
            <a:ext cx="7944120" cy="857520"/>
          </a:xfrm>
          <a:prstGeom prst="rect">
            <a:avLst/>
          </a:prstGeom>
          <a:solidFill>
            <a:srgbClr val="bbe0e3"/>
          </a:solidFill>
          <a:ln w="50760">
            <a:solidFill>
              <a:srgbClr val="4d4d4d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826920" y="404640"/>
            <a:ext cx="416160" cy="863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2195640" y="404640"/>
            <a:ext cx="415800" cy="863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3635280" y="404640"/>
            <a:ext cx="416160" cy="863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5076720" y="404640"/>
            <a:ext cx="416160" cy="863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6516720" y="404640"/>
            <a:ext cx="415800" cy="863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8028000" y="404640"/>
            <a:ext cx="4158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4360" y="1484280"/>
            <a:ext cx="7848360" cy="3600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63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808080"/>
                </a:solidFill>
                <a:latin typeface="Comic Sans MS"/>
              </a:rPr>
              <a:t>Dans ma ville, il y a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995640" y="0"/>
            <a:ext cx="1190880" cy="1666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380360" y="0"/>
            <a:ext cx="1190520" cy="1666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924360" y="5191200"/>
            <a:ext cx="1190520" cy="1666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11280" y="0"/>
            <a:ext cx="1190520" cy="1666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7308720" y="5191200"/>
            <a:ext cx="1190880" cy="1666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68360" y="5191200"/>
            <a:ext cx="11905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260280"/>
            <a:ext cx="8136000" cy="1081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507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90000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219564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658800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363528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500364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7"/>
          <a:stretch/>
        </p:blipFill>
        <p:spPr>
          <a:xfrm>
            <a:off x="788508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8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9"/>
          <a:stretch/>
        </p:blipFill>
        <p:spPr>
          <a:xfrm>
            <a:off x="5067360" y="1622520"/>
            <a:ext cx="3200400" cy="21398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0"/>
          <a:stretch/>
        </p:blipFill>
        <p:spPr>
          <a:xfrm>
            <a:off x="1285920" y="4246560"/>
            <a:ext cx="2381040" cy="15717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1"/>
          <a:stretch/>
        </p:blipFill>
        <p:spPr>
          <a:xfrm>
            <a:off x="5743440" y="3938760"/>
            <a:ext cx="1846440" cy="21873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68360" y="1557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00720" y="162864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4360" y="422100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76720" y="3933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La g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La bibliothè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La mai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a pis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00120" y="417240"/>
            <a:ext cx="7944120" cy="857520"/>
          </a:xfrm>
          <a:prstGeom prst="rect">
            <a:avLst/>
          </a:prstGeom>
          <a:solidFill>
            <a:srgbClr val="bbe0e3"/>
          </a:solidFill>
          <a:ln w="50760">
            <a:solidFill>
              <a:srgbClr val="4d4d4d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826920" y="404640"/>
            <a:ext cx="416160" cy="863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195640" y="404640"/>
            <a:ext cx="415800" cy="863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3635280" y="404640"/>
            <a:ext cx="416160" cy="863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5076720" y="404640"/>
            <a:ext cx="416160" cy="8636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6516720" y="404640"/>
            <a:ext cx="415800" cy="863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7"/>
          <a:stretch/>
        </p:blipFill>
        <p:spPr>
          <a:xfrm>
            <a:off x="8028000" y="404640"/>
            <a:ext cx="4158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260280"/>
            <a:ext cx="8136000" cy="1081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507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90000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219564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658800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363528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500364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7"/>
          <a:stretch/>
        </p:blipFill>
        <p:spPr>
          <a:xfrm>
            <a:off x="788508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8"/>
          <a:stretch/>
        </p:blipFill>
        <p:spPr>
          <a:xfrm>
            <a:off x="1407960" y="1600200"/>
            <a:ext cx="2136960" cy="21859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9"/>
          <a:stretch/>
        </p:blipFill>
        <p:spPr>
          <a:xfrm>
            <a:off x="5195880" y="1739880"/>
            <a:ext cx="2943360" cy="19051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0"/>
          <a:stretch/>
        </p:blipFill>
        <p:spPr>
          <a:xfrm>
            <a:off x="1017720" y="3938760"/>
            <a:ext cx="2917800" cy="2187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1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971640" y="1557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43280" y="17002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3933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3933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Le jardin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Le st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Le collè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Le ciné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00120" y="417240"/>
            <a:ext cx="7944120" cy="857520"/>
          </a:xfrm>
          <a:prstGeom prst="rect">
            <a:avLst/>
          </a:prstGeom>
          <a:solidFill>
            <a:srgbClr val="bbe0e3"/>
          </a:solidFill>
          <a:ln w="50760">
            <a:solidFill>
              <a:srgbClr val="4d4d4d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826920" y="404640"/>
            <a:ext cx="416160" cy="863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2195640" y="404640"/>
            <a:ext cx="415800" cy="8636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3635280" y="404640"/>
            <a:ext cx="416160" cy="8636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5076720" y="404640"/>
            <a:ext cx="416160" cy="8636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6"/>
          <a:stretch/>
        </p:blipFill>
        <p:spPr>
          <a:xfrm>
            <a:off x="6516720" y="404640"/>
            <a:ext cx="415800" cy="8636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7"/>
          <a:stretch/>
        </p:blipFill>
        <p:spPr>
          <a:xfrm>
            <a:off x="8028000" y="404640"/>
            <a:ext cx="4158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260280"/>
            <a:ext cx="8136000" cy="1081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507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90000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219564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658800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363528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500364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7"/>
          <a:stretch/>
        </p:blipFill>
        <p:spPr>
          <a:xfrm>
            <a:off x="788508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8"/>
          <a:stretch/>
        </p:blipFill>
        <p:spPr>
          <a:xfrm>
            <a:off x="1649520" y="1600200"/>
            <a:ext cx="1654200" cy="21859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9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0"/>
          <a:stretch/>
        </p:blipFill>
        <p:spPr>
          <a:xfrm>
            <a:off x="5238720" y="407988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1"/>
          <a:stretch/>
        </p:blipFill>
        <p:spPr>
          <a:xfrm>
            <a:off x="5668920" y="1600200"/>
            <a:ext cx="1997280" cy="2185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042920" y="1628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21964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9640" y="3933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16360" y="4005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Le supermarch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Le tab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 caf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Le march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0120" y="417240"/>
            <a:ext cx="7944120" cy="857520"/>
          </a:xfrm>
          <a:prstGeom prst="rect">
            <a:avLst/>
          </a:prstGeom>
          <a:solidFill>
            <a:srgbClr val="bbe0e3"/>
          </a:solidFill>
          <a:ln w="50760">
            <a:solidFill>
              <a:srgbClr val="4d4d4d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826920" y="404640"/>
            <a:ext cx="416160" cy="8636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2195640" y="404640"/>
            <a:ext cx="415800" cy="8636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3635280" y="404640"/>
            <a:ext cx="416160" cy="8636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5076720" y="404640"/>
            <a:ext cx="416160" cy="863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6516720" y="404640"/>
            <a:ext cx="415800" cy="8636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7"/>
          <a:stretch/>
        </p:blipFill>
        <p:spPr>
          <a:xfrm>
            <a:off x="8028000" y="404640"/>
            <a:ext cx="4158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9640" y="260280"/>
            <a:ext cx="8136000" cy="1081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507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90000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219564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658800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5"/>
          <a:stretch/>
        </p:blipFill>
        <p:spPr>
          <a:xfrm>
            <a:off x="363528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6"/>
          <a:stretch/>
        </p:blipFill>
        <p:spPr>
          <a:xfrm>
            <a:off x="500364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7"/>
          <a:stretch/>
        </p:blipFill>
        <p:spPr>
          <a:xfrm>
            <a:off x="788508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8"/>
          <a:stretch/>
        </p:blipFill>
        <p:spPr>
          <a:xfrm>
            <a:off x="1332000" y="1623960"/>
            <a:ext cx="2232000" cy="20844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9"/>
          <a:stretch/>
        </p:blipFill>
        <p:spPr>
          <a:xfrm>
            <a:off x="5162400" y="1677960"/>
            <a:ext cx="3009960" cy="20289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0"/>
          <a:stretch/>
        </p:blipFill>
        <p:spPr>
          <a:xfrm>
            <a:off x="1006560" y="3938760"/>
            <a:ext cx="2938320" cy="21873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1"/>
          <a:stretch/>
        </p:blipFill>
        <p:spPr>
          <a:xfrm>
            <a:off x="4965840" y="3938760"/>
            <a:ext cx="3402000" cy="21873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755640" y="1628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643280" y="17002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8360" y="3933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00720" y="400536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L’égl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L’hô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L’arrêt de 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L’hô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00120" y="417240"/>
            <a:ext cx="7944120" cy="857520"/>
          </a:xfrm>
          <a:prstGeom prst="rect">
            <a:avLst/>
          </a:prstGeom>
          <a:solidFill>
            <a:srgbClr val="bbe0e3"/>
          </a:solidFill>
          <a:ln w="50760">
            <a:solidFill>
              <a:srgbClr val="4d4d4d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826920" y="404640"/>
            <a:ext cx="416160" cy="863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2195640" y="404640"/>
            <a:ext cx="415800" cy="8636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3635280" y="404640"/>
            <a:ext cx="416160" cy="8636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5"/>
          <a:stretch/>
        </p:blipFill>
        <p:spPr>
          <a:xfrm>
            <a:off x="5076720" y="404640"/>
            <a:ext cx="416160" cy="8636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6"/>
          <a:stretch/>
        </p:blipFill>
        <p:spPr>
          <a:xfrm>
            <a:off x="6516720" y="404640"/>
            <a:ext cx="415800" cy="863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7"/>
          <a:stretch/>
        </p:blipFill>
        <p:spPr>
          <a:xfrm>
            <a:off x="8028000" y="404640"/>
            <a:ext cx="4158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4360" y="476280"/>
            <a:ext cx="7848360" cy="3600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63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808080"/>
                </a:solidFill>
                <a:latin typeface="Comic Sans MS"/>
              </a:rPr>
              <a:t>Un peu de grammai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419640" y="3933720"/>
            <a:ext cx="249552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042920" y="836640"/>
            <a:ext cx="6913800" cy="51134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507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63640" y="1700280"/>
            <a:ext cx="554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2360" y="184464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Comic Sans MS"/>
              </a:rPr>
              <a:t>To go t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637000"/>
            <a:ext cx="5472360" cy="37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4d4d4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4d4d4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Aller à+</a:t>
            </a:r>
            <a:r>
              <a:rPr b="1" lang="en-GB" sz="3200" spc="-1" strike="noStrike">
                <a:solidFill>
                  <a:srgbClr val="3366ff"/>
                </a:solidFill>
                <a:latin typeface="Comic Sans MS"/>
              </a:rPr>
              <a:t>le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4d4d4d"/>
                </a:solidFill>
                <a:latin typeface="Wingdings"/>
                <a:ea typeface="Wingdings"/>
              </a:rPr>
              <a:t>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 aller </a:t>
            </a:r>
            <a:r>
              <a:rPr b="1" lang="en-GB" sz="3200" spc="-1" strike="noStrike">
                <a:solidFill>
                  <a:srgbClr val="3366ff"/>
                </a:solidFill>
                <a:latin typeface="Comic Sans MS"/>
              </a:rPr>
              <a:t>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4d4d4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Aller à+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la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4d4d4d"/>
                </a:solidFill>
                <a:latin typeface="Wingdings"/>
                <a:ea typeface="Wingdings"/>
              </a:rPr>
              <a:t>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 aller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à 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4d4d4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Aller à+</a:t>
            </a:r>
            <a:r>
              <a:rPr b="1" lang="en-GB" sz="3200" spc="-1" strike="noStrike">
                <a:solidFill>
                  <a:srgbClr val="33cc33"/>
                </a:solidFill>
                <a:latin typeface="Comic Sans MS"/>
              </a:rPr>
              <a:t>l’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4d4d4d"/>
                </a:solidFill>
                <a:latin typeface="Wingdings"/>
                <a:ea typeface="Wingdings"/>
              </a:rPr>
              <a:t>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 aller </a:t>
            </a:r>
            <a:r>
              <a:rPr b="1" lang="en-GB" sz="3200" spc="-1" strike="noStrike">
                <a:solidFill>
                  <a:srgbClr val="33cc33"/>
                </a:solidFill>
                <a:latin typeface="Comic Sans MS"/>
              </a:rPr>
              <a:t>à l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3382920" cy="2951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219640" y="3951360"/>
            <a:ext cx="3598920" cy="2698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08360" y="1413000"/>
            <a:ext cx="33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La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 boulange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4000" y="544500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La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 pâtisse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042920" y="836640"/>
            <a:ext cx="6913800" cy="51134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507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763640" y="1700280"/>
            <a:ext cx="554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76720" y="184464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Comic Sans MS"/>
              </a:rPr>
              <a:t>To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76720" y="2492280"/>
            <a:ext cx="3816360" cy="31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ff"/>
                </a:solidFill>
                <a:latin typeface="Comic Sans MS"/>
              </a:rPr>
              <a:t>Je v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ff"/>
                </a:solidFill>
                <a:latin typeface="Comic Sans MS"/>
              </a:rPr>
              <a:t>Tu 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ff"/>
                </a:solidFill>
                <a:latin typeface="Comic Sans MS"/>
              </a:rPr>
              <a:t>Il / Elle 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ff"/>
                </a:solidFill>
                <a:latin typeface="Comic Sans MS"/>
              </a:rPr>
              <a:t>Nous all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ff"/>
                </a:solidFill>
                <a:latin typeface="Comic Sans MS"/>
              </a:rPr>
              <a:t>Vous all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ff"/>
                </a:solidFill>
                <a:latin typeface="Comic Sans MS"/>
              </a:rPr>
              <a:t>Ils / Elles v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2678400" cy="28814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4788000" y="476280"/>
            <a:ext cx="3887640" cy="251604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468360" y="3933720"/>
            <a:ext cx="3889440" cy="25020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5292720" y="3645000"/>
            <a:ext cx="2814480" cy="28810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0" y="333360"/>
            <a:ext cx="4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211640" y="476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393372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71636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476360" y="2852640"/>
            <a:ext cx="6264360" cy="36273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1547640" y="1052640"/>
            <a:ext cx="5524560" cy="1685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50760">
                  <a:solidFill>
                    <a:srgbClr val="4d4d4d"/>
                  </a:solidFill>
                  <a:miter/>
                </a:ln>
                <a:solidFill>
                  <a:srgbClr val="333399"/>
                </a:solidFill>
                <a:latin typeface="Comic Sans MS"/>
              </a:rPr>
              <a:t>c'est fini!</a:t>
            </a:r>
            <a:endParaRPr b="1" lang="en-US" sz="9600" spc="1" strike="noStrike">
              <a:ln w="50760">
                <a:solidFill>
                  <a:srgbClr val="4d4d4d"/>
                </a:solidFill>
                <a:miter/>
              </a:ln>
              <a:solidFill>
                <a:srgbClr val="333399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00720" y="260280"/>
            <a:ext cx="4319280" cy="2919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324000" y="321300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692360" y="981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La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 bouche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24360" y="465300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La</a:t>
            </a:r>
            <a:r>
              <a:rPr b="1" lang="en-US" sz="3200" spc="-1" strike="noStrike">
                <a:solidFill>
                  <a:srgbClr val="4d4d4d"/>
                </a:solidFill>
                <a:latin typeface="Comic Sans MS"/>
              </a:rPr>
              <a:t> charcute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3284640"/>
            <a:ext cx="4268880" cy="3233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332000" y="544500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La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 pharma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13000" cy="4608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132000" y="112536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La 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confise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79280" y="3429000"/>
            <a:ext cx="3810240" cy="3174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227640" y="404640"/>
            <a:ext cx="2732040" cy="4113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284720" y="14842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La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 po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51280" y="551664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La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 ban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3624120" cy="2717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716360" y="3933720"/>
            <a:ext cx="4043520" cy="2703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140360" y="155736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La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 g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16000" y="49417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La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 bibliothè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0920" y="3141720"/>
            <a:ext cx="2792160" cy="3454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059280" y="5013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La</a:t>
            </a:r>
            <a:r>
              <a:rPr b="1" lang="en-US" sz="3200" spc="-1" strike="noStrike">
                <a:solidFill>
                  <a:srgbClr val="4d4d4d"/>
                </a:solidFill>
                <a:latin typeface="Comic Sans MS"/>
              </a:rPr>
              <a:t> pis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003640" y="333360"/>
            <a:ext cx="3961080" cy="2903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916360" y="1268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La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 mai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2867040" cy="2933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572000" y="3855960"/>
            <a:ext cx="3951360" cy="2557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348000" y="170028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ff"/>
                </a:solidFill>
                <a:latin typeface="Comic Sans MS"/>
              </a:rPr>
              <a:t>Le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 jardin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11280" y="4869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ff"/>
                </a:solidFill>
                <a:latin typeface="Comic Sans MS"/>
              </a:rPr>
              <a:t>Le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 st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01:15:54Z</dcterms:created>
  <dc:creator>Amelie Azeem-Rault</dc:creator>
  <dc:description/>
  <dc:language>en-US</dc:language>
  <cp:lastModifiedBy>PSeccombe</cp:lastModifiedBy>
  <dcterms:modified xsi:type="dcterms:W3CDTF">2005-08-03T21:13:55Z</dcterms:modified>
  <cp:revision>254</cp:revision>
  <dc:subject/>
  <dc:title>Slide 1</dc:title>
</cp:coreProperties>
</file>