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4.gif" ContentType="image/gif"/>
  <Override PartName="/ppt/media/image5.gif" ContentType="image/gif"/>
  <Override PartName="/ppt/media/image8.wmf" ContentType="image/x-wm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DDA-F746-443E-92F0-0A8E05C2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B0E6-E256-455B-A6B6-20CF7DD2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07F-500B-46FC-BAF0-5CA502B0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A80-1868-4CDE-BCD8-74628E6C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C73-D4D7-4A82-BC4B-17720540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19D6-3E03-44D1-9EA0-48EBAB49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C60-C0A1-4A84-B49A-40AB791A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2D5-9319-48EA-89CE-BB16C883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A1E-3942-4C56-8D57-25BB0B76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87A-0C9F-4CDE-B4A4-BF488D49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7578-D649-4EFD-85F3-535A739D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1DB-CF5D-4FE8-90EC-D3BBE72E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0A9B-D330-4380-8417-30B611737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333360"/>
            <a:ext cx="6616800" cy="29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Dans la classe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422100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Choisissez 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a</a:t>
            </a: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, 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b</a:t>
            </a: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 ou 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00720" y="6381720"/>
            <a:ext cx="28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©MFL Sunderland 2005 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taille-cra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cra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ux cray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92360" y="907920"/>
            <a:ext cx="180972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flipH="1">
            <a:off x="3492000" y="1916280"/>
            <a:ext cx="1809720" cy="7617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g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gri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g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43280" y="1197000"/>
            <a:ext cx="3457440" cy="1944720"/>
          </a:xfrm>
          <a:custGeom>
            <a:avLst/>
            <a:gdLst>
              <a:gd name="textAreaLeft" fmla="*/ 0 w 3457440"/>
              <a:gd name="textAreaRight" fmla="*/ 3457800 w 3457440"/>
              <a:gd name="textAreaTop" fmla="*/ 252000 h 1944720"/>
              <a:gd name="textAreaBottom" fmla="*/ 16927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a9b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quatre com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quatre comp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nq comp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825480" cy="1511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24360" y="1268280"/>
            <a:ext cx="825480" cy="1511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825480" cy="1511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012000" y="1268280"/>
            <a:ext cx="825480" cy="15112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s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n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360" y="907920"/>
            <a:ext cx="1673280" cy="1873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ogn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false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d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484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Arial Rounded MT Bold"/>
              </a:rPr>
              <a:t>Six crayons</a:t>
            </a:r>
            <a:r>
              <a:rPr b="0" lang="en-GB" sz="7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, jaune, no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, blanc,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, blanc, 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2544840" cy="19987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68360" y="2060640"/>
            <a:ext cx="8424720" cy="26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'est fini !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spd="med" advTm="9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404640"/>
            <a:ext cx="3673440" cy="2881440"/>
          </a:xfrm>
          <a:prstGeom prst="irregularSeal1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7336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un sty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un rè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une rè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2736720" cy="26942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ro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692280"/>
            <a:ext cx="2879640" cy="2449440"/>
          </a:xfrm>
          <a:custGeom>
            <a:avLst/>
            <a:gdLst>
              <a:gd name="textAreaLeft" fmla="*/ 657360 w 2879640"/>
              <a:gd name="textAreaRight" fmla="*/ 2222280 w 2879640"/>
              <a:gd name="textAreaTop" fmla="*/ 559080 h 2449440"/>
              <a:gd name="textAreaBottom" fmla="*/ 189036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neu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nu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ne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620640"/>
            <a:ext cx="302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00"/>
                </a:solidFill>
                <a:latin typeface="Impact"/>
              </a:rPr>
              <a:t>9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rios cise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rois cise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rois ciseaux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1081080" cy="1063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067280" y="1197000"/>
            <a:ext cx="1081080" cy="106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6720" y="1197000"/>
            <a:ext cx="1081080" cy="1063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vio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1484280"/>
            <a:ext cx="1440000" cy="12240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1484280"/>
            <a:ext cx="1440000" cy="1224000"/>
          </a:xfrm>
          <a:prstGeom prst="star5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1773360"/>
            <a:ext cx="647640" cy="649080"/>
          </a:xfrm>
          <a:prstGeom prst="plus">
            <a:avLst>
              <a:gd name="adj" fmla="val 433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calculet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calculet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calculet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765000"/>
            <a:ext cx="2447640" cy="2448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i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u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04640"/>
            <a:ext cx="3024000" cy="2531880"/>
          </a:xfrm>
          <a:prstGeom prst="rect">
            <a:avLst/>
          </a:prstGeom>
          <a:solidFill>
            <a:srgbClr val="c4c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0" spc="-1" strike="noStrike">
                <a:solidFill>
                  <a:srgbClr val="000000"/>
                </a:solidFill>
                <a:latin typeface="Impact"/>
              </a:rPr>
              <a:t>8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9:34:31Z</dcterms:created>
  <dc:creator>CSeccombe</dc:creator>
  <dc:description/>
  <dc:language>en-US</dc:language>
  <cp:lastModifiedBy>CSeccombe</cp:lastModifiedBy>
  <dcterms:modified xsi:type="dcterms:W3CDTF">2005-10-30T21:27:43Z</dcterms:modified>
  <cp:revision>14</cp:revision>
  <dc:subject/>
  <dc:title>Slide 1</dc:title>
</cp:coreProperties>
</file>