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14B-6AEF-4467-82D7-FA070CC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392-74B0-432A-9514-2408A42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0B1-22C8-4A88-AB24-C7ADB9B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91E-2105-4FF5-8AB5-67E9F351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13B-E398-4A63-A920-8D4EE54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8EF-425D-4586-84C6-AD3A8F8E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C65-92E7-41C6-93E8-202189E0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639-25F8-4C65-A4A3-DA2EB8E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4F7-4A66-4E6F-A2B9-1229B47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AA2-6F17-4D94-BFA2-9EFBA39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C0B-1006-4BA5-A6A2-A6A7CA7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CC2-B5CA-425D-8B17-76D5C3E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23D3-817D-467D-A88D-4B4AB732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Dans la class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4076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LES RÉPO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52640" y="6613560"/>
            <a:ext cx="175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aille-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cray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80972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>
            <a:off x="3492000" y="1916280"/>
            <a:ext cx="1809720" cy="76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197000"/>
            <a:ext cx="3457440" cy="1944720"/>
          </a:xfrm>
          <a:custGeom>
            <a:avLst/>
            <a:gdLst>
              <a:gd name="textAreaLeft" fmla="*/ 0 w 3457440"/>
              <a:gd name="textAreaRight" fmla="*/ 3457800 w 345744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a9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40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 com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825480" cy="151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393372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673280" cy="187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964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ogn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lse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48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Rounded MT Bold"/>
              </a:rPr>
              <a:t>Six crayons</a:t>
            </a:r>
            <a:r>
              <a:rPr b="0" lang="en-GB" sz="7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jaune, n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544840" cy="19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404640"/>
            <a:ext cx="3673440" cy="28814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sty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e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736720" cy="269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92280"/>
            <a:ext cx="2879640" cy="24494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559080 h 2449440"/>
              <a:gd name="textAreaBottom" fmla="*/ 189036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400536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u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620640"/>
            <a:ext cx="302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00"/>
                </a:solidFill>
                <a:latin typeface="Impact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93372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io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1640" y="486900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o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1484280"/>
            <a:ext cx="1440000" cy="1224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1484280"/>
            <a:ext cx="1440000" cy="1224000"/>
          </a:xfrm>
          <a:prstGeom prst="star5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1773360"/>
            <a:ext cx="647640" cy="649080"/>
          </a:xfrm>
          <a:prstGeom prst="plus">
            <a:avLst>
              <a:gd name="adj" fmla="val 433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486900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04640"/>
            <a:ext cx="3024000" cy="2531880"/>
          </a:xfrm>
          <a:prstGeom prst="rect">
            <a:avLst/>
          </a:prstGeom>
          <a:solidFill>
            <a:srgbClr val="c4c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0" spc="-1" strike="noStrike">
                <a:solidFill>
                  <a:srgbClr val="000000"/>
                </a:solidFill>
                <a:latin typeface="Impact"/>
              </a:rPr>
              <a:t>8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10-30T21:28:09Z</dcterms:modified>
  <cp:revision>16</cp:revision>
  <dc:subject/>
  <dc:title>Slide 1</dc:title>
</cp:coreProperties>
</file>