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3.gif" ContentType="image/gif"/>
  <Override PartName="/ppt/media/image4.gif" ContentType="image/gif"/>
  <Override PartName="/ppt/media/image7.wmf" ContentType="image/x-wm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F168-2694-49FC-A7CE-2D96DB268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05AE-08C9-4A31-854C-52A051FF8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B7C2-5C8F-4E2C-B7F1-2B0C88E73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F2F5-AA0C-4638-A714-836C22AB6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20C3-EF85-4D53-B979-BDB1D2FE9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215B-E198-46E0-8DA0-486BA49D2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EF7B-456D-46F2-933A-7CF646906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4287-0870-4AF9-BBB8-939701F67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B656-0B47-44AB-ADB1-61D4B9655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08E9-4011-4F06-B618-6FA20188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2D7F-81A2-4C8F-B09B-AC9FB845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2CAE-2FD0-4066-9583-D8C5E14C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6FE11-6790-4168-9D96-D9BCE3038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58920" y="333360"/>
            <a:ext cx="6616800" cy="297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Impact"/>
              </a:rPr>
              <a:t>Dans la classe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00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1332000" y="4076640"/>
            <a:ext cx="64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LES RÉPONS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352640" y="6613560"/>
            <a:ext cx="175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Rounded MT Bold"/>
              </a:rPr>
              <a:t>©MFL Sunderland 2005 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un taille-cray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des cray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deux cray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492360" y="907920"/>
            <a:ext cx="1809720" cy="762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 flipH="1">
            <a:off x="3492000" y="1916280"/>
            <a:ext cx="1809720" cy="7617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116000" y="5805360"/>
            <a:ext cx="1297080" cy="0"/>
          </a:xfrm>
          <a:prstGeom prst="line">
            <a:avLst/>
          </a:prstGeom>
          <a:ln w="114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gr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gri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g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43280" y="1197000"/>
            <a:ext cx="3457440" cy="1944720"/>
          </a:xfrm>
          <a:custGeom>
            <a:avLst/>
            <a:gdLst>
              <a:gd name="textAreaLeft" fmla="*/ 0 w 3457440"/>
              <a:gd name="textAreaRight" fmla="*/ 3457800 w 3457440"/>
              <a:gd name="textAreaTop" fmla="*/ 252000 h 1944720"/>
              <a:gd name="textAreaBottom" fmla="*/ 169272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9a9b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79640" y="4005360"/>
            <a:ext cx="1297080" cy="0"/>
          </a:xfrm>
          <a:prstGeom prst="line">
            <a:avLst/>
          </a:prstGeom>
          <a:ln w="114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9280" y="3573360"/>
            <a:ext cx="8964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quatre comp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quatre comp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cinq compa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843280" y="1268280"/>
            <a:ext cx="825480" cy="1511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924360" y="1268280"/>
            <a:ext cx="825480" cy="1511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932360" y="1268280"/>
            <a:ext cx="825480" cy="15112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6012000" y="1268280"/>
            <a:ext cx="825480" cy="1511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755640" y="3933720"/>
            <a:ext cx="1297080" cy="0"/>
          </a:xfrm>
          <a:prstGeom prst="line">
            <a:avLst/>
          </a:prstGeom>
          <a:ln w="114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san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c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cinq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492360" y="907920"/>
            <a:ext cx="1673280" cy="1873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79640" y="5805360"/>
            <a:ext cx="1297080" cy="0"/>
          </a:xfrm>
          <a:prstGeom prst="line">
            <a:avLst/>
          </a:prstGeom>
          <a:ln w="114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cognat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false frie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adj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835280" y="148428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00"/>
                </a:solidFill>
                <a:latin typeface="Arial Rounded MT Bold"/>
              </a:rPr>
              <a:t>Six crayons</a:t>
            </a:r>
            <a:r>
              <a:rPr b="0" lang="en-GB" sz="7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87280" y="4869000"/>
            <a:ext cx="1297080" cy="0"/>
          </a:xfrm>
          <a:prstGeom prst="line">
            <a:avLst/>
          </a:prstGeom>
          <a:ln w="114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1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bleu, jaune, no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bleu, blanc, r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bleu, blanc, 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203640" y="836640"/>
            <a:ext cx="2544840" cy="1998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68360" y="5805360"/>
            <a:ext cx="1297080" cy="0"/>
          </a:xfrm>
          <a:prstGeom prst="line">
            <a:avLst/>
          </a:prstGeom>
          <a:ln w="114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68360" y="2060640"/>
            <a:ext cx="8424720" cy="263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C'est fini !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bl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ble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916360" y="404640"/>
            <a:ext cx="3673440" cy="2881440"/>
          </a:xfrm>
          <a:prstGeom prst="irregularSeal1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869000"/>
            <a:ext cx="1297080" cy="0"/>
          </a:xfrm>
          <a:prstGeom prst="line">
            <a:avLst/>
          </a:prstGeom>
          <a:ln w="114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573360"/>
            <a:ext cx="9144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3600" spc="-1" strike="noStrike">
                <a:solidFill>
                  <a:srgbClr val="ffffff"/>
                </a:solidFill>
                <a:latin typeface="Arial Rounded MT Bold"/>
              </a:rPr>
              <a:t>un sty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3600" spc="-1" strike="noStrike">
                <a:solidFill>
                  <a:srgbClr val="ffffff"/>
                </a:solidFill>
                <a:latin typeface="Arial Rounded MT Bold"/>
              </a:rPr>
              <a:t>un rè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3600" spc="-1" strike="noStrike">
                <a:solidFill>
                  <a:srgbClr val="ffffff"/>
                </a:solidFill>
                <a:latin typeface="Arial Rounded MT Bold"/>
              </a:rPr>
              <a:t>une rè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59280" y="620640"/>
            <a:ext cx="2736720" cy="2694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476360" y="5805360"/>
            <a:ext cx="1297080" cy="0"/>
          </a:xfrm>
          <a:prstGeom prst="line">
            <a:avLst/>
          </a:prstGeom>
          <a:ln w="114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9280" y="3573360"/>
            <a:ext cx="8964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r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rou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692280"/>
            <a:ext cx="2879640" cy="2449440"/>
          </a:xfrm>
          <a:custGeom>
            <a:avLst/>
            <a:gdLst>
              <a:gd name="textAreaLeft" fmla="*/ 657360 w 2879640"/>
              <a:gd name="textAreaRight" fmla="*/ 2222280 w 2879640"/>
              <a:gd name="textAreaTop" fmla="*/ 559080 h 2449440"/>
              <a:gd name="textAreaBottom" fmla="*/ 1890360 h 2449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35280" y="4005360"/>
            <a:ext cx="1296720" cy="0"/>
          </a:xfrm>
          <a:prstGeom prst="line">
            <a:avLst/>
          </a:prstGeom>
          <a:ln w="114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neu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nue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ner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03640" y="620640"/>
            <a:ext cx="3024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ffff00"/>
                </a:solidFill>
                <a:latin typeface="Impact"/>
              </a:rPr>
              <a:t>9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24000" y="3933720"/>
            <a:ext cx="1297080" cy="0"/>
          </a:xfrm>
          <a:prstGeom prst="line">
            <a:avLst/>
          </a:prstGeom>
          <a:ln w="114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trios ciseau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trois ciseau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trois ciseaux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059280" y="1197000"/>
            <a:ext cx="1081080" cy="1063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067280" y="1197000"/>
            <a:ext cx="1081080" cy="10634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076720" y="1197000"/>
            <a:ext cx="1081080" cy="1063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71640" y="4869000"/>
            <a:ext cx="1296720" cy="0"/>
          </a:xfrm>
          <a:prstGeom prst="line">
            <a:avLst/>
          </a:prstGeom>
          <a:ln w="114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or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marr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viol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11280" y="1484280"/>
            <a:ext cx="1440000" cy="12240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76720" y="1484280"/>
            <a:ext cx="1440000" cy="1224000"/>
          </a:xfrm>
          <a:prstGeom prst="star5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211640" y="1773360"/>
            <a:ext cx="647640" cy="649080"/>
          </a:xfrm>
          <a:prstGeom prst="plus">
            <a:avLst>
              <a:gd name="adj" fmla="val 4338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63640" y="4869000"/>
            <a:ext cx="1297080" cy="0"/>
          </a:xfrm>
          <a:prstGeom prst="line">
            <a:avLst/>
          </a:prstGeom>
          <a:ln w="114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un calculet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une calculet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des calculet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276720" y="765000"/>
            <a:ext cx="2447640" cy="244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971640" y="4869000"/>
            <a:ext cx="1296720" cy="0"/>
          </a:xfrm>
          <a:prstGeom prst="line">
            <a:avLst/>
          </a:prstGeom>
          <a:ln w="114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h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hi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hu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404640"/>
            <a:ext cx="3024000" cy="2531880"/>
          </a:xfrm>
          <a:prstGeom prst="rect">
            <a:avLst/>
          </a:prstGeom>
          <a:solidFill>
            <a:srgbClr val="c4c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0" spc="-1" strike="noStrike">
                <a:solidFill>
                  <a:srgbClr val="000000"/>
                </a:solidFill>
                <a:latin typeface="Impact"/>
              </a:rPr>
              <a:t>8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050920" y="5805360"/>
            <a:ext cx="1297080" cy="0"/>
          </a:xfrm>
          <a:prstGeom prst="line">
            <a:avLst/>
          </a:prstGeom>
          <a:ln w="114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09:34:31Z</dcterms:created>
  <dc:creator>CSeccombe</dc:creator>
  <dc:description/>
  <dc:language>en-US</dc:language>
  <cp:lastModifiedBy>CSeccombe</cp:lastModifiedBy>
  <dcterms:modified xsi:type="dcterms:W3CDTF">2005-10-30T21:28:09Z</dcterms:modified>
  <cp:revision>16</cp:revision>
  <dc:subject/>
  <dc:title>Slide 1</dc:title>
</cp:coreProperties>
</file>