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C41-8BAB-4125-9E33-15E56CBE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811-B30B-4EFE-A425-C90E16D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DDC-E3DA-4B89-A468-4326658A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1F5-B98F-41D0-A0AC-6D3A452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14E-9A19-4BD4-AE43-9D71689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6A8-F520-4EF9-BF47-B1376C2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3DA-3E02-4C95-BEBA-718220A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E8C-3C2C-4F27-85C2-715A809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4A3-528F-4E4D-977C-87C7CC2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EBA-FB77-4943-AAE0-1787CAE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0BF-68EE-4D27-8C00-C1D0A3C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AF3-FA2F-418A-91AF-84E37FC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7AE8-54A5-4E2A-9338-8573BF316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99280" y="66135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10800000">
            <a:off x="3852720" y="3068640"/>
            <a:ext cx="1440000" cy="936720"/>
          </a:xfrm>
          <a:prstGeom prst="borderCallout1">
            <a:avLst>
              <a:gd name="adj1" fmla="val 18750"/>
              <a:gd name="adj2" fmla="val -8333"/>
              <a:gd name="adj3" fmla="val 132032"/>
              <a:gd name="adj4" fmla="val 24464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4136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livres vio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10800000">
            <a:off x="5294160" y="2997000"/>
            <a:ext cx="935280" cy="936360"/>
          </a:xfrm>
          <a:prstGeom prst="borderCallout1">
            <a:avLst>
              <a:gd name="adj1" fmla="val 18750"/>
              <a:gd name="adj2" fmla="val -8333"/>
              <a:gd name="adj3" fmla="val 138981"/>
              <a:gd name="adj4" fmla="val -14143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119700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aille-crayon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63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60680" y="3933720"/>
            <a:ext cx="914400" cy="1008000"/>
          </a:xfrm>
          <a:prstGeom prst="borderCallout1">
            <a:avLst>
              <a:gd name="adj1" fmla="val 18750"/>
              <a:gd name="adj2" fmla="val -8333"/>
              <a:gd name="adj3" fmla="val 7087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3700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calculett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4941720"/>
            <a:ext cx="914400" cy="1224000"/>
          </a:xfrm>
          <a:prstGeom prst="borderCallout1">
            <a:avLst>
              <a:gd name="adj1" fmla="val 18750"/>
              <a:gd name="adj2" fmla="val -8333"/>
              <a:gd name="adj3" fmla="val 23476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149720"/>
            <a:ext cx="19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glace v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0800000">
            <a:off x="5435280" y="4870440"/>
            <a:ext cx="1368360" cy="1006560"/>
          </a:xfrm>
          <a:prstGeom prst="borderCallout1">
            <a:avLst>
              <a:gd name="adj1" fmla="val 18750"/>
              <a:gd name="adj2" fmla="val -8333"/>
              <a:gd name="adj3" fmla="val 92111"/>
              <a:gd name="adj4" fmla="val -11856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86064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 crayo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0800000">
            <a:off x="3133800" y="5373720"/>
            <a:ext cx="1944720" cy="1006560"/>
          </a:xfrm>
          <a:prstGeom prst="borderCallout1">
            <a:avLst>
              <a:gd name="adj1" fmla="val 18750"/>
              <a:gd name="adj2" fmla="val -8333"/>
              <a:gd name="adj3" fmla="val 250157"/>
              <a:gd name="adj4" fmla="val 24350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421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gommes vio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3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0800000">
            <a:off x="3492000" y="4149720"/>
            <a:ext cx="1149480" cy="1440000"/>
          </a:xfrm>
          <a:prstGeom prst="borderCallout1">
            <a:avLst>
              <a:gd name="adj1" fmla="val 18750"/>
              <a:gd name="adj2" fmla="val -8333"/>
              <a:gd name="adj3" fmla="val 199666"/>
              <a:gd name="adj4" fmla="val 37375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413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voitures ro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4571640" y="3935160"/>
            <a:ext cx="1149480" cy="1655640"/>
          </a:xfrm>
          <a:prstGeom prst="borderCallout1">
            <a:avLst>
              <a:gd name="adj1" fmla="val 18750"/>
              <a:gd name="adj2" fmla="val -8333"/>
              <a:gd name="adj3" fmla="val 133745"/>
              <a:gd name="adj4" fmla="val -16919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1916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stylos 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0800000">
            <a:off x="5652720" y="4076640"/>
            <a:ext cx="865080" cy="936720"/>
          </a:xfrm>
          <a:prstGeom prst="borderCallout1">
            <a:avLst>
              <a:gd name="adj1" fmla="val 18750"/>
              <a:gd name="adj2" fmla="val -8333"/>
              <a:gd name="adj3" fmla="val 182541"/>
              <a:gd name="adj4" fmla="val -13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2205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ballon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0800000">
            <a:off x="2701440" y="2997000"/>
            <a:ext cx="1150920" cy="936360"/>
          </a:xfrm>
          <a:prstGeom prst="borderCallout1">
            <a:avLst>
              <a:gd name="adj1" fmla="val 18750"/>
              <a:gd name="adj2" fmla="val -8333"/>
              <a:gd name="adj3" fmla="val 133217"/>
              <a:gd name="adj4" fmla="val 212962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68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feutres 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01:02Z</dcterms:created>
  <dc:creator>P.Seccombe</dc:creator>
  <dc:description/>
  <dc:language>en-US</dc:language>
  <cp:lastModifiedBy>CSeccombe</cp:lastModifiedBy>
  <dcterms:modified xsi:type="dcterms:W3CDTF">2005-10-31T09:58:37Z</dcterms:modified>
  <cp:revision>19</cp:revision>
  <dc:subject/>
  <dc:title>Slide 1</dc:title>
</cp:coreProperties>
</file>