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4E68-0E1E-494E-8D51-2201C366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32BF-71A5-4965-B786-59C826AA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B8A0-2D3F-4576-A5DB-B39477FF4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B8D3-E4A9-46B6-AB78-3C95CF0FD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3764-02E4-4A64-975C-28F3A231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3EFF-BAB3-4D94-8462-CA687E41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018D-D7DF-424F-8917-93C9A266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FC71-4FAE-4D02-B5D7-A8816454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7423-D92F-4E6D-913C-F83C2A39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3B9E-E3AE-4B19-8738-AE420346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0AFB-9B74-4FE2-9340-170F79DB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D461-8A62-429D-BB7F-04C2A486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8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A53F-B680-4EB7-A887-C1B06C36A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8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5616360" cy="5513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508720" y="4941720"/>
            <a:ext cx="1225440" cy="944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627280" y="4076640"/>
            <a:ext cx="747720" cy="792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340000" y="5013360"/>
            <a:ext cx="615960" cy="1152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132000" y="5734080"/>
            <a:ext cx="900360" cy="368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4067280" y="5734080"/>
            <a:ext cx="900000" cy="368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3635280" y="4221000"/>
            <a:ext cx="792360" cy="563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3635280" y="4881600"/>
            <a:ext cx="865440" cy="615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4716360" y="4076640"/>
            <a:ext cx="397080" cy="1473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5219640" y="3933720"/>
            <a:ext cx="397080" cy="1473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5724360" y="4292640"/>
            <a:ext cx="720720" cy="633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2843280" y="321300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2771640" y="350028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3924360" y="3213000"/>
            <a:ext cx="1295280" cy="704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5435640" y="3213000"/>
            <a:ext cx="720720" cy="577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87280" y="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Verdana"/>
              </a:rPr>
              <a:t>Dans mon sac, j’ai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99280" y="6613560"/>
            <a:ext cx="19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 2005 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8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5616360" cy="55134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5508720" y="4941720"/>
            <a:ext cx="1225440" cy="944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2627280" y="4076640"/>
            <a:ext cx="747720" cy="792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2340000" y="5013360"/>
            <a:ext cx="615960" cy="1152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3132000" y="5734080"/>
            <a:ext cx="900360" cy="3682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4067280" y="5734080"/>
            <a:ext cx="900000" cy="3682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635280" y="4221000"/>
            <a:ext cx="792360" cy="5637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8"/>
          <a:stretch/>
        </p:blipFill>
        <p:spPr>
          <a:xfrm>
            <a:off x="3635280" y="4881600"/>
            <a:ext cx="865440" cy="6159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9"/>
          <a:stretch/>
        </p:blipFill>
        <p:spPr>
          <a:xfrm>
            <a:off x="4716360" y="4076640"/>
            <a:ext cx="397080" cy="14731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0"/>
          <a:stretch/>
        </p:blipFill>
        <p:spPr>
          <a:xfrm>
            <a:off x="5219640" y="3933720"/>
            <a:ext cx="397080" cy="14734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1"/>
          <a:stretch/>
        </p:blipFill>
        <p:spPr>
          <a:xfrm>
            <a:off x="5724360" y="4292640"/>
            <a:ext cx="720720" cy="6332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2"/>
          <a:stretch/>
        </p:blipFill>
        <p:spPr>
          <a:xfrm>
            <a:off x="2843280" y="321300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3"/>
          <a:stretch/>
        </p:blipFill>
        <p:spPr>
          <a:xfrm>
            <a:off x="2771640" y="350028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4"/>
          <a:stretch/>
        </p:blipFill>
        <p:spPr>
          <a:xfrm>
            <a:off x="3924360" y="3213000"/>
            <a:ext cx="1295280" cy="7048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5"/>
          <a:stretch/>
        </p:blipFill>
        <p:spPr>
          <a:xfrm>
            <a:off x="5435640" y="3213000"/>
            <a:ext cx="720720" cy="5778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 rot="10800000">
            <a:off x="3852720" y="3068640"/>
            <a:ext cx="1440000" cy="936720"/>
          </a:xfrm>
          <a:prstGeom prst="borderCallout1">
            <a:avLst>
              <a:gd name="adj1" fmla="val 18750"/>
              <a:gd name="adj2" fmla="val -8333"/>
              <a:gd name="adj3" fmla="val 132032"/>
              <a:gd name="adj4" fmla="val 244648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341360"/>
            <a:ext cx="190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ux livres vio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9280" y="6308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.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87280" y="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Verdana"/>
              </a:rPr>
              <a:t>Dans mon sac, j’ai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8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5616360" cy="55134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508720" y="4941720"/>
            <a:ext cx="1225440" cy="944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2627280" y="4076640"/>
            <a:ext cx="747720" cy="792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2340000" y="5013360"/>
            <a:ext cx="615960" cy="11523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3132000" y="5734080"/>
            <a:ext cx="900360" cy="368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4067280" y="5734080"/>
            <a:ext cx="900000" cy="368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7"/>
          <a:stretch/>
        </p:blipFill>
        <p:spPr>
          <a:xfrm>
            <a:off x="3635280" y="4221000"/>
            <a:ext cx="792360" cy="5637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8"/>
          <a:stretch/>
        </p:blipFill>
        <p:spPr>
          <a:xfrm>
            <a:off x="3635280" y="4881600"/>
            <a:ext cx="865440" cy="6159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9"/>
          <a:stretch/>
        </p:blipFill>
        <p:spPr>
          <a:xfrm>
            <a:off x="4716360" y="4076640"/>
            <a:ext cx="397080" cy="14731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0"/>
          <a:stretch/>
        </p:blipFill>
        <p:spPr>
          <a:xfrm>
            <a:off x="5219640" y="3933720"/>
            <a:ext cx="397080" cy="14734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1"/>
          <a:stretch/>
        </p:blipFill>
        <p:spPr>
          <a:xfrm>
            <a:off x="5724360" y="4292640"/>
            <a:ext cx="720720" cy="6332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2"/>
          <a:stretch/>
        </p:blipFill>
        <p:spPr>
          <a:xfrm>
            <a:off x="2843280" y="321300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3"/>
          <a:stretch/>
        </p:blipFill>
        <p:spPr>
          <a:xfrm>
            <a:off x="2771640" y="350028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4"/>
          <a:stretch/>
        </p:blipFill>
        <p:spPr>
          <a:xfrm>
            <a:off x="3924360" y="3213000"/>
            <a:ext cx="1295280" cy="7048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5"/>
          <a:stretch/>
        </p:blipFill>
        <p:spPr>
          <a:xfrm>
            <a:off x="5435640" y="3213000"/>
            <a:ext cx="720720" cy="577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 rot="10800000">
            <a:off x="5294160" y="2997000"/>
            <a:ext cx="935280" cy="936360"/>
          </a:xfrm>
          <a:prstGeom prst="borderCallout1">
            <a:avLst>
              <a:gd name="adj1" fmla="val 18750"/>
              <a:gd name="adj2" fmla="val -8333"/>
              <a:gd name="adj3" fmla="val 138981"/>
              <a:gd name="adj4" fmla="val -141430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43640" y="1197000"/>
            <a:ext cx="252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aille-crayon ro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79280" y="6308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.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87280" y="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Verdana"/>
              </a:rPr>
              <a:t>Dans mon sac, j’ai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8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5616360" cy="5513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508720" y="4941720"/>
            <a:ext cx="1225440" cy="944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627280" y="4076640"/>
            <a:ext cx="747720" cy="792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340000" y="5013360"/>
            <a:ext cx="615960" cy="1152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3132000" y="5734080"/>
            <a:ext cx="900360" cy="368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4067280" y="5734080"/>
            <a:ext cx="900000" cy="368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3635280" y="4221000"/>
            <a:ext cx="792360" cy="563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3635280" y="4881600"/>
            <a:ext cx="865440" cy="615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4716360" y="4076640"/>
            <a:ext cx="397080" cy="1473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5219640" y="3933720"/>
            <a:ext cx="397080" cy="1473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5724360" y="4292640"/>
            <a:ext cx="720720" cy="633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2"/>
          <a:stretch/>
        </p:blipFill>
        <p:spPr>
          <a:xfrm>
            <a:off x="2843280" y="321300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3"/>
          <a:stretch/>
        </p:blipFill>
        <p:spPr>
          <a:xfrm>
            <a:off x="2771640" y="350028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4"/>
          <a:stretch/>
        </p:blipFill>
        <p:spPr>
          <a:xfrm>
            <a:off x="3924360" y="3213000"/>
            <a:ext cx="1295280" cy="704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5"/>
          <a:stretch/>
        </p:blipFill>
        <p:spPr>
          <a:xfrm>
            <a:off x="5435640" y="3213000"/>
            <a:ext cx="720720" cy="577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60680" y="3933720"/>
            <a:ext cx="914400" cy="1008000"/>
          </a:xfrm>
          <a:prstGeom prst="borderCallout1">
            <a:avLst>
              <a:gd name="adj1" fmla="val 18750"/>
              <a:gd name="adj2" fmla="val -8333"/>
              <a:gd name="adj3" fmla="val 7087"/>
              <a:gd name="adj4" fmla="val -213194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637000"/>
            <a:ext cx="190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e calculette bl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6308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.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87280" y="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Verdana"/>
              </a:rPr>
              <a:t>Dans mon sac, j’ai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8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5616360" cy="5513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508720" y="4941720"/>
            <a:ext cx="1225440" cy="944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627280" y="4076640"/>
            <a:ext cx="747720" cy="792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2340000" y="5013360"/>
            <a:ext cx="615960" cy="1152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3132000" y="5734080"/>
            <a:ext cx="900360" cy="368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4067280" y="5734080"/>
            <a:ext cx="900000" cy="368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3635280" y="4221000"/>
            <a:ext cx="792360" cy="563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8"/>
          <a:stretch/>
        </p:blipFill>
        <p:spPr>
          <a:xfrm>
            <a:off x="3635280" y="4881600"/>
            <a:ext cx="865440" cy="615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9"/>
          <a:stretch/>
        </p:blipFill>
        <p:spPr>
          <a:xfrm>
            <a:off x="4716360" y="4076640"/>
            <a:ext cx="397080" cy="1473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0"/>
          <a:stretch/>
        </p:blipFill>
        <p:spPr>
          <a:xfrm>
            <a:off x="5219640" y="3933720"/>
            <a:ext cx="397080" cy="1473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1"/>
          <a:stretch/>
        </p:blipFill>
        <p:spPr>
          <a:xfrm>
            <a:off x="5724360" y="4292640"/>
            <a:ext cx="720720" cy="633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2"/>
          <a:stretch/>
        </p:blipFill>
        <p:spPr>
          <a:xfrm>
            <a:off x="2843280" y="321300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3"/>
          <a:stretch/>
        </p:blipFill>
        <p:spPr>
          <a:xfrm>
            <a:off x="2771640" y="350028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4"/>
          <a:stretch/>
        </p:blipFill>
        <p:spPr>
          <a:xfrm>
            <a:off x="3924360" y="3213000"/>
            <a:ext cx="1295280" cy="704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5"/>
          <a:stretch/>
        </p:blipFill>
        <p:spPr>
          <a:xfrm>
            <a:off x="5435640" y="3213000"/>
            <a:ext cx="720720" cy="577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195640" y="4941720"/>
            <a:ext cx="914400" cy="1224000"/>
          </a:xfrm>
          <a:prstGeom prst="borderCallout1">
            <a:avLst>
              <a:gd name="adj1" fmla="val 18750"/>
              <a:gd name="adj2" fmla="val -8333"/>
              <a:gd name="adj3" fmla="val 23476"/>
              <a:gd name="adj4" fmla="val -213194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4149720"/>
            <a:ext cx="19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e glace ve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6308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.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Verdana"/>
              </a:rPr>
              <a:t>Dans mon sac, j’ai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8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5616360" cy="5513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508720" y="4941720"/>
            <a:ext cx="1225440" cy="944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627280" y="4076640"/>
            <a:ext cx="747720" cy="792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340000" y="5013360"/>
            <a:ext cx="615960" cy="1152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3132000" y="5734080"/>
            <a:ext cx="900360" cy="368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4067280" y="5734080"/>
            <a:ext cx="900000" cy="368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3635280" y="4221000"/>
            <a:ext cx="792360" cy="563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3635280" y="4881600"/>
            <a:ext cx="865440" cy="615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4716360" y="4076640"/>
            <a:ext cx="397080" cy="1473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0"/>
          <a:stretch/>
        </p:blipFill>
        <p:spPr>
          <a:xfrm>
            <a:off x="5219640" y="3933720"/>
            <a:ext cx="397080" cy="1473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1"/>
          <a:stretch/>
        </p:blipFill>
        <p:spPr>
          <a:xfrm>
            <a:off x="5724360" y="4292640"/>
            <a:ext cx="720720" cy="633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2"/>
          <a:stretch/>
        </p:blipFill>
        <p:spPr>
          <a:xfrm>
            <a:off x="2843280" y="321300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3"/>
          <a:stretch/>
        </p:blipFill>
        <p:spPr>
          <a:xfrm>
            <a:off x="2771640" y="350028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4"/>
          <a:stretch/>
        </p:blipFill>
        <p:spPr>
          <a:xfrm>
            <a:off x="3924360" y="3213000"/>
            <a:ext cx="1295280" cy="70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5"/>
          <a:stretch/>
        </p:blipFill>
        <p:spPr>
          <a:xfrm>
            <a:off x="5435640" y="3213000"/>
            <a:ext cx="720720" cy="577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10800000">
            <a:off x="5435280" y="4870440"/>
            <a:ext cx="1368360" cy="1006560"/>
          </a:xfrm>
          <a:prstGeom prst="borderCallout1">
            <a:avLst>
              <a:gd name="adj1" fmla="val 18750"/>
              <a:gd name="adj2" fmla="val -8333"/>
              <a:gd name="adj3" fmla="val 92111"/>
              <a:gd name="adj4" fmla="val -118564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93080" y="3860640"/>
            <a:ext cx="19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n crayon r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6308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.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Verdana"/>
              </a:rPr>
              <a:t>Dans mon sac, j’ai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8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5616360" cy="5513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8720" y="4941720"/>
            <a:ext cx="1225440" cy="944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627280" y="4076640"/>
            <a:ext cx="747720" cy="792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2340000" y="5013360"/>
            <a:ext cx="615960" cy="1152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3132000" y="5734080"/>
            <a:ext cx="900360" cy="368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4067280" y="5734080"/>
            <a:ext cx="900000" cy="368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3635280" y="4221000"/>
            <a:ext cx="792360" cy="5637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3635280" y="4881600"/>
            <a:ext cx="865440" cy="615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>
            <a:off x="4716360" y="4076640"/>
            <a:ext cx="397080" cy="1473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0"/>
          <a:stretch/>
        </p:blipFill>
        <p:spPr>
          <a:xfrm>
            <a:off x="5219640" y="3933720"/>
            <a:ext cx="397080" cy="14734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1"/>
          <a:stretch/>
        </p:blipFill>
        <p:spPr>
          <a:xfrm>
            <a:off x="5724360" y="4292640"/>
            <a:ext cx="720720" cy="633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2"/>
          <a:stretch/>
        </p:blipFill>
        <p:spPr>
          <a:xfrm>
            <a:off x="2843280" y="321300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3"/>
          <a:stretch/>
        </p:blipFill>
        <p:spPr>
          <a:xfrm>
            <a:off x="2771640" y="350028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4"/>
          <a:stretch/>
        </p:blipFill>
        <p:spPr>
          <a:xfrm>
            <a:off x="3924360" y="3213000"/>
            <a:ext cx="1295280" cy="704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5"/>
          <a:stretch/>
        </p:blipFill>
        <p:spPr>
          <a:xfrm>
            <a:off x="5435640" y="3213000"/>
            <a:ext cx="720720" cy="577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rot="10800000">
            <a:off x="3133800" y="5373720"/>
            <a:ext cx="1944720" cy="1006560"/>
          </a:xfrm>
          <a:prstGeom prst="borderCallout1">
            <a:avLst>
              <a:gd name="adj1" fmla="val 18750"/>
              <a:gd name="adj2" fmla="val -8333"/>
              <a:gd name="adj3" fmla="val 250157"/>
              <a:gd name="adj4" fmla="val 243509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2421000"/>
            <a:ext cx="190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ux gommes viol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6308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.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Verdana"/>
              </a:rPr>
              <a:t>Dans mon sac, j’ai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8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5616360" cy="5513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508720" y="4941720"/>
            <a:ext cx="1225440" cy="944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2627280" y="4076640"/>
            <a:ext cx="747720" cy="792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2340000" y="5013360"/>
            <a:ext cx="615960" cy="1152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3132000" y="5734080"/>
            <a:ext cx="900360" cy="368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4067280" y="5734080"/>
            <a:ext cx="900000" cy="368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3635280" y="4221000"/>
            <a:ext cx="792360" cy="5637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3635280" y="4881600"/>
            <a:ext cx="865440" cy="615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4716360" y="4076640"/>
            <a:ext cx="397080" cy="1473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0"/>
          <a:stretch/>
        </p:blipFill>
        <p:spPr>
          <a:xfrm>
            <a:off x="5219640" y="3933720"/>
            <a:ext cx="397080" cy="1473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1"/>
          <a:stretch/>
        </p:blipFill>
        <p:spPr>
          <a:xfrm>
            <a:off x="5724360" y="4292640"/>
            <a:ext cx="720720" cy="633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2"/>
          <a:stretch/>
        </p:blipFill>
        <p:spPr>
          <a:xfrm>
            <a:off x="2843280" y="321300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3"/>
          <a:stretch/>
        </p:blipFill>
        <p:spPr>
          <a:xfrm>
            <a:off x="2771640" y="350028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4"/>
          <a:stretch/>
        </p:blipFill>
        <p:spPr>
          <a:xfrm>
            <a:off x="3924360" y="3213000"/>
            <a:ext cx="1295280" cy="704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5"/>
          <a:stretch/>
        </p:blipFill>
        <p:spPr>
          <a:xfrm>
            <a:off x="5435640" y="3213000"/>
            <a:ext cx="720720" cy="5778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rot="10800000">
            <a:off x="3492000" y="4149720"/>
            <a:ext cx="1149480" cy="1440000"/>
          </a:xfrm>
          <a:prstGeom prst="borderCallout1">
            <a:avLst>
              <a:gd name="adj1" fmla="val 18750"/>
              <a:gd name="adj2" fmla="val -8333"/>
              <a:gd name="adj3" fmla="val 199666"/>
              <a:gd name="adj4" fmla="val 373754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1413000"/>
            <a:ext cx="190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ux voitures rou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6308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.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87280" y="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Verdana"/>
              </a:rPr>
              <a:t>Dans mon sac, j’ai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8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5616360" cy="55134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508720" y="4941720"/>
            <a:ext cx="1225440" cy="944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2627280" y="4076640"/>
            <a:ext cx="747720" cy="792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2340000" y="5013360"/>
            <a:ext cx="615960" cy="1152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3132000" y="5734080"/>
            <a:ext cx="900360" cy="368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4067280" y="5734080"/>
            <a:ext cx="900000" cy="368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3635280" y="4221000"/>
            <a:ext cx="792360" cy="563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8"/>
          <a:stretch/>
        </p:blipFill>
        <p:spPr>
          <a:xfrm>
            <a:off x="3635280" y="4881600"/>
            <a:ext cx="865440" cy="615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9"/>
          <a:stretch/>
        </p:blipFill>
        <p:spPr>
          <a:xfrm>
            <a:off x="4716360" y="4076640"/>
            <a:ext cx="397080" cy="14731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0"/>
          <a:stretch/>
        </p:blipFill>
        <p:spPr>
          <a:xfrm>
            <a:off x="5219640" y="3933720"/>
            <a:ext cx="397080" cy="14734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1"/>
          <a:stretch/>
        </p:blipFill>
        <p:spPr>
          <a:xfrm>
            <a:off x="5724360" y="4292640"/>
            <a:ext cx="720720" cy="633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2"/>
          <a:stretch/>
        </p:blipFill>
        <p:spPr>
          <a:xfrm>
            <a:off x="2843280" y="321300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3"/>
          <a:stretch/>
        </p:blipFill>
        <p:spPr>
          <a:xfrm>
            <a:off x="2771640" y="350028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4"/>
          <a:stretch/>
        </p:blipFill>
        <p:spPr>
          <a:xfrm>
            <a:off x="3924360" y="3213000"/>
            <a:ext cx="1295280" cy="704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5"/>
          <a:stretch/>
        </p:blipFill>
        <p:spPr>
          <a:xfrm>
            <a:off x="5435640" y="3213000"/>
            <a:ext cx="720720" cy="577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4571640" y="3935160"/>
            <a:ext cx="1149480" cy="1655640"/>
          </a:xfrm>
          <a:prstGeom prst="borderCallout1">
            <a:avLst>
              <a:gd name="adj1" fmla="val 18750"/>
              <a:gd name="adj2" fmla="val -8333"/>
              <a:gd name="adj3" fmla="val 133745"/>
              <a:gd name="adj4" fmla="val -169199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16720" y="1916280"/>
            <a:ext cx="190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ux stylos b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9280" y="6308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.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87280" y="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Verdana"/>
              </a:rPr>
              <a:t>Dans mon sac, j’ai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8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5616360" cy="55134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508720" y="4941720"/>
            <a:ext cx="1225440" cy="944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627280" y="4076640"/>
            <a:ext cx="747720" cy="792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2340000" y="5013360"/>
            <a:ext cx="615960" cy="1152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3132000" y="5734080"/>
            <a:ext cx="900360" cy="368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4067280" y="5734080"/>
            <a:ext cx="900000" cy="3682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3635280" y="4221000"/>
            <a:ext cx="792360" cy="5637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3635280" y="4881600"/>
            <a:ext cx="865440" cy="6159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9"/>
          <a:stretch/>
        </p:blipFill>
        <p:spPr>
          <a:xfrm>
            <a:off x="4716360" y="4076640"/>
            <a:ext cx="397080" cy="14731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0"/>
          <a:stretch/>
        </p:blipFill>
        <p:spPr>
          <a:xfrm>
            <a:off x="5219640" y="3933720"/>
            <a:ext cx="397080" cy="14734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1"/>
          <a:stretch/>
        </p:blipFill>
        <p:spPr>
          <a:xfrm>
            <a:off x="5724360" y="4292640"/>
            <a:ext cx="720720" cy="6332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2"/>
          <a:stretch/>
        </p:blipFill>
        <p:spPr>
          <a:xfrm>
            <a:off x="2843280" y="321300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3"/>
          <a:stretch/>
        </p:blipFill>
        <p:spPr>
          <a:xfrm>
            <a:off x="2771640" y="350028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4"/>
          <a:stretch/>
        </p:blipFill>
        <p:spPr>
          <a:xfrm>
            <a:off x="3924360" y="3213000"/>
            <a:ext cx="1295280" cy="7048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5"/>
          <a:stretch/>
        </p:blipFill>
        <p:spPr>
          <a:xfrm>
            <a:off x="5435640" y="3213000"/>
            <a:ext cx="720720" cy="5778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 rot="10800000">
            <a:off x="5652720" y="4076640"/>
            <a:ext cx="865080" cy="936720"/>
          </a:xfrm>
          <a:prstGeom prst="borderCallout1">
            <a:avLst>
              <a:gd name="adj1" fmla="val 18750"/>
              <a:gd name="adj2" fmla="val -8333"/>
              <a:gd name="adj3" fmla="val 182541"/>
              <a:gd name="adj4" fmla="val -133398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32720" y="2205000"/>
            <a:ext cx="19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 ballon v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6308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.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87280" y="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Verdana"/>
              </a:rPr>
              <a:t>Dans mon sac, j’ai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8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5616360" cy="55134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508720" y="4941720"/>
            <a:ext cx="1225440" cy="944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2627280" y="4076640"/>
            <a:ext cx="747720" cy="792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2340000" y="5013360"/>
            <a:ext cx="615960" cy="1152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3132000" y="5734080"/>
            <a:ext cx="900360" cy="3682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4067280" y="5734080"/>
            <a:ext cx="900000" cy="3682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7"/>
          <a:stretch/>
        </p:blipFill>
        <p:spPr>
          <a:xfrm>
            <a:off x="3635280" y="4221000"/>
            <a:ext cx="792360" cy="5637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8"/>
          <a:stretch/>
        </p:blipFill>
        <p:spPr>
          <a:xfrm>
            <a:off x="3635280" y="4881600"/>
            <a:ext cx="865440" cy="6159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9"/>
          <a:stretch/>
        </p:blipFill>
        <p:spPr>
          <a:xfrm>
            <a:off x="4716360" y="4076640"/>
            <a:ext cx="397080" cy="14731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0"/>
          <a:stretch/>
        </p:blipFill>
        <p:spPr>
          <a:xfrm>
            <a:off x="5219640" y="3933720"/>
            <a:ext cx="397080" cy="14734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1"/>
          <a:stretch/>
        </p:blipFill>
        <p:spPr>
          <a:xfrm>
            <a:off x="5724360" y="4292640"/>
            <a:ext cx="720720" cy="6332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2"/>
          <a:stretch/>
        </p:blipFill>
        <p:spPr>
          <a:xfrm>
            <a:off x="2843280" y="321300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3"/>
          <a:stretch/>
        </p:blipFill>
        <p:spPr>
          <a:xfrm>
            <a:off x="2771640" y="3500280"/>
            <a:ext cx="941400" cy="2732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4"/>
          <a:stretch/>
        </p:blipFill>
        <p:spPr>
          <a:xfrm>
            <a:off x="3924360" y="3213000"/>
            <a:ext cx="1295280" cy="7048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5"/>
          <a:stretch/>
        </p:blipFill>
        <p:spPr>
          <a:xfrm>
            <a:off x="5435640" y="3213000"/>
            <a:ext cx="720720" cy="577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 rot="10800000">
            <a:off x="2701440" y="2997000"/>
            <a:ext cx="1150920" cy="936360"/>
          </a:xfrm>
          <a:prstGeom prst="borderCallout1">
            <a:avLst>
              <a:gd name="adj1" fmla="val 18750"/>
              <a:gd name="adj2" fmla="val -8333"/>
              <a:gd name="adj3" fmla="val 133217"/>
              <a:gd name="adj4" fmla="val 212962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268280"/>
            <a:ext cx="190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ux feutres r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9280" y="6308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.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87280" y="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Verdana"/>
              </a:rPr>
              <a:t>Dans mon sac, j’ai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5:01:02Z</dcterms:created>
  <dc:creator>P.Seccombe</dc:creator>
  <dc:description/>
  <dc:language>en-US</dc:language>
  <cp:lastModifiedBy>CSeccombe</cp:lastModifiedBy>
  <dcterms:modified xsi:type="dcterms:W3CDTF">2005-10-31T09:58:37Z</dcterms:modified>
  <cp:revision>19</cp:revision>
  <dc:subject/>
  <dc:title>Slide 1</dc:title>
</cp:coreProperties>
</file>