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DD8-0008-42AA-A374-1EC60299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CD8-371D-45CC-A7F6-CE39744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68F-5285-448D-84EE-CC245D91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847-44C6-4630-8AC0-36A0F41D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CA3-62DB-47EE-95B1-9B00813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870-9E2D-40F7-845E-09749289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F3B-FAE5-443E-84A6-5BBA682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21B-4056-4D5B-97C3-C724E824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D76-9CC8-466E-A0F2-65DD325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E8F-C609-48DB-B7FD-3427A67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E0B-89C5-4E9A-84C2-8936F56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EA1-A730-4336-9245-40D280D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B19-EAB4-41A1-B9F4-B7E1E8E6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What am I going to do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133720"/>
            <a:ext cx="7010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to ask the way to eight places in French and understand dir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why certain words are pronounced in a particular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6094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600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5146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505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5748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8288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8098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52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724280" y="990720"/>
          <a:ext cx="190512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1905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02080" y="990720"/>
            <a:ext cx="196992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6705720" y="1143000"/>
          <a:ext cx="18288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143000"/>
                    <a:ext cx="1828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43200" y="3429000"/>
          <a:ext cx="18288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3429000"/>
          <a:ext cx="182880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724280" y="34290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6781680" y="34290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inéma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3716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ollège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144756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1447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505320" y="3886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afé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5029200"/>
          <a:ext cx="1447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505320" y="54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parc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106668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0200" y="2362320"/>
          <a:ext cx="1523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362320"/>
                    <a:ext cx="1523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3880" y="487692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iscin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438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r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ulangeri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ost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57600" y="685800"/>
            <a:ext cx="1828800" cy="3124080"/>
          </a:xfrm>
          <a:prstGeom prst="upArrow">
            <a:avLst>
              <a:gd name="adj1" fmla="val 50000"/>
              <a:gd name="adj2" fmla="val 427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llez tout dro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371600"/>
            <a:ext cx="4267440" cy="2057400"/>
          </a:xfrm>
          <a:prstGeom prst="leftArrow">
            <a:avLst>
              <a:gd name="adj1" fmla="val 50000"/>
              <a:gd name="adj2" fmla="val 518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1911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gauc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dro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4160" y="1295280"/>
            <a:ext cx="4495680" cy="2133720"/>
          </a:xfrm>
          <a:prstGeom prst="rightArrow">
            <a:avLst>
              <a:gd name="adj1" fmla="val 50000"/>
              <a:gd name="adj2" fmla="val 526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1371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981080" y="4876920"/>
          <a:ext cx="14479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87692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0" y="609480"/>
            <a:ext cx="1905120" cy="1067040"/>
          </a:xfrm>
          <a:prstGeom prst="rightArrow">
            <a:avLst>
              <a:gd name="adj1" fmla="val 50000"/>
              <a:gd name="adj2" fmla="val 446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81080"/>
            <a:ext cx="990720" cy="1600200"/>
          </a:xfrm>
          <a:prstGeom prst="upArrow">
            <a:avLst>
              <a:gd name="adj1" fmla="val 50000"/>
              <a:gd name="adj2" fmla="val 403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362320" y="533520"/>
          <a:ext cx="14475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1447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2057400"/>
          <a:ext cx="152388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05740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1371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0" y="5105520"/>
          <a:ext cx="160020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51055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609480"/>
            <a:ext cx="1676520" cy="990720"/>
          </a:xfrm>
          <a:prstGeom prst="leftArrow">
            <a:avLst>
              <a:gd name="adj1" fmla="val 50000"/>
              <a:gd name="adj2" fmla="val 423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905120"/>
            <a:ext cx="1066680" cy="1523880"/>
          </a:xfrm>
          <a:prstGeom prst="upArrow">
            <a:avLst>
              <a:gd name="adj1" fmla="val 50000"/>
              <a:gd name="adj2" fmla="val 357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429000"/>
            <a:ext cx="1067040" cy="1523880"/>
          </a:xfrm>
          <a:prstGeom prst="upArrow">
            <a:avLst>
              <a:gd name="adj1" fmla="val 50000"/>
              <a:gd name="adj2" fmla="val 357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0292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3440" y="533520"/>
            <a:ext cx="467712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4648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.?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Wher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3504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af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ar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boulanger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o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2971800"/>
            <a:ext cx="1066680" cy="1828800"/>
          </a:xfrm>
          <a:prstGeom prst="upArrow">
            <a:avLst>
              <a:gd name="adj1" fmla="val 50000"/>
              <a:gd name="adj2" fmla="val 4286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iné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429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lez tout dro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133720" y="1447920"/>
          <a:ext cx="15238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15238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05120" y="3429000"/>
            <a:ext cx="1676160" cy="990720"/>
          </a:xfrm>
          <a:prstGeom prst="leftArrow">
            <a:avLst>
              <a:gd name="adj1" fmla="val 50000"/>
              <a:gd name="adj2" fmla="val 4229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a g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gau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057400" y="1447920"/>
          <a:ext cx="14479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44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3429000"/>
            <a:ext cx="1904760" cy="1066680"/>
          </a:xfrm>
          <a:prstGeom prst="rightArrow">
            <a:avLst>
              <a:gd name="adj1" fmla="val 50000"/>
              <a:gd name="adj2" fmla="val 446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af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7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droi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inéma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ez tout droit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58128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gar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droite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 Au revo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ollèg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gauche et allez tout dro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42900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piscin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e ne sais 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ounds like m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r pl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76520"/>
            <a:ext cx="6248160" cy="4909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f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r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rm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u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Ça se prononce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é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épri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é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m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37160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38280" y="380880"/>
          <a:ext cx="4267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4267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146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73480" y="380880"/>
            <a:ext cx="43956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4495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28800" y="38088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5486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36680" y="380880"/>
          <a:ext cx="46706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380880"/>
                    <a:ext cx="4670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52480" y="46483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387520" y="609480"/>
          <a:ext cx="4367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609480"/>
                    <a:ext cx="4367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434340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561960"/>
            <a:ext cx="4953240" cy="340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480" y="4114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18:17:47Z</dcterms:created>
  <dc:creator>Phil. Drabble</dc:creator>
  <dc:description/>
  <dc:language>en-US</dc:language>
  <cp:lastModifiedBy>Paul Seccombe</cp:lastModifiedBy>
  <dcterms:modified xsi:type="dcterms:W3CDTF">2002-10-28T11:10:01Z</dcterms:modified>
  <cp:revision>26</cp:revision>
  <dc:subject/>
  <dc:title>PowerPoint Presentation</dc:title>
</cp:coreProperties>
</file>