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474-7837-4EBF-B966-5DEAB68E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371-AE65-40F1-A447-F9A54DDC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56C-6A7F-40D2-9A73-46ABDD74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0CB-4079-4637-B51A-18BDF793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42C-F00F-4D82-BEDA-5153FFFA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A1A-A97D-46A4-8EA9-7D8BA1E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3FF-E19C-4B3B-BC2B-3F7D5579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25E-7D35-49F4-A9F2-9D6CFE4C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928-2AAE-4C38-B936-C1A78BB6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51B-24C3-478C-B3C3-F72BC1A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B0D-934D-43F2-A7B8-3A9B3D9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7C9-13AC-4788-8A09-61671C2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28EA-A1FD-4C4F-84C9-89FF05EFA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83808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What am I going to do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133720"/>
            <a:ext cx="70106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to ask the way to eight places in French and understand dire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why certain words are pronounced in a particular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38280" y="6094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6002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5146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5053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5748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82880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195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8098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52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724280" y="990720"/>
          <a:ext cx="190512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1905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602080" y="990720"/>
            <a:ext cx="196992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6705720" y="1143000"/>
          <a:ext cx="18288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143000"/>
                    <a:ext cx="1828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43200" y="3429000"/>
          <a:ext cx="18288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2120" y="3429000"/>
          <a:ext cx="182880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724280" y="34290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6781680" y="34290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029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05320" y="1295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inéma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3716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2590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ollège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144756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1447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505320" y="3886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afé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5029200"/>
          <a:ext cx="14479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505320" y="54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parc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0200" y="106668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00200" y="2362320"/>
          <a:ext cx="15238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362320"/>
                    <a:ext cx="1523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523880" y="487692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1371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iscin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438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gar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962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boulangeri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ost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57600" y="685800"/>
            <a:ext cx="1828800" cy="3124080"/>
          </a:xfrm>
          <a:prstGeom prst="upArrow">
            <a:avLst>
              <a:gd name="adj1" fmla="val 50000"/>
              <a:gd name="adj2" fmla="val 427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Allez tout dro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371600"/>
            <a:ext cx="4267440" cy="2057400"/>
          </a:xfrm>
          <a:prstGeom prst="leftArrow">
            <a:avLst>
              <a:gd name="adj1" fmla="val 50000"/>
              <a:gd name="adj2" fmla="val 518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19112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gauc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dro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24160" y="1295280"/>
            <a:ext cx="4495680" cy="2133720"/>
          </a:xfrm>
          <a:prstGeom prst="rightArrow">
            <a:avLst>
              <a:gd name="adj1" fmla="val 50000"/>
              <a:gd name="adj2" fmla="val 526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1371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1981080" y="4876920"/>
          <a:ext cx="14479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87692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0" y="609480"/>
            <a:ext cx="1905120" cy="1067040"/>
          </a:xfrm>
          <a:prstGeom prst="rightArrow">
            <a:avLst>
              <a:gd name="adj1" fmla="val 50000"/>
              <a:gd name="adj2" fmla="val 446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981080"/>
            <a:ext cx="990720" cy="1600200"/>
          </a:xfrm>
          <a:prstGeom prst="upArrow">
            <a:avLst>
              <a:gd name="adj1" fmla="val 50000"/>
              <a:gd name="adj2" fmla="val 4038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362320" y="533520"/>
          <a:ext cx="14475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1447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362320" y="2057400"/>
          <a:ext cx="152388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05740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1371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0" y="5105520"/>
          <a:ext cx="1600200" cy="11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510552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609480"/>
            <a:ext cx="1676520" cy="990720"/>
          </a:xfrm>
          <a:prstGeom prst="leftArrow">
            <a:avLst>
              <a:gd name="adj1" fmla="val 50000"/>
              <a:gd name="adj2" fmla="val 423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1905120"/>
            <a:ext cx="1066680" cy="1523880"/>
          </a:xfrm>
          <a:prstGeom prst="upArrow">
            <a:avLst>
              <a:gd name="adj1" fmla="val 50000"/>
              <a:gd name="adj2" fmla="val 357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429000"/>
            <a:ext cx="1067040" cy="1523880"/>
          </a:xfrm>
          <a:prstGeom prst="upArrow">
            <a:avLst>
              <a:gd name="adj1" fmla="val 50000"/>
              <a:gd name="adj2" fmla="val 357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50292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3440" y="533520"/>
            <a:ext cx="467712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46483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33720" y="533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.?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Wher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76520"/>
            <a:ext cx="3504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af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par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boulanger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os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2971800"/>
            <a:ext cx="1066680" cy="1828800"/>
          </a:xfrm>
          <a:prstGeom prst="upArrow">
            <a:avLst>
              <a:gd name="adj1" fmla="val 50000"/>
              <a:gd name="adj2" fmla="val 4286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iné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4290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lez tout dro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133720" y="1447920"/>
          <a:ext cx="15238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15238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05120" y="3429000"/>
            <a:ext cx="1676160" cy="990720"/>
          </a:xfrm>
          <a:prstGeom prst="leftArrow">
            <a:avLst>
              <a:gd name="adj1" fmla="val 50000"/>
              <a:gd name="adj2" fmla="val 4229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a g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gau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057400" y="1447920"/>
          <a:ext cx="14479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144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3429000"/>
            <a:ext cx="1904760" cy="1066680"/>
          </a:xfrm>
          <a:prstGeom prst="rightArrow">
            <a:avLst>
              <a:gd name="adj1" fmla="val 50000"/>
              <a:gd name="adj2" fmla="val 4464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af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657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droi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2286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inéma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llez tout droit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58128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gar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droite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 Au revo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ollèg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gauche et allez tout dro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42900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piscin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e ne sais 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ounds like m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or pl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76520"/>
            <a:ext cx="6248160" cy="4909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f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ur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rm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u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Ça se prononce 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éb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épri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é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mb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371600"/>
            <a:ext cx="4952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RAVO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38280" y="380880"/>
          <a:ext cx="4267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4267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146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73480" y="380880"/>
            <a:ext cx="439560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44956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28800" y="380880"/>
          <a:ext cx="54864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5486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36680" y="380880"/>
          <a:ext cx="46706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380880"/>
                    <a:ext cx="46706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52480" y="464832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387520" y="609480"/>
          <a:ext cx="43671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609480"/>
                    <a:ext cx="4367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52480" y="434340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2920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561960"/>
            <a:ext cx="4953240" cy="340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7480" y="41148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18:17:47Z</dcterms:created>
  <dc:creator>Phil. Drabble</dc:creator>
  <dc:description/>
  <dc:language>en-US</dc:language>
  <cp:lastModifiedBy>Paul Seccombe</cp:lastModifiedBy>
  <dcterms:modified xsi:type="dcterms:W3CDTF">2002-10-28T11:10:01Z</dcterms:modified>
  <cp:revision>26</cp:revision>
  <dc:subject/>
  <dc:title>PowerPoint Presentation</dc:title>
</cp:coreProperties>
</file>