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5984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2392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74240" cy="3343320"/>
            <a:chOff x="0" y="0"/>
            <a:chExt cx="9174240" cy="3343320"/>
          </a:xfrm>
        </p:grpSpPr>
        <p:grpSp>
          <p:nvGrpSpPr>
            <p:cNvPr id="3" name=""/>
            <p:cNvGrpSpPr/>
            <p:nvPr/>
          </p:nvGrpSpPr>
          <p:grpSpPr>
            <a:xfrm>
              <a:off x="30240" y="19080"/>
              <a:ext cx="9086040" cy="3047400"/>
              <a:chOff x="30240" y="19080"/>
              <a:chExt cx="9086040" cy="3047400"/>
            </a:xfrm>
          </p:grpSpPr>
          <p:pic>
            <p:nvPicPr>
              <p:cNvPr id="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6200" y="19080"/>
                <a:ext cx="6220080" cy="30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240" y="19080"/>
                <a:ext cx="2865960" cy="304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" name=""/>
            <p:cNvSpPr/>
            <p:nvPr/>
          </p:nvSpPr>
          <p:spPr>
            <a:xfrm>
              <a:off x="2316240" y="2581200"/>
              <a:ext cx="6858000" cy="762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69200" y="0"/>
              <a:ext cx="2705040" cy="600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201680"/>
              <a:ext cx="2400480" cy="1935360"/>
            </a:xfrm>
            <a:custGeom>
              <a:avLst/>
              <a:gdLst/>
              <a:ahLst/>
              <a:rect l="l" t="t" r="r" b="b"/>
              <a:pathLst>
                <a:path w="1512" h="1219">
                  <a:moveTo>
                    <a:pt x="19" y="7"/>
                  </a:moveTo>
                  <a:cubicBezTo>
                    <a:pt x="20" y="135"/>
                    <a:pt x="23" y="263"/>
                    <a:pt x="23" y="391"/>
                  </a:cubicBezTo>
                  <a:cubicBezTo>
                    <a:pt x="23" y="448"/>
                    <a:pt x="13" y="414"/>
                    <a:pt x="23" y="443"/>
                  </a:cubicBezTo>
                  <a:cubicBezTo>
                    <a:pt x="17" y="482"/>
                    <a:pt x="22" y="519"/>
                    <a:pt x="19" y="559"/>
                  </a:cubicBezTo>
                  <a:cubicBezTo>
                    <a:pt x="18" y="555"/>
                    <a:pt x="15" y="551"/>
                    <a:pt x="15" y="547"/>
                  </a:cubicBezTo>
                  <a:cubicBezTo>
                    <a:pt x="15" y="542"/>
                    <a:pt x="18" y="526"/>
                    <a:pt x="19" y="531"/>
                  </a:cubicBezTo>
                  <a:cubicBezTo>
                    <a:pt x="22" y="563"/>
                    <a:pt x="22" y="595"/>
                    <a:pt x="23" y="627"/>
                  </a:cubicBezTo>
                  <a:cubicBezTo>
                    <a:pt x="9" y="742"/>
                    <a:pt x="17" y="860"/>
                    <a:pt x="19" y="975"/>
                  </a:cubicBezTo>
                  <a:cubicBezTo>
                    <a:pt x="17" y="1026"/>
                    <a:pt x="21" y="1080"/>
                    <a:pt x="15" y="1131"/>
                  </a:cubicBezTo>
                  <a:cubicBezTo>
                    <a:pt x="16" y="1142"/>
                    <a:pt x="15" y="1153"/>
                    <a:pt x="19" y="1163"/>
                  </a:cubicBezTo>
                  <a:cubicBezTo>
                    <a:pt x="21" y="1167"/>
                    <a:pt x="29" y="1167"/>
                    <a:pt x="31" y="1171"/>
                  </a:cubicBezTo>
                  <a:cubicBezTo>
                    <a:pt x="35" y="1180"/>
                    <a:pt x="25" y="1190"/>
                    <a:pt x="23" y="1199"/>
                  </a:cubicBezTo>
                  <a:cubicBezTo>
                    <a:pt x="0" y="1184"/>
                    <a:pt x="17" y="1196"/>
                    <a:pt x="43" y="1191"/>
                  </a:cubicBezTo>
                  <a:cubicBezTo>
                    <a:pt x="109" y="1194"/>
                    <a:pt x="173" y="1199"/>
                    <a:pt x="239" y="1207"/>
                  </a:cubicBezTo>
                  <a:cubicBezTo>
                    <a:pt x="273" y="1218"/>
                    <a:pt x="347" y="1219"/>
                    <a:pt x="347" y="1219"/>
                  </a:cubicBezTo>
                  <a:cubicBezTo>
                    <a:pt x="673" y="1178"/>
                    <a:pt x="1017" y="1202"/>
                    <a:pt x="1343" y="1199"/>
                  </a:cubicBezTo>
                  <a:cubicBezTo>
                    <a:pt x="1380" y="1198"/>
                    <a:pt x="1418" y="1197"/>
                    <a:pt x="1455" y="1195"/>
                  </a:cubicBezTo>
                  <a:cubicBezTo>
                    <a:pt x="1509" y="1192"/>
                    <a:pt x="1512" y="1204"/>
                    <a:pt x="1495" y="1179"/>
                  </a:cubicBezTo>
                  <a:cubicBezTo>
                    <a:pt x="1492" y="1142"/>
                    <a:pt x="1485" y="1111"/>
                    <a:pt x="1479" y="1075"/>
                  </a:cubicBezTo>
                  <a:cubicBezTo>
                    <a:pt x="1480" y="1039"/>
                    <a:pt x="1481" y="1003"/>
                    <a:pt x="1483" y="967"/>
                  </a:cubicBezTo>
                  <a:cubicBezTo>
                    <a:pt x="1486" y="926"/>
                    <a:pt x="1483" y="923"/>
                    <a:pt x="1443" y="903"/>
                  </a:cubicBezTo>
                  <a:cubicBezTo>
                    <a:pt x="1417" y="908"/>
                    <a:pt x="1396" y="925"/>
                    <a:pt x="1371" y="935"/>
                  </a:cubicBezTo>
                  <a:cubicBezTo>
                    <a:pt x="1347" y="945"/>
                    <a:pt x="1333" y="944"/>
                    <a:pt x="1307" y="947"/>
                  </a:cubicBezTo>
                  <a:cubicBezTo>
                    <a:pt x="1275" y="955"/>
                    <a:pt x="1272" y="981"/>
                    <a:pt x="1255" y="1007"/>
                  </a:cubicBezTo>
                  <a:cubicBezTo>
                    <a:pt x="1241" y="1028"/>
                    <a:pt x="1205" y="1061"/>
                    <a:pt x="1187" y="1079"/>
                  </a:cubicBezTo>
                  <a:cubicBezTo>
                    <a:pt x="1183" y="1083"/>
                    <a:pt x="1181" y="1091"/>
                    <a:pt x="1175" y="1091"/>
                  </a:cubicBezTo>
                  <a:cubicBezTo>
                    <a:pt x="1159" y="1092"/>
                    <a:pt x="1143" y="1094"/>
                    <a:pt x="1127" y="1095"/>
                  </a:cubicBezTo>
                  <a:cubicBezTo>
                    <a:pt x="1113" y="1099"/>
                    <a:pt x="1097" y="1097"/>
                    <a:pt x="1083" y="1103"/>
                  </a:cubicBezTo>
                  <a:cubicBezTo>
                    <a:pt x="1039" y="1121"/>
                    <a:pt x="1098" y="1111"/>
                    <a:pt x="1059" y="1119"/>
                  </a:cubicBezTo>
                  <a:cubicBezTo>
                    <a:pt x="1043" y="1122"/>
                    <a:pt x="1011" y="1127"/>
                    <a:pt x="1011" y="1127"/>
                  </a:cubicBezTo>
                  <a:cubicBezTo>
                    <a:pt x="987" y="1103"/>
                    <a:pt x="909" y="1096"/>
                    <a:pt x="875" y="1087"/>
                  </a:cubicBezTo>
                  <a:cubicBezTo>
                    <a:pt x="874" y="1078"/>
                    <a:pt x="877" y="1066"/>
                    <a:pt x="871" y="1059"/>
                  </a:cubicBezTo>
                  <a:cubicBezTo>
                    <a:pt x="867" y="1055"/>
                    <a:pt x="798" y="1035"/>
                    <a:pt x="787" y="1031"/>
                  </a:cubicBezTo>
                  <a:cubicBezTo>
                    <a:pt x="751" y="995"/>
                    <a:pt x="669" y="975"/>
                    <a:pt x="619" y="967"/>
                  </a:cubicBezTo>
                  <a:cubicBezTo>
                    <a:pt x="615" y="958"/>
                    <a:pt x="614" y="946"/>
                    <a:pt x="607" y="939"/>
                  </a:cubicBezTo>
                  <a:cubicBezTo>
                    <a:pt x="593" y="925"/>
                    <a:pt x="549" y="935"/>
                    <a:pt x="615" y="927"/>
                  </a:cubicBezTo>
                  <a:cubicBezTo>
                    <a:pt x="522" y="908"/>
                    <a:pt x="575" y="914"/>
                    <a:pt x="455" y="919"/>
                  </a:cubicBezTo>
                  <a:cubicBezTo>
                    <a:pt x="420" y="917"/>
                    <a:pt x="383" y="925"/>
                    <a:pt x="351" y="911"/>
                  </a:cubicBezTo>
                  <a:cubicBezTo>
                    <a:pt x="347" y="909"/>
                    <a:pt x="354" y="903"/>
                    <a:pt x="355" y="899"/>
                  </a:cubicBezTo>
                  <a:cubicBezTo>
                    <a:pt x="349" y="876"/>
                    <a:pt x="345" y="868"/>
                    <a:pt x="331" y="847"/>
                  </a:cubicBezTo>
                  <a:cubicBezTo>
                    <a:pt x="326" y="839"/>
                    <a:pt x="315" y="823"/>
                    <a:pt x="315" y="823"/>
                  </a:cubicBezTo>
                  <a:cubicBezTo>
                    <a:pt x="311" y="805"/>
                    <a:pt x="306" y="789"/>
                    <a:pt x="303" y="771"/>
                  </a:cubicBezTo>
                  <a:cubicBezTo>
                    <a:pt x="300" y="714"/>
                    <a:pt x="307" y="675"/>
                    <a:pt x="259" y="643"/>
                  </a:cubicBezTo>
                  <a:cubicBezTo>
                    <a:pt x="239" y="613"/>
                    <a:pt x="205" y="593"/>
                    <a:pt x="179" y="567"/>
                  </a:cubicBezTo>
                  <a:cubicBezTo>
                    <a:pt x="160" y="511"/>
                    <a:pt x="183" y="584"/>
                    <a:pt x="171" y="423"/>
                  </a:cubicBezTo>
                  <a:cubicBezTo>
                    <a:pt x="168" y="383"/>
                    <a:pt x="144" y="322"/>
                    <a:pt x="131" y="283"/>
                  </a:cubicBezTo>
                  <a:cubicBezTo>
                    <a:pt x="127" y="272"/>
                    <a:pt x="110" y="275"/>
                    <a:pt x="99" y="271"/>
                  </a:cubicBezTo>
                  <a:cubicBezTo>
                    <a:pt x="95" y="244"/>
                    <a:pt x="90" y="230"/>
                    <a:pt x="95" y="203"/>
                  </a:cubicBezTo>
                  <a:cubicBezTo>
                    <a:pt x="97" y="192"/>
                    <a:pt x="103" y="171"/>
                    <a:pt x="103" y="171"/>
                  </a:cubicBezTo>
                  <a:cubicBezTo>
                    <a:pt x="106" y="143"/>
                    <a:pt x="108" y="85"/>
                    <a:pt x="135" y="67"/>
                  </a:cubicBezTo>
                  <a:cubicBezTo>
                    <a:pt x="130" y="3"/>
                    <a:pt x="139" y="8"/>
                    <a:pt x="75" y="3"/>
                  </a:cubicBezTo>
                  <a:cubicBezTo>
                    <a:pt x="55" y="4"/>
                    <a:pt x="34" y="0"/>
                    <a:pt x="15" y="7"/>
                  </a:cubicBezTo>
                  <a:cubicBezTo>
                    <a:pt x="10" y="9"/>
                    <a:pt x="14" y="21"/>
                    <a:pt x="19" y="23"/>
                  </a:cubicBezTo>
                  <a:cubicBezTo>
                    <a:pt x="24" y="25"/>
                    <a:pt x="27" y="16"/>
                    <a:pt x="27" y="11"/>
                  </a:cubicBezTo>
                  <a:cubicBezTo>
                    <a:pt x="27" y="8"/>
                    <a:pt x="22" y="8"/>
                    <a:pt x="19" y="7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240" y="19080"/>
              <a:ext cx="2741760" cy="1080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2600"/>
              <a:ext cx="163440" cy="25686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49480" y="0"/>
              <a:ext cx="4419720" cy="26676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19360" y="82440"/>
              <a:ext cx="372960" cy="154080"/>
            </a:xfrm>
            <a:custGeom>
              <a:avLst/>
              <a:gdLst/>
              <a:ahLst/>
              <a:rect l="l" t="t" r="r" b="b"/>
              <a:pathLst>
                <a:path w="235" h="97">
                  <a:moveTo>
                    <a:pt x="8" y="8"/>
                  </a:moveTo>
                  <a:cubicBezTo>
                    <a:pt x="40" y="50"/>
                    <a:pt x="38" y="56"/>
                    <a:pt x="96" y="64"/>
                  </a:cubicBezTo>
                  <a:cubicBezTo>
                    <a:pt x="123" y="82"/>
                    <a:pt x="149" y="85"/>
                    <a:pt x="180" y="88"/>
                  </a:cubicBezTo>
                  <a:cubicBezTo>
                    <a:pt x="196" y="92"/>
                    <a:pt x="204" y="97"/>
                    <a:pt x="220" y="92"/>
                  </a:cubicBezTo>
                  <a:cubicBezTo>
                    <a:pt x="225" y="78"/>
                    <a:pt x="235" y="15"/>
                    <a:pt x="224" y="8"/>
                  </a:cubicBezTo>
                  <a:cubicBezTo>
                    <a:pt x="215" y="2"/>
                    <a:pt x="203" y="5"/>
                    <a:pt x="192" y="4"/>
                  </a:cubicBezTo>
                  <a:cubicBezTo>
                    <a:pt x="132" y="8"/>
                    <a:pt x="72" y="12"/>
                    <a:pt x="12" y="0"/>
                  </a:cubicBezTo>
                  <a:cubicBezTo>
                    <a:pt x="8" y="1"/>
                    <a:pt x="0" y="0"/>
                    <a:pt x="0" y="4"/>
                  </a:cubicBezTo>
                  <a:cubicBezTo>
                    <a:pt x="0" y="8"/>
                    <a:pt x="20" y="8"/>
                    <a:pt x="8" y="8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6560" y="74520"/>
              <a:ext cx="1157040" cy="1182960"/>
            </a:xfrm>
            <a:custGeom>
              <a:avLst/>
              <a:gdLst/>
              <a:ahLst/>
              <a:rect l="l" t="t" r="r" b="b"/>
              <a:pathLst>
                <a:path w="729" h="745">
                  <a:moveTo>
                    <a:pt x="728" y="21"/>
                  </a:moveTo>
                  <a:cubicBezTo>
                    <a:pt x="717" y="65"/>
                    <a:pt x="661" y="87"/>
                    <a:pt x="620" y="97"/>
                  </a:cubicBezTo>
                  <a:cubicBezTo>
                    <a:pt x="591" y="126"/>
                    <a:pt x="568" y="129"/>
                    <a:pt x="528" y="133"/>
                  </a:cubicBezTo>
                  <a:cubicBezTo>
                    <a:pt x="474" y="125"/>
                    <a:pt x="423" y="117"/>
                    <a:pt x="368" y="113"/>
                  </a:cubicBezTo>
                  <a:cubicBezTo>
                    <a:pt x="343" y="119"/>
                    <a:pt x="357" y="114"/>
                    <a:pt x="328" y="133"/>
                  </a:cubicBezTo>
                  <a:cubicBezTo>
                    <a:pt x="324" y="136"/>
                    <a:pt x="316" y="141"/>
                    <a:pt x="316" y="141"/>
                  </a:cubicBezTo>
                  <a:cubicBezTo>
                    <a:pt x="306" y="156"/>
                    <a:pt x="296" y="169"/>
                    <a:pt x="284" y="181"/>
                  </a:cubicBezTo>
                  <a:cubicBezTo>
                    <a:pt x="272" y="216"/>
                    <a:pt x="240" y="233"/>
                    <a:pt x="224" y="265"/>
                  </a:cubicBezTo>
                  <a:cubicBezTo>
                    <a:pt x="212" y="289"/>
                    <a:pt x="199" y="311"/>
                    <a:pt x="184" y="333"/>
                  </a:cubicBezTo>
                  <a:cubicBezTo>
                    <a:pt x="168" y="357"/>
                    <a:pt x="162" y="383"/>
                    <a:pt x="140" y="405"/>
                  </a:cubicBezTo>
                  <a:cubicBezTo>
                    <a:pt x="127" y="443"/>
                    <a:pt x="106" y="478"/>
                    <a:pt x="96" y="517"/>
                  </a:cubicBezTo>
                  <a:cubicBezTo>
                    <a:pt x="102" y="536"/>
                    <a:pt x="106" y="549"/>
                    <a:pt x="116" y="565"/>
                  </a:cubicBezTo>
                  <a:cubicBezTo>
                    <a:pt x="114" y="608"/>
                    <a:pt x="126" y="651"/>
                    <a:pt x="96" y="681"/>
                  </a:cubicBezTo>
                  <a:cubicBezTo>
                    <a:pt x="90" y="698"/>
                    <a:pt x="82" y="711"/>
                    <a:pt x="76" y="729"/>
                  </a:cubicBezTo>
                  <a:cubicBezTo>
                    <a:pt x="72" y="741"/>
                    <a:pt x="40" y="745"/>
                    <a:pt x="40" y="745"/>
                  </a:cubicBezTo>
                  <a:cubicBezTo>
                    <a:pt x="20" y="738"/>
                    <a:pt x="19" y="733"/>
                    <a:pt x="24" y="713"/>
                  </a:cubicBezTo>
                  <a:cubicBezTo>
                    <a:pt x="13" y="669"/>
                    <a:pt x="17" y="630"/>
                    <a:pt x="20" y="585"/>
                  </a:cubicBezTo>
                  <a:cubicBezTo>
                    <a:pt x="12" y="486"/>
                    <a:pt x="9" y="388"/>
                    <a:pt x="0" y="289"/>
                  </a:cubicBezTo>
                  <a:cubicBezTo>
                    <a:pt x="2" y="170"/>
                    <a:pt x="3" y="106"/>
                    <a:pt x="20" y="5"/>
                  </a:cubicBezTo>
                  <a:cubicBezTo>
                    <a:pt x="67" y="10"/>
                    <a:pt x="113" y="12"/>
                    <a:pt x="160" y="17"/>
                  </a:cubicBezTo>
                  <a:cubicBezTo>
                    <a:pt x="346" y="0"/>
                    <a:pt x="533" y="6"/>
                    <a:pt x="720" y="13"/>
                  </a:cubicBezTo>
                  <a:cubicBezTo>
                    <a:pt x="729" y="26"/>
                    <a:pt x="728" y="30"/>
                    <a:pt x="728" y="21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2914560"/>
              <a:ext cx="106560" cy="22248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163440" y="4591080"/>
            <a:ext cx="4210200" cy="603360"/>
            <a:chOff x="163440" y="4591080"/>
            <a:chExt cx="4210200" cy="603360"/>
          </a:xfrm>
        </p:grpSpPr>
        <p:sp>
          <p:nvSpPr>
            <p:cNvPr id="16" name=""/>
            <p:cNvSpPr/>
            <p:nvPr/>
          </p:nvSpPr>
          <p:spPr>
            <a:xfrm>
              <a:off x="163440" y="459108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1880" y="459108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61880" y="519444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4830840" y="4591080"/>
            <a:ext cx="4209840" cy="603360"/>
            <a:chOff x="4830840" y="4591080"/>
            <a:chExt cx="4209840" cy="603360"/>
          </a:xfrm>
        </p:grpSpPr>
        <p:sp>
          <p:nvSpPr>
            <p:cNvPr id="20" name=""/>
            <p:cNvSpPr/>
            <p:nvPr/>
          </p:nvSpPr>
          <p:spPr>
            <a:xfrm>
              <a:off x="4830840" y="459108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128920" y="459108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128920" y="519444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182520" y="5499000"/>
            <a:ext cx="4210200" cy="603360"/>
            <a:chOff x="182520" y="5499000"/>
            <a:chExt cx="4210200" cy="603360"/>
          </a:xfrm>
        </p:grpSpPr>
        <p:sp>
          <p:nvSpPr>
            <p:cNvPr id="24" name=""/>
            <p:cNvSpPr/>
            <p:nvPr/>
          </p:nvSpPr>
          <p:spPr>
            <a:xfrm>
              <a:off x="182520" y="549900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80960" y="549900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960" y="610236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4830840" y="5499000"/>
            <a:ext cx="4209840" cy="603360"/>
            <a:chOff x="4830840" y="5499000"/>
            <a:chExt cx="4209840" cy="603360"/>
          </a:xfrm>
        </p:grpSpPr>
        <p:sp>
          <p:nvSpPr>
            <p:cNvPr id="28" name=""/>
            <p:cNvSpPr/>
            <p:nvPr/>
          </p:nvSpPr>
          <p:spPr>
            <a:xfrm>
              <a:off x="4830840" y="549900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128920" y="549900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128920" y="610236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334800" y="3143160"/>
            <a:ext cx="8401320" cy="809640"/>
          </a:xfrm>
          <a:prstGeom prst="bracePair">
            <a:avLst>
              <a:gd name="adj" fmla="val 25000"/>
            </a:avLst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739800" y="314316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39800" y="394668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8702640" y="3552840"/>
            <a:ext cx="4716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30240" y="3552840"/>
            <a:ext cx="37152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8983800" y="489096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8983800" y="580068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4340160" y="489096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363920" y="580068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0240" y="489096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240" y="580068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3120" y="46260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63680" y="46260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1440" y="55404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760" y="55404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23920" y="40752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6920" y="522360"/>
            <a:ext cx="798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Bienvenus à “QUI VEUT GAGNER DES MILLIONS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99"/>
                </a:solidFill>
                <a:uFillTx/>
                <a:latin typeface="Tempus Sans ITC"/>
              </a:rPr>
              <a:t>National Curriculum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03440" y="318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00800" y="6502320"/>
            <a:ext cx="18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 Rounded MT Bold"/>
              </a:rPr>
              <a:t>©MFL Sunderland 2005 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75360" y="3301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780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0160" y="3311640"/>
            <a:ext cx="84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mpus Sans ITC"/>
              </a:rPr>
              <a:t>1.Which is the description for level 3 listening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7520" y="4594320"/>
            <a:ext cx="340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understand short spoken pa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6080" y="486252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pick out the main poi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480" y="5505480"/>
            <a:ext cx="28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understand a variety of sh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0" y="5762520"/>
            <a:ext cx="32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s, statements and ques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0960" y="5500800"/>
            <a:ext cx="30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understand some simple, sh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8880" y="57690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ra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31680" y="489600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pick out the main poi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27360" y="4584600"/>
            <a:ext cx="34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understand longer spoken pa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00"/>
                            </p:stCondLst>
                            <p:childTnLst>
                              <p:par>
                                <p:cTn id="5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700"/>
                            </p:stCondLst>
                            <p:childTnLst>
                              <p:par>
                                <p:cTn id="5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5880" y="3259080"/>
            <a:ext cx="86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2. </a:t>
            </a:r>
            <a:r>
              <a:rPr b="0" lang="en-US" sz="3000" spc="-1" strike="noStrike">
                <a:solidFill>
                  <a:srgbClr val="ffffff"/>
                </a:solidFill>
                <a:latin typeface="Tempus Sans ITC"/>
              </a:rPr>
              <a:t>Which is the description for level 4 speaking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58680" y="2525760"/>
            <a:ext cx="14227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7160" y="4722840"/>
            <a:ext cx="30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say a variety of short phra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06120" y="4718160"/>
            <a:ext cx="33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say single words or short phra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5720" y="5403960"/>
            <a:ext cx="32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 can take part in longer conversations. I can as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6800" y="5581800"/>
            <a:ext cx="3364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questions and give replies three or four times. I c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5120" y="5630760"/>
            <a:ext cx="34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 ask questions and give replies two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02520" y="5429160"/>
            <a:ext cx="33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take part in simple conversations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320" y="5724360"/>
            <a:ext cx="2809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hange phrases that I already know to s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6800" y="5862600"/>
            <a:ext cx="2923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omething new. I can give my own opin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23400" y="583884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ree ti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32240" y="221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00"/>
                            </p:stCondLst>
                            <p:childTnLst>
                              <p:par>
                                <p:cTn id="10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00"/>
                            </p:stCondLst>
                            <p:childTnLst>
                              <p:par>
                                <p:cTn id="11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3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483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1600" y="3289320"/>
            <a:ext cx="84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3. </a:t>
            </a:r>
            <a:r>
              <a:rPr b="0" lang="en-US" sz="3000" spc="-1" strike="noStrike">
                <a:solidFill>
                  <a:srgbClr val="ffffff"/>
                </a:solidFill>
                <a:latin typeface="Tempus Sans ITC"/>
              </a:rPr>
              <a:t>Which is the description for level 3 reading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3840" y="5397480"/>
            <a:ext cx="4243320" cy="795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74600" y="2525760"/>
            <a:ext cx="12193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30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27000" y="576252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pick out the main poi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22320" y="5508720"/>
            <a:ext cx="33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understand short written pa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8600" y="472284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understand single everyda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7160" y="5403960"/>
            <a:ext cx="34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 can understand longer written passages. I can pi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6080" y="5581800"/>
            <a:ext cx="3559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out the main points and some detail. Sometimes I ca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6080" y="5724360"/>
            <a:ext cx="312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ork out the meaning of new words from what 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2200" y="586260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already kno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4760" y="4716360"/>
            <a:ext cx="32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vocabulary list or dictionary to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01440" y="4514760"/>
            <a:ext cx="34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understand short phrases. I can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25200" y="492444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ning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742080" y="40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100"/>
                            </p:stCondLst>
                            <p:childTnLst>
                              <p:par>
                                <p:cTn id="16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700"/>
                            </p:stCondLst>
                            <p:childTnLst>
                              <p:par>
                                <p:cTn id="16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3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6840" y="3260880"/>
            <a:ext cx="82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4. </a:t>
            </a:r>
            <a:r>
              <a:rPr b="0" lang="en-US" sz="3000" spc="-1" strike="noStrike">
                <a:solidFill>
                  <a:srgbClr val="ffffff"/>
                </a:solidFill>
                <a:latin typeface="Tempus Sans ITC"/>
              </a:rPr>
              <a:t>Which is the description for level 4 writing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5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0400" y="4722840"/>
            <a:ext cx="28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copy single words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5120" y="4716360"/>
            <a:ext cx="33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mory. I can change phrases I alrea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03240" y="451476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write three or four sentenc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9080" y="492444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now to say something ne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0760" y="563076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mory. I can write two or three sent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1400" y="5429160"/>
            <a:ext cx="31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write simple, short phras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1920" y="58388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hel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0160" y="5767560"/>
            <a:ext cx="23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ngle words from mem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1160" y="5499000"/>
            <a:ext cx="34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copy short phrases correctly or 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84840" y="31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00"/>
                            </p:stCondLst>
                            <p:childTnLst>
                              <p:par>
                                <p:cTn id="21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700"/>
                            </p:stCondLst>
                            <p:childTnLst>
                              <p:par>
                                <p:cTn id="22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3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26920" y="522360"/>
            <a:ext cx="798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Merci d’avoir 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joué</a:t>
            </a: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  à “QUI VEUT GAGNER DES MILLIONS”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096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569360" y="1244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22:08:00Z</dcterms:created>
  <dc:creator>MJA Regnier</dc:creator>
  <dc:description/>
  <dc:language>en-US</dc:language>
  <cp:lastModifiedBy>CSeccombe</cp:lastModifiedBy>
  <dcterms:modified xsi:type="dcterms:W3CDTF">2005-10-31T10:20:48Z</dcterms:modified>
  <cp:revision>62</cp:revision>
  <dc:subject/>
  <dc:title>MillionnaireGCSE-Th4FR</dc:title>
</cp:coreProperties>
</file>