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54E-E25D-4162-B5EB-D1A44A26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BE4-366F-4D6F-915B-21E1820D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DE1-EF68-4850-8508-3D01B8F8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587-F582-4202-8E3F-52343AF9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8CA-C28A-4595-8A75-B9BA076E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24C-FC89-4507-B413-315090B7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FB5-263F-46BE-A905-74975A2E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EEF-E7D1-4709-8465-04179BF8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D17-C46D-4699-86B3-5F58425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F40-28E3-4924-A92F-BFEBF5F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E96-04EB-4058-B4E8-01028A2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BAC-9075-48BA-96C9-12C19AD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38D-FFB9-49BA-A486-274C7911C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4320" y="17226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4320" y="1793880"/>
            <a:ext cx="241596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J’ai _________ yeux noirs et les cheveux _________, mi-longs et fris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31960" y="1793880"/>
            <a:ext cx="259236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 as les yeux bleus et les _________ blonds, mi-longs _______ ra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5960" y="1793880"/>
            <a:ext cx="230508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Il _______ les ________ marron et les cheveux ________, courts et ra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72320" y="1793880"/>
            <a:ext cx="230508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Elle _________ les cheveux _______, courts ________ bleus 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4320" y="4889520"/>
            <a:ext cx="230472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_ avons les ______ bleus et les cheveux _______, blonds et ra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8880" y="4889520"/>
            <a:ext cx="230508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Vous ________ les cheveux _______ et les yeux ver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5600" y="4889520"/>
            <a:ext cx="230508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_   _______ les yeux verts et les cheveux _________ et cou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1960" y="4889520"/>
            <a:ext cx="230508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Rounded MT Bold"/>
              </a:rPr>
              <a:t>_______ ont ______ yeux noirs et les _________ _________ et n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35960" y="712296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1:13:02Z</dcterms:created>
  <dc:creator>CSeccombe</dc:creator>
  <dc:description/>
  <dc:language>en-US</dc:language>
  <cp:lastModifiedBy>CSeccombe</cp:lastModifiedBy>
  <dcterms:modified xsi:type="dcterms:W3CDTF">2005-11-21T12:58:41Z</dcterms:modified>
  <cp:revision>4</cp:revision>
  <dc:subject/>
  <dc:title>Slide 1</dc:title>
</cp:coreProperties>
</file>