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893-0842-4B12-9BDF-0206A93C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5D6-DD77-4D86-A30E-7EB79200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AC0-2522-4BF3-9B79-0D669CA7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BB8-0C6A-49DD-9366-6615E51A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A10-887B-494C-8D32-53AFF8FE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835-E59E-40CD-8A92-1C4EFD23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B0E-BD9E-4740-A45B-D3397A23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859-DDD4-47A0-BED5-84FABA11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4C5-424D-416C-B4F9-AAD8ADB0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753-2C0B-4E73-88A6-0BDAA6E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036-9A60-45E5-8436-3C873CA2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89F-AE88-4034-935E-1260C6FF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693900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72D6-AD5D-4607-AA12-8882D2063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4320" y="17226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4320" y="1793880"/>
            <a:ext cx="241596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J’ai _________ yeux noirs et les cheveux _________, mi-longs et fris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31960" y="1793880"/>
            <a:ext cx="2592360" cy="161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______ as les yeux bleus et les _________ blonds, mi-longs _______ ra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5960" y="1793880"/>
            <a:ext cx="2305080" cy="161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Il _______ les ________ marron et les cheveux ________, courts et ra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72320" y="1793880"/>
            <a:ext cx="2305080" cy="161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Elle _________ les cheveux _______, courts ________ bleus 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4320" y="4889520"/>
            <a:ext cx="230472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_______ avons les ______ bleus et les cheveux _______, blonds et ra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8880" y="4889520"/>
            <a:ext cx="230508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Vous ________ les cheveux _______ et les yeux ver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35600" y="4889520"/>
            <a:ext cx="2305080" cy="161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_______   _______ les yeux verts et les cheveux _________ et cou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11960" y="4889520"/>
            <a:ext cx="230508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_______ ont ______ yeux noirs et les _________ _________ et n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535960" y="712296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1:13:02Z</dcterms:created>
  <dc:creator>CSeccombe</dc:creator>
  <dc:description/>
  <dc:language>en-US</dc:language>
  <cp:lastModifiedBy>CSeccombe</cp:lastModifiedBy>
  <dcterms:modified xsi:type="dcterms:W3CDTF">2005-11-21T12:58:41Z</dcterms:modified>
  <cp:revision>4</cp:revision>
  <dc:subject/>
  <dc:title>Slide 1</dc:title>
</cp:coreProperties>
</file>