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F0F-C4AA-457F-BF8D-4248D014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42B-0484-46C7-B27E-31C26CE6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20E-5867-47F2-9F45-B71A8F8C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E5E-D0F9-4D04-AB5F-05991961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1B1-4D7B-4457-82A3-69F5E54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E92-A31F-44B6-979D-510B579F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642-5A1E-4B5B-BDD4-3BA05D1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1F1-3269-4681-A900-D2E6855A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CFB-2A0F-4751-94B7-AD73A6C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82F-3203-497F-A9EC-F691A6E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EC1-4E5F-49C8-B8A5-969E146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F1A-0D65-4D01-A8BD-B10325B1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03E-3EAC-4A94-A2D3-321750ED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words correctly onto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565360"/>
            <a:ext cx="8496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 deux novemb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s Jours de la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un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on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r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erc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Wedn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u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ur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vend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ri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m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tur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imanch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phrases correctly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to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56536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onjour, ça v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 trois bics ble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omment t’appelles-tu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phrases correctly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to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256536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onjour, ça v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 trois bics ble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omment t’appelles-tu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12536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Without using any sheets or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books, write these French words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565360"/>
            <a:ext cx="4319640" cy="4032360"/>
          </a:xfrm>
          <a:prstGeom prst="octagon">
            <a:avLst>
              <a:gd name="adj" fmla="val 29287"/>
            </a:avLst>
          </a:prstGeom>
          <a:solidFill>
            <a:srgbClr val="f1ad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pri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Sev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P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I hav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ff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12536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Without using any sheets or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books, write these French words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2565360"/>
            <a:ext cx="4319640" cy="4032360"/>
          </a:xfrm>
          <a:prstGeom prst="octagon">
            <a:avLst>
              <a:gd name="adj" fmla="val 29287"/>
            </a:avLst>
          </a:prstGeom>
          <a:solidFill>
            <a:srgbClr val="f1ad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pri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Sev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P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I hav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ff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2536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Without using any sheets or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books, write these French words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565360"/>
            <a:ext cx="4319640" cy="4032360"/>
          </a:xfrm>
          <a:prstGeom prst="octagon">
            <a:avLst>
              <a:gd name="adj" fmla="val 29287"/>
            </a:avLst>
          </a:prstGeom>
          <a:solidFill>
            <a:srgbClr val="f1ad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pri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Sev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P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I hav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ff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916360" y="1989000"/>
            <a:ext cx="338616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words correctly onto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565360"/>
            <a:ext cx="8496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 deux novemb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s Jours de la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un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on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r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erc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Wedn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u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ur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vend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ri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m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tur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imanch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words correctly onto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565360"/>
            <a:ext cx="8496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 deux novemb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s Jours de la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un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on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r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erc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Wedn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u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ur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vend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ri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m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tur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imanch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4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Label the pictures on your sheet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using thes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492280"/>
            <a:ext cx="7416720" cy="3673440"/>
          </a:xfrm>
          <a:prstGeom prst="roundRect">
            <a:avLst>
              <a:gd name="adj" fmla="val 16667"/>
            </a:avLst>
          </a:prstGeom>
          <a:solidFill>
            <a:srgbClr val="fdf81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u revoi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eux cray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 soeu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cray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styl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 voi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Label the pictures on your sheet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using thes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492280"/>
            <a:ext cx="7416720" cy="3673440"/>
          </a:xfrm>
          <a:prstGeom prst="roundRect">
            <a:avLst>
              <a:gd name="adj" fmla="val 16667"/>
            </a:avLst>
          </a:prstGeom>
          <a:solidFill>
            <a:srgbClr val="fdf81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u revoi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eux cray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 soeu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cray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styl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 voi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10:12Z</dcterms:created>
  <dc:creator>CSeccombe</dc:creator>
  <dc:description/>
  <dc:language>en-US</dc:language>
  <cp:lastModifiedBy>CSeccombe</cp:lastModifiedBy>
  <dcterms:modified xsi:type="dcterms:W3CDTF">2005-11-21T13:14:42Z</dcterms:modified>
  <cp:revision>5</cp:revision>
  <dc:subject/>
  <dc:title>Slide 1</dc:title>
</cp:coreProperties>
</file>