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0883-ECBE-4C87-B50D-5319B2C5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A024-E652-4A17-80C2-1F3E35F1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0818-ADA4-489C-9105-5C8F01812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A409-DE9A-41B7-971C-9D60510F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CEA8-8D07-42F8-8966-F8ADE276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0A50-A83C-4916-9686-C0714E87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D206-F81A-416F-AA90-4C3E5481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AF29-326F-4BA1-B3FC-E0143F26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5988-371D-4FC3-ADA9-E028768E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AFDB-D873-4339-BF00-886795D2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C888-04E3-4836-A990-1C83BAC2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AA83-B4CE-4F27-8D19-374E5BE7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9A7E-8AF7-46F1-BD38-E0273BD88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8900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TASK 1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Copy these words correctly onto </a:t>
            </a:r>
            <a:br>
              <a:rPr sz="3200"/>
            </a:b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your she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2565360"/>
            <a:ext cx="849636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 Rounded MT Bold"/>
              </a:rPr>
              <a:t>le deux novembre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 Rounded MT Bold"/>
              </a:rPr>
              <a:t>Les Jours de la Sem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lundi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Monda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mardi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Tuesda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mercredi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Wednesda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jeudi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Thursda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vendredi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Frida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samedi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Saturda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dimanche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Sun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04000" y="189000"/>
            <a:ext cx="2158920" cy="2016000"/>
          </a:xfrm>
          <a:prstGeom prst="donut">
            <a:avLst>
              <a:gd name="adj" fmla="val 757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YOU</a:t>
            </a:r>
            <a:br>
              <a:rPr sz="2400"/>
            </a:b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HAVE</a:t>
            </a:r>
            <a:br>
              <a:rPr sz="2400"/>
            </a:br>
            <a:r>
              <a:rPr b="1" lang="en-GB" sz="3200" spc="-1" strike="noStrike">
                <a:solidFill>
                  <a:srgbClr val="009999"/>
                </a:solidFill>
                <a:latin typeface="Arial"/>
              </a:rPr>
              <a:t>3</a:t>
            </a:r>
            <a:br>
              <a:rPr sz="2400"/>
            </a:b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9280" y="18900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TASK 4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112536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Copy these phrases correctly </a:t>
            </a:r>
            <a:br>
              <a:rPr sz="3200"/>
            </a:b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onto your she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04000" y="189000"/>
            <a:ext cx="2158920" cy="2016000"/>
          </a:xfrm>
          <a:prstGeom prst="donut">
            <a:avLst>
              <a:gd name="adj" fmla="val 757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You</a:t>
            </a:r>
            <a:br>
              <a:rPr sz="2400"/>
            </a:b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have</a:t>
            </a:r>
            <a:br>
              <a:rPr sz="2400"/>
            </a:b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2</a:t>
            </a:r>
            <a:br>
              <a:rPr sz="2400"/>
            </a:b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2565360"/>
            <a:ext cx="8569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Bonjour, ça va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J’ai trois bics ble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Comment t’appelles-tu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9280" y="18900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TASK 4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112536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Copy these phrases correctly </a:t>
            </a:r>
            <a:br>
              <a:rPr sz="3200"/>
            </a:b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onto your she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04000" y="189000"/>
            <a:ext cx="2158920" cy="2016000"/>
          </a:xfrm>
          <a:prstGeom prst="donut">
            <a:avLst>
              <a:gd name="adj" fmla="val 757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1</a:t>
            </a:r>
            <a:br>
              <a:rPr sz="2800"/>
            </a:b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minute</a:t>
            </a:r>
            <a:br>
              <a:rPr sz="2800"/>
            </a:b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2565360"/>
            <a:ext cx="8569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Bonjour, ça va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J’ai trois bics ble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Comment t’appelles-tu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9280" y="18900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TASK 5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1125360"/>
            <a:ext cx="864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Without using any sheets or</a:t>
            </a:r>
            <a:br>
              <a:rPr sz="3200"/>
            </a:b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books, write these French words</a:t>
            </a:r>
            <a:br>
              <a:rPr sz="3200"/>
            </a:b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on your she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189000"/>
            <a:ext cx="2158920" cy="2016000"/>
          </a:xfrm>
          <a:prstGeom prst="donut">
            <a:avLst>
              <a:gd name="adj" fmla="val 757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You</a:t>
            </a:r>
            <a:br>
              <a:rPr sz="2400"/>
            </a:b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have</a:t>
            </a:r>
            <a:br>
              <a:rPr sz="2400"/>
            </a:b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3</a:t>
            </a:r>
            <a:br>
              <a:rPr sz="2400"/>
            </a:b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24000" y="2565360"/>
            <a:ext cx="4319640" cy="4032360"/>
          </a:xfrm>
          <a:prstGeom prst="octagon">
            <a:avLst>
              <a:gd name="adj" fmla="val 29287"/>
            </a:avLst>
          </a:prstGeom>
          <a:solidFill>
            <a:srgbClr val="f1ad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April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Seve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Pe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I hav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5.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Coff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9280" y="18900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TASK 5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1125360"/>
            <a:ext cx="864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Without using any sheets or</a:t>
            </a:r>
            <a:br>
              <a:rPr sz="3200"/>
            </a:b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books, write these French words</a:t>
            </a:r>
            <a:br>
              <a:rPr sz="3200"/>
            </a:b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on your she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04000" y="189000"/>
            <a:ext cx="2158920" cy="2016000"/>
          </a:xfrm>
          <a:prstGeom prst="donut">
            <a:avLst>
              <a:gd name="adj" fmla="val 757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2</a:t>
            </a:r>
            <a:br>
              <a:rPr sz="2800"/>
            </a:b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minutes</a:t>
            </a:r>
            <a:br>
              <a:rPr sz="2800"/>
            </a:b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24000" y="2565360"/>
            <a:ext cx="4319640" cy="4032360"/>
          </a:xfrm>
          <a:prstGeom prst="octagon">
            <a:avLst>
              <a:gd name="adj" fmla="val 29287"/>
            </a:avLst>
          </a:prstGeom>
          <a:solidFill>
            <a:srgbClr val="f1ad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April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Seve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Pe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I hav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5.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Coff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9280" y="18900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TASK 5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1125360"/>
            <a:ext cx="864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Without using any sheets or</a:t>
            </a:r>
            <a:br>
              <a:rPr sz="3200"/>
            </a:b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books, write these French words</a:t>
            </a:r>
            <a:br>
              <a:rPr sz="3200"/>
            </a:b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on your she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04000" y="189000"/>
            <a:ext cx="2158920" cy="2016000"/>
          </a:xfrm>
          <a:prstGeom prst="donut">
            <a:avLst>
              <a:gd name="adj" fmla="val 757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1</a:t>
            </a:r>
            <a:br>
              <a:rPr sz="2800"/>
            </a:b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minute</a:t>
            </a:r>
            <a:br>
              <a:rPr sz="2800"/>
            </a:b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24000" y="2565360"/>
            <a:ext cx="4319640" cy="4032360"/>
          </a:xfrm>
          <a:prstGeom prst="octagon">
            <a:avLst>
              <a:gd name="adj" fmla="val 29287"/>
            </a:avLst>
          </a:prstGeom>
          <a:solidFill>
            <a:srgbClr val="f1ad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April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Seve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Pe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I hav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5.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Coff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916360" y="1989000"/>
            <a:ext cx="3386160" cy="21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9280" y="18900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TASK 1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112536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Copy these words correctly onto </a:t>
            </a:r>
            <a:br>
              <a:rPr sz="3200"/>
            </a:b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your she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2565360"/>
            <a:ext cx="849636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 Rounded MT Bold"/>
              </a:rPr>
              <a:t>le deux novembre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 Rounded MT Bold"/>
              </a:rPr>
              <a:t>Les Jours de la Sem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lundi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Monda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mardi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Tuesda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mercredi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Wednesda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jeudi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Thursda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vendredi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Frida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samedi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Saturda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dimanche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Sun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04000" y="189000"/>
            <a:ext cx="2158920" cy="2016000"/>
          </a:xfrm>
          <a:prstGeom prst="donut">
            <a:avLst>
              <a:gd name="adj" fmla="val 757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2</a:t>
            </a:r>
            <a:br>
              <a:rPr sz="2800"/>
            </a:b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minutes</a:t>
            </a:r>
            <a:br>
              <a:rPr sz="2800"/>
            </a:b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18900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TASK 1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112536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Copy these words correctly onto </a:t>
            </a:r>
            <a:br>
              <a:rPr sz="3200"/>
            </a:b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your she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2565360"/>
            <a:ext cx="849636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 Rounded MT Bold"/>
              </a:rPr>
              <a:t>le deux novembre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 Rounded MT Bold"/>
              </a:rPr>
              <a:t>Les Jours de la Sem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lundi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Monda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mardi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Tuesda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mercredi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Wednesda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jeudi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Thursda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vendredi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Frida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samedi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Saturda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dimanche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Sun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04000" y="189000"/>
            <a:ext cx="2158920" cy="2016000"/>
          </a:xfrm>
          <a:prstGeom prst="donut">
            <a:avLst>
              <a:gd name="adj" fmla="val 757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1</a:t>
            </a:r>
            <a:br>
              <a:rPr sz="2800"/>
            </a:b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minute</a:t>
            </a:r>
            <a:br>
              <a:rPr sz="2800"/>
            </a:b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9280" y="18900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TASK 2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112536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Complete the sentences using</a:t>
            </a:r>
            <a:br>
              <a:rPr sz="3200"/>
            </a:b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the words in the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04000" y="189000"/>
            <a:ext cx="2158920" cy="2016000"/>
          </a:xfrm>
          <a:prstGeom prst="donut">
            <a:avLst>
              <a:gd name="adj" fmla="val 757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You</a:t>
            </a:r>
            <a:br>
              <a:rPr sz="2400"/>
            </a:b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have</a:t>
            </a:r>
            <a:br>
              <a:rPr sz="2400"/>
            </a:b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4</a:t>
            </a:r>
            <a:br>
              <a:rPr sz="2400"/>
            </a:b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95640" y="2421000"/>
            <a:ext cx="4752720" cy="3993480"/>
          </a:xfrm>
          <a:prstGeom prst="rect">
            <a:avLst/>
          </a:prstGeom>
          <a:noFill/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blanch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et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pa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s’appell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sorcièr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trè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un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vin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79280" y="18900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TASK 2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112536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Complete the sentences using</a:t>
            </a:r>
            <a:br>
              <a:rPr sz="3200"/>
            </a:b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the words in the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04000" y="189000"/>
            <a:ext cx="2158920" cy="2016000"/>
          </a:xfrm>
          <a:prstGeom prst="donut">
            <a:avLst>
              <a:gd name="adj" fmla="val 757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3</a:t>
            </a:r>
            <a:br>
              <a:rPr sz="2800"/>
            </a:b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minutes</a:t>
            </a:r>
            <a:br>
              <a:rPr sz="2800"/>
            </a:b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95640" y="2421000"/>
            <a:ext cx="4752720" cy="3993480"/>
          </a:xfrm>
          <a:prstGeom prst="rect">
            <a:avLst/>
          </a:prstGeom>
          <a:noFill/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blanch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et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pa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s’appell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sorcièr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trè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un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vin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79280" y="18900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TASK 2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12536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Complete the sentences using</a:t>
            </a:r>
            <a:br>
              <a:rPr sz="3200"/>
            </a:b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the words in the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04000" y="189000"/>
            <a:ext cx="2158920" cy="2016000"/>
          </a:xfrm>
          <a:prstGeom prst="donut">
            <a:avLst>
              <a:gd name="adj" fmla="val 757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2</a:t>
            </a:r>
            <a:br>
              <a:rPr sz="2800"/>
            </a:b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minutes</a:t>
            </a:r>
            <a:br>
              <a:rPr sz="2800"/>
            </a:b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2421000"/>
            <a:ext cx="4752720" cy="3993480"/>
          </a:xfrm>
          <a:prstGeom prst="rect">
            <a:avLst/>
          </a:prstGeom>
          <a:noFill/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blanch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et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pa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s’appell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sorcièr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trè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un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vin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9280" y="18900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TASK 2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112536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Complete the sentences using</a:t>
            </a:r>
            <a:br>
              <a:rPr sz="3200"/>
            </a:b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the words in the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04000" y="189000"/>
            <a:ext cx="2158920" cy="2016000"/>
          </a:xfrm>
          <a:prstGeom prst="donut">
            <a:avLst>
              <a:gd name="adj" fmla="val 757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1</a:t>
            </a:r>
            <a:br>
              <a:rPr sz="2800"/>
            </a:b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minute</a:t>
            </a:r>
            <a:br>
              <a:rPr sz="2800"/>
            </a:b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95640" y="2421000"/>
            <a:ext cx="4752720" cy="3993480"/>
          </a:xfrm>
          <a:prstGeom prst="rect">
            <a:avLst/>
          </a:prstGeom>
          <a:noFill/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blanch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et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pa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s’appell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sorcièr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trè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un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vin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79280" y="18900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TASK 3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112536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Label the pictures on your sheet</a:t>
            </a:r>
            <a:br>
              <a:rPr sz="3200"/>
            </a:b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using these w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04000" y="189000"/>
            <a:ext cx="2158920" cy="2016000"/>
          </a:xfrm>
          <a:prstGeom prst="donut">
            <a:avLst>
              <a:gd name="adj" fmla="val 757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You</a:t>
            </a:r>
            <a:br>
              <a:rPr sz="2400"/>
            </a:b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have</a:t>
            </a:r>
            <a:br>
              <a:rPr sz="2400"/>
            </a:b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2</a:t>
            </a:r>
            <a:br>
              <a:rPr sz="2400"/>
            </a:b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71640" y="2492280"/>
            <a:ext cx="7416720" cy="3673440"/>
          </a:xfrm>
          <a:prstGeom prst="roundRect">
            <a:avLst>
              <a:gd name="adj" fmla="val 16667"/>
            </a:avLst>
          </a:prstGeom>
          <a:solidFill>
            <a:srgbClr val="fdf81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au revoir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deux crayon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ma soeur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un crayon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un stylo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une voitur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79280" y="18900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TASK 3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112536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Label the pictures on your sheet</a:t>
            </a:r>
            <a:br>
              <a:rPr sz="3200"/>
            </a:br>
            <a:r>
              <a:rPr b="1" lang="en-GB" sz="3200" spc="-1" strike="noStrike">
                <a:solidFill>
                  <a:srgbClr val="990099"/>
                </a:solidFill>
                <a:latin typeface="Arial Rounded MT Bold"/>
              </a:rPr>
              <a:t>using these w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04000" y="189000"/>
            <a:ext cx="2158920" cy="2016000"/>
          </a:xfrm>
          <a:prstGeom prst="donut">
            <a:avLst>
              <a:gd name="adj" fmla="val 757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1</a:t>
            </a:r>
            <a:br>
              <a:rPr sz="2800"/>
            </a:b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minute</a:t>
            </a:r>
            <a:br>
              <a:rPr sz="2800"/>
            </a:b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71640" y="2492280"/>
            <a:ext cx="7416720" cy="3673440"/>
          </a:xfrm>
          <a:prstGeom prst="roundRect">
            <a:avLst>
              <a:gd name="adj" fmla="val 16667"/>
            </a:avLst>
          </a:prstGeom>
          <a:solidFill>
            <a:srgbClr val="fdf81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au revoir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deux crayon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ma soeur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un crayon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un stylo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une voitur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09:10:12Z</dcterms:created>
  <dc:creator>CSeccombe</dc:creator>
  <dc:description/>
  <dc:language>en-US</dc:language>
  <cp:lastModifiedBy>CSeccombe</cp:lastModifiedBy>
  <dcterms:modified xsi:type="dcterms:W3CDTF">2005-11-21T13:14:42Z</dcterms:modified>
  <cp:revision>5</cp:revision>
  <dc:subject/>
  <dc:title>Slide 1</dc:title>
</cp:coreProperties>
</file>