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gif" ContentType="image/gif"/>
  <Override PartName="/ppt/media/image6.wmf" ContentType="image/x-wmf"/>
  <Override PartName="/ppt/media/image11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864B-4A4C-4ED1-B466-B0966E1DA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CA15-2388-44B1-B5A8-15DCA87FB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64F9-6E43-4C4B-8DB7-635A6FD3B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56CC-8643-4337-85FF-B91E2F531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E7B5-6458-492B-B09A-B3F883962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ED9D-8E0B-4E0B-A42F-7568B85C8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23B3-8457-46B3-BFBA-C4A6E69F9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7D26-7609-453C-B232-DCABC1279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FC4F-D0E7-4CAA-91D3-F0DBE9B5D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9A84-0A3F-4F4C-AF73-DE89BAE10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891D-EA7B-46BD-8B39-6F110BE75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B384-9F21-4D3F-B174-E60F6F3C3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AC458-2079-44A1-AF35-FDC5E8C4FE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hyperlink" Target="http://www.sunderlandschools.org/mfl-sunderland" TargetMode="External"/><Relationship Id="rId1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hyperlink" Target="http://www.sunderlandschools.org/mfl-sunderland" TargetMode="External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8900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Papyrus"/>
              </a:rPr>
              <a:t>Une potion magiq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976320" cy="801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588000" y="0"/>
            <a:ext cx="935280" cy="933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witchani1-5.gif (4989 bytes)"/>
          <p:cNvPicPr/>
          <p:nvPr/>
        </p:nvPicPr>
        <p:blipFill>
          <a:blip r:embed="rId3"/>
          <a:stretch/>
        </p:blipFill>
        <p:spPr>
          <a:xfrm>
            <a:off x="3059280" y="1916280"/>
            <a:ext cx="3384360" cy="2971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324000" y="981000"/>
            <a:ext cx="912600" cy="935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1619280" y="2276640"/>
            <a:ext cx="879480" cy="1008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250920" y="3645000"/>
            <a:ext cx="804600" cy="1008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6804000" y="40766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6804000" y="2060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8317080" y="3141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0"/>
          <a:stretch/>
        </p:blipFill>
        <p:spPr>
          <a:xfrm>
            <a:off x="8244000" y="112536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1"/>
          <a:stretch/>
        </p:blipFill>
        <p:spPr>
          <a:xfrm>
            <a:off x="8317080" y="515772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2"/>
          <a:stretch/>
        </p:blipFill>
        <p:spPr>
          <a:xfrm>
            <a:off x="2050920" y="515772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3"/>
          <a:stretch/>
        </p:blipFill>
        <p:spPr>
          <a:xfrm>
            <a:off x="5076720" y="5950080"/>
            <a:ext cx="1873440" cy="5731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98100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32000" y="1197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242100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27082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57336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42920" y="386064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5300640"/>
            <a:ext cx="6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5373720"/>
            <a:ext cx="17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6021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03640" y="602136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51640" y="530064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219640" y="5373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35280" y="6597720"/>
            <a:ext cx="730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MFL Sunderland 2006 CS 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http://www.sunderlandschools.org/mfl-sunderla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16720" y="42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416720" y="4221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88000" y="3141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164360" y="31417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516720" y="2060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416720" y="213372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580000" y="1197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84720" y="1197000"/>
            <a:ext cx="21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79280" y="18900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Papyrus"/>
              </a:rPr>
              <a:t>Une potion magiq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976320" cy="80172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6588000" y="0"/>
            <a:ext cx="935280" cy="93348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witchani1-5.gif (4989 bytes)"/>
          <p:cNvPicPr/>
          <p:nvPr/>
        </p:nvPicPr>
        <p:blipFill>
          <a:blip r:embed="rId3"/>
          <a:stretch/>
        </p:blipFill>
        <p:spPr>
          <a:xfrm>
            <a:off x="3059280" y="1916280"/>
            <a:ext cx="3384360" cy="297180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4"/>
          <a:stretch/>
        </p:blipFill>
        <p:spPr>
          <a:xfrm>
            <a:off x="324000" y="981000"/>
            <a:ext cx="912600" cy="93528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5"/>
          <a:stretch/>
        </p:blipFill>
        <p:spPr>
          <a:xfrm>
            <a:off x="1619280" y="2276640"/>
            <a:ext cx="879480" cy="100800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6"/>
          <a:stretch/>
        </p:blipFill>
        <p:spPr>
          <a:xfrm>
            <a:off x="250920" y="3645000"/>
            <a:ext cx="804600" cy="100800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7"/>
          <a:stretch/>
        </p:blipFill>
        <p:spPr>
          <a:xfrm>
            <a:off x="6804000" y="40766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8"/>
          <a:stretch/>
        </p:blipFill>
        <p:spPr>
          <a:xfrm>
            <a:off x="6804000" y="2060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9"/>
          <a:stretch/>
        </p:blipFill>
        <p:spPr>
          <a:xfrm>
            <a:off x="8317080" y="3141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10"/>
          <a:stretch/>
        </p:blipFill>
        <p:spPr>
          <a:xfrm>
            <a:off x="8244000" y="112536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11"/>
          <a:stretch/>
        </p:blipFill>
        <p:spPr>
          <a:xfrm>
            <a:off x="8317080" y="515772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12"/>
          <a:stretch/>
        </p:blipFill>
        <p:spPr>
          <a:xfrm>
            <a:off x="2050920" y="515772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13"/>
          <a:stretch/>
        </p:blipFill>
        <p:spPr>
          <a:xfrm>
            <a:off x="5076720" y="5950080"/>
            <a:ext cx="1873440" cy="57312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0" y="98100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332000" y="1197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0" y="242100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39640" y="27082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0" y="357336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042920" y="386064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apa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0" y="5300640"/>
            <a:ext cx="6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24000" y="5373720"/>
            <a:ext cx="17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m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00360" y="6021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203640" y="602136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l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651640" y="530064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itroui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219640" y="5373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516720" y="42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7416720" y="4221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ig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588000" y="3141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7164360" y="31417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16720" y="2060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416720" y="213372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u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580000" y="1197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084720" y="1197000"/>
            <a:ext cx="21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79280" y="18900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Papyrus"/>
              </a:rPr>
              <a:t>Une potion magiq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976320" cy="80172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6588000" y="0"/>
            <a:ext cx="935280" cy="93348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witchani1-5.gif (4989 bytes)"/>
          <p:cNvPicPr/>
          <p:nvPr/>
        </p:nvPicPr>
        <p:blipFill>
          <a:blip r:embed="rId3"/>
          <a:stretch/>
        </p:blipFill>
        <p:spPr>
          <a:xfrm>
            <a:off x="3059280" y="1916280"/>
            <a:ext cx="3384360" cy="297180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4"/>
          <a:stretch/>
        </p:blipFill>
        <p:spPr>
          <a:xfrm>
            <a:off x="324000" y="981000"/>
            <a:ext cx="912600" cy="93528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5"/>
          <a:stretch/>
        </p:blipFill>
        <p:spPr>
          <a:xfrm>
            <a:off x="1619280" y="2276640"/>
            <a:ext cx="879480" cy="100800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6"/>
          <a:stretch/>
        </p:blipFill>
        <p:spPr>
          <a:xfrm>
            <a:off x="250920" y="3645000"/>
            <a:ext cx="804600" cy="100800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7"/>
          <a:stretch/>
        </p:blipFill>
        <p:spPr>
          <a:xfrm>
            <a:off x="6804000" y="40766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8"/>
          <a:stretch/>
        </p:blipFill>
        <p:spPr>
          <a:xfrm>
            <a:off x="6804000" y="2060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9"/>
          <a:stretch/>
        </p:blipFill>
        <p:spPr>
          <a:xfrm>
            <a:off x="8317080" y="3141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10"/>
          <a:stretch/>
        </p:blipFill>
        <p:spPr>
          <a:xfrm>
            <a:off x="8244000" y="112536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11"/>
          <a:stretch/>
        </p:blipFill>
        <p:spPr>
          <a:xfrm>
            <a:off x="8317080" y="515772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12"/>
          <a:stretch/>
        </p:blipFill>
        <p:spPr>
          <a:xfrm>
            <a:off x="2050920" y="515772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13"/>
          <a:stretch/>
        </p:blipFill>
        <p:spPr>
          <a:xfrm>
            <a:off x="5076720" y="5950080"/>
            <a:ext cx="1873440" cy="57312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0" y="98100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332000" y="1197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0" y="242100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39640" y="27082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0" y="357336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042920" y="386064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apa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0" y="5300640"/>
            <a:ext cx="6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24000" y="5373720"/>
            <a:ext cx="17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m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700360" y="6021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203640" y="602136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l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651640" y="530064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itroui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219640" y="5373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6516720" y="42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416720" y="4221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ig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588000" y="3141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164360" y="31417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516720" y="2060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416720" y="213372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u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580000" y="1197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084720" y="1197000"/>
            <a:ext cx="21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aig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79280" y="18900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Papyrus"/>
              </a:rPr>
              <a:t>Une potion magiq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976320" cy="80172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/>
          <p:cNvPicPr/>
          <p:nvPr/>
        </p:nvPicPr>
        <p:blipFill>
          <a:blip r:embed="rId2"/>
          <a:stretch/>
        </p:blipFill>
        <p:spPr>
          <a:xfrm>
            <a:off x="6588000" y="0"/>
            <a:ext cx="935280" cy="93348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witchani1-5.gif (4989 bytes)"/>
          <p:cNvPicPr/>
          <p:nvPr/>
        </p:nvPicPr>
        <p:blipFill>
          <a:blip r:embed="rId3"/>
          <a:stretch/>
        </p:blipFill>
        <p:spPr>
          <a:xfrm>
            <a:off x="3059280" y="1916280"/>
            <a:ext cx="3384360" cy="297180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4"/>
          <a:stretch/>
        </p:blipFill>
        <p:spPr>
          <a:xfrm>
            <a:off x="324000" y="981000"/>
            <a:ext cx="912600" cy="93528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5"/>
          <a:stretch/>
        </p:blipFill>
        <p:spPr>
          <a:xfrm>
            <a:off x="324000" y="2276640"/>
            <a:ext cx="879480" cy="100800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6"/>
          <a:stretch/>
        </p:blipFill>
        <p:spPr>
          <a:xfrm>
            <a:off x="250920" y="3645000"/>
            <a:ext cx="804600" cy="100800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7"/>
          <a:stretch/>
        </p:blipFill>
        <p:spPr>
          <a:xfrm>
            <a:off x="6804000" y="40766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8"/>
          <a:stretch/>
        </p:blipFill>
        <p:spPr>
          <a:xfrm>
            <a:off x="6804000" y="2060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/>
          <p:cNvPicPr/>
          <p:nvPr/>
        </p:nvPicPr>
        <p:blipFill>
          <a:blip r:embed="rId9"/>
          <a:stretch/>
        </p:blipFill>
        <p:spPr>
          <a:xfrm>
            <a:off x="6877080" y="3068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10"/>
          <a:stretch/>
        </p:blipFill>
        <p:spPr>
          <a:xfrm>
            <a:off x="5940360" y="105264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439" name="" descr=""/>
          <p:cNvPicPr/>
          <p:nvPr/>
        </p:nvPicPr>
        <p:blipFill>
          <a:blip r:embed="rId11"/>
          <a:stretch/>
        </p:blipFill>
        <p:spPr>
          <a:xfrm>
            <a:off x="5508720" y="5300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/>
          <p:cNvPicPr/>
          <p:nvPr/>
        </p:nvPicPr>
        <p:blipFill>
          <a:blip r:embed="rId12"/>
          <a:stretch/>
        </p:blipFill>
        <p:spPr>
          <a:xfrm>
            <a:off x="324000" y="5084640"/>
            <a:ext cx="936360" cy="93672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13"/>
          <a:stretch/>
        </p:blipFill>
        <p:spPr>
          <a:xfrm>
            <a:off x="2987640" y="6021360"/>
            <a:ext cx="1873440" cy="57312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0" y="98100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0" y="242100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357336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0" y="5300640"/>
            <a:ext cx="6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700360" y="6021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219640" y="5373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516720" y="42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6588000" y="3141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516720" y="2060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580000" y="1197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258920" y="1484280"/>
            <a:ext cx="259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332000" y="5661000"/>
            <a:ext cx="259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932360" y="6308640"/>
            <a:ext cx="259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227640" y="5661000"/>
            <a:ext cx="259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415280" y="4437000"/>
            <a:ext cx="17287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380360" y="3213000"/>
            <a:ext cx="17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7451640" y="2349360"/>
            <a:ext cx="169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551640" y="1413000"/>
            <a:ext cx="259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332000" y="2708280"/>
            <a:ext cx="158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116000" y="4149720"/>
            <a:ext cx="180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635280" y="1557360"/>
            <a:ext cx="2305080" cy="520560"/>
          </a:xfrm>
          <a:prstGeom prst="rect">
            <a:avLst/>
          </a:prstGeom>
          <a:solidFill>
            <a:srgbClr val="ffff00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COMBIEN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280" y="18900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Papyrus"/>
              </a:rPr>
              <a:t>Une potion magiq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976320" cy="801720"/>
          </a:xfrm>
          <a:prstGeom prst="rect">
            <a:avLst/>
          </a:prstGeom>
          <a:ln w="0">
            <a:noFill/>
          </a:ln>
        </p:spPr>
      </p:pic>
      <p:pic>
        <p:nvPicPr>
          <p:cNvPr id="466" name="" descr=""/>
          <p:cNvPicPr/>
          <p:nvPr/>
        </p:nvPicPr>
        <p:blipFill>
          <a:blip r:embed="rId2"/>
          <a:stretch/>
        </p:blipFill>
        <p:spPr>
          <a:xfrm>
            <a:off x="6588000" y="0"/>
            <a:ext cx="935280" cy="93348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179280" y="981000"/>
            <a:ext cx="896472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itrouill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f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mpki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ng (m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aignée (f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ide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live (f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l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rapau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m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uris (f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us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euf (m) de lézar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zard’s eg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 (m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nt (f) de loup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lf’s to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rpent (m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nak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it (m) de …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lk of 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eil (m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y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tte (f) de …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ot of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eux (m.pl.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ye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eue (m) de …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il of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oigt (m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nge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rotte (f) de …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ropping of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renouille (f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o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umon (m) de …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ung of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r (m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eur (m) de …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art of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mace (f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l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uche (f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urmi (m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79280" y="18900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Papyrus"/>
              </a:rPr>
              <a:t>Une potion magiq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976320" cy="80172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/>
          <p:cNvPicPr/>
          <p:nvPr/>
        </p:nvPicPr>
        <p:blipFill>
          <a:blip r:embed="rId2"/>
          <a:stretch/>
        </p:blipFill>
        <p:spPr>
          <a:xfrm>
            <a:off x="6588000" y="0"/>
            <a:ext cx="935280" cy="93348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>
            <a:off x="0" y="1125360"/>
            <a:ext cx="914400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ggestions for 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ive pupils a copy of the first slide.  Dictate the vocabulary by spelling it out – good alphabet revision !  Alternatively more able pupils could use the dictionary to track down the wo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se slides 2-11 to check that the words are spelt rig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ctate some weights, measures and containers (we used the ones in Metro 2 Rouge), then pupils can practise writing out (for example) “un pot de dents” and “un litre de sang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n pupils use the vocab on slide 13 to write their own shopping list for a magic po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835280" y="6597720"/>
            <a:ext cx="730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MFL Sunderland 2006 CS 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sunderlandschools.org/mfl-sunderla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79280" y="18900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Papyrus"/>
              </a:rPr>
              <a:t>Une potion magiq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976320" cy="8017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588000" y="0"/>
            <a:ext cx="935280" cy="9334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witchani1-5.gif (4989 bytes)"/>
          <p:cNvPicPr/>
          <p:nvPr/>
        </p:nvPicPr>
        <p:blipFill>
          <a:blip r:embed="rId3"/>
          <a:stretch/>
        </p:blipFill>
        <p:spPr>
          <a:xfrm>
            <a:off x="3059280" y="1916280"/>
            <a:ext cx="3384360" cy="2971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324000" y="981000"/>
            <a:ext cx="912600" cy="9352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1619280" y="2276640"/>
            <a:ext cx="879480" cy="1008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6"/>
          <a:stretch/>
        </p:blipFill>
        <p:spPr>
          <a:xfrm>
            <a:off x="250920" y="3645000"/>
            <a:ext cx="804600" cy="1008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7"/>
          <a:stretch/>
        </p:blipFill>
        <p:spPr>
          <a:xfrm>
            <a:off x="6804000" y="40766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8"/>
          <a:stretch/>
        </p:blipFill>
        <p:spPr>
          <a:xfrm>
            <a:off x="6804000" y="2060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9"/>
          <a:stretch/>
        </p:blipFill>
        <p:spPr>
          <a:xfrm>
            <a:off x="8317080" y="3141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0"/>
          <a:stretch/>
        </p:blipFill>
        <p:spPr>
          <a:xfrm>
            <a:off x="8244000" y="112536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11"/>
          <a:stretch/>
        </p:blipFill>
        <p:spPr>
          <a:xfrm>
            <a:off x="8317080" y="515772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12"/>
          <a:stretch/>
        </p:blipFill>
        <p:spPr>
          <a:xfrm>
            <a:off x="2050920" y="515772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13"/>
          <a:stretch/>
        </p:blipFill>
        <p:spPr>
          <a:xfrm>
            <a:off x="5076720" y="5950080"/>
            <a:ext cx="1873440" cy="5731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98100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32000" y="1197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242100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9640" y="27082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357336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42920" y="386064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5300640"/>
            <a:ext cx="6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5373720"/>
            <a:ext cx="17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700360" y="6021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03640" y="602136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651640" y="530064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219640" y="5373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516720" y="42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416720" y="4221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588000" y="3141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164360" y="31417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16720" y="2060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416720" y="213372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580000" y="1197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84720" y="1197000"/>
            <a:ext cx="21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9280" y="18900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Papyrus"/>
              </a:rPr>
              <a:t>Une potion magiq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976320" cy="8017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588000" y="0"/>
            <a:ext cx="935280" cy="9334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witchani1-5.gif (4989 bytes)"/>
          <p:cNvPicPr/>
          <p:nvPr/>
        </p:nvPicPr>
        <p:blipFill>
          <a:blip r:embed="rId3"/>
          <a:stretch/>
        </p:blipFill>
        <p:spPr>
          <a:xfrm>
            <a:off x="3059280" y="1916280"/>
            <a:ext cx="3384360" cy="29718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324000" y="981000"/>
            <a:ext cx="912600" cy="9352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1619280" y="2276640"/>
            <a:ext cx="879480" cy="1008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250920" y="3645000"/>
            <a:ext cx="804600" cy="1008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7"/>
          <a:stretch/>
        </p:blipFill>
        <p:spPr>
          <a:xfrm>
            <a:off x="6804000" y="40766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8"/>
          <a:stretch/>
        </p:blipFill>
        <p:spPr>
          <a:xfrm>
            <a:off x="6804000" y="2060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9"/>
          <a:stretch/>
        </p:blipFill>
        <p:spPr>
          <a:xfrm>
            <a:off x="8317080" y="3141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10"/>
          <a:stretch/>
        </p:blipFill>
        <p:spPr>
          <a:xfrm>
            <a:off x="8244000" y="112536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1"/>
          <a:stretch/>
        </p:blipFill>
        <p:spPr>
          <a:xfrm>
            <a:off x="8317080" y="515772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12"/>
          <a:stretch/>
        </p:blipFill>
        <p:spPr>
          <a:xfrm>
            <a:off x="2050920" y="515772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13"/>
          <a:stretch/>
        </p:blipFill>
        <p:spPr>
          <a:xfrm>
            <a:off x="5076720" y="5950080"/>
            <a:ext cx="1873440" cy="573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0" y="98100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32000" y="1197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242100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9640" y="27082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357336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042920" y="386064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5300640"/>
            <a:ext cx="6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4000" y="5373720"/>
            <a:ext cx="17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700360" y="6021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3640" y="602136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651640" y="530064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219640" y="5373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516720" y="42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416720" y="4221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588000" y="3141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164360" y="31417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516720" y="2060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416720" y="213372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580000" y="1197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84720" y="1197000"/>
            <a:ext cx="21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9280" y="18900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Papyrus"/>
              </a:rPr>
              <a:t>Une potion magiq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976320" cy="8017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6588000" y="0"/>
            <a:ext cx="935280" cy="9334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witchani1-5.gif (4989 bytes)"/>
          <p:cNvPicPr/>
          <p:nvPr/>
        </p:nvPicPr>
        <p:blipFill>
          <a:blip r:embed="rId3"/>
          <a:stretch/>
        </p:blipFill>
        <p:spPr>
          <a:xfrm>
            <a:off x="3059280" y="1916280"/>
            <a:ext cx="3384360" cy="29718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324000" y="981000"/>
            <a:ext cx="912600" cy="9352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5"/>
          <a:stretch/>
        </p:blipFill>
        <p:spPr>
          <a:xfrm>
            <a:off x="1619280" y="2276640"/>
            <a:ext cx="879480" cy="10080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6"/>
          <a:stretch/>
        </p:blipFill>
        <p:spPr>
          <a:xfrm>
            <a:off x="250920" y="3645000"/>
            <a:ext cx="804600" cy="1008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7"/>
          <a:stretch/>
        </p:blipFill>
        <p:spPr>
          <a:xfrm>
            <a:off x="6804000" y="40766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8"/>
          <a:stretch/>
        </p:blipFill>
        <p:spPr>
          <a:xfrm>
            <a:off x="6804000" y="2060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9"/>
          <a:stretch/>
        </p:blipFill>
        <p:spPr>
          <a:xfrm>
            <a:off x="8317080" y="3141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10"/>
          <a:stretch/>
        </p:blipFill>
        <p:spPr>
          <a:xfrm>
            <a:off x="8244000" y="112536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11"/>
          <a:stretch/>
        </p:blipFill>
        <p:spPr>
          <a:xfrm>
            <a:off x="8317080" y="515772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12"/>
          <a:stretch/>
        </p:blipFill>
        <p:spPr>
          <a:xfrm>
            <a:off x="2050920" y="515772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13"/>
          <a:stretch/>
        </p:blipFill>
        <p:spPr>
          <a:xfrm>
            <a:off x="5076720" y="5950080"/>
            <a:ext cx="1873440" cy="5731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0" y="98100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332000" y="1197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242100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9640" y="27082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357336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042920" y="386064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apa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5300640"/>
            <a:ext cx="6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4000" y="5373720"/>
            <a:ext cx="17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700360" y="6021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03640" y="602136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651640" y="530064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219640" y="5373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516720" y="42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416720" y="4221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588000" y="3141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164360" y="31417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516720" y="2060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416720" y="213372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580000" y="1197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084720" y="1197000"/>
            <a:ext cx="21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79280" y="18900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Papyrus"/>
              </a:rPr>
              <a:t>Une potion magiq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976320" cy="8017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6588000" y="0"/>
            <a:ext cx="935280" cy="9334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witchani1-5.gif (4989 bytes)"/>
          <p:cNvPicPr/>
          <p:nvPr/>
        </p:nvPicPr>
        <p:blipFill>
          <a:blip r:embed="rId3"/>
          <a:stretch/>
        </p:blipFill>
        <p:spPr>
          <a:xfrm>
            <a:off x="3059280" y="1916280"/>
            <a:ext cx="3384360" cy="29718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324000" y="981000"/>
            <a:ext cx="912600" cy="9352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5"/>
          <a:stretch/>
        </p:blipFill>
        <p:spPr>
          <a:xfrm>
            <a:off x="1619280" y="2276640"/>
            <a:ext cx="879480" cy="10080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6"/>
          <a:stretch/>
        </p:blipFill>
        <p:spPr>
          <a:xfrm>
            <a:off x="250920" y="3645000"/>
            <a:ext cx="804600" cy="10080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7"/>
          <a:stretch/>
        </p:blipFill>
        <p:spPr>
          <a:xfrm>
            <a:off x="6804000" y="40766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804000" y="2060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9"/>
          <a:stretch/>
        </p:blipFill>
        <p:spPr>
          <a:xfrm>
            <a:off x="8317080" y="3141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10"/>
          <a:stretch/>
        </p:blipFill>
        <p:spPr>
          <a:xfrm>
            <a:off x="8244000" y="112536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11"/>
          <a:stretch/>
        </p:blipFill>
        <p:spPr>
          <a:xfrm>
            <a:off x="8317080" y="515772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12"/>
          <a:stretch/>
        </p:blipFill>
        <p:spPr>
          <a:xfrm>
            <a:off x="2050920" y="515772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13"/>
          <a:stretch/>
        </p:blipFill>
        <p:spPr>
          <a:xfrm>
            <a:off x="5076720" y="5950080"/>
            <a:ext cx="1873440" cy="573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98100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332000" y="1197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242100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9640" y="27082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357336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042920" y="386064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apa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5300640"/>
            <a:ext cx="6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24000" y="5373720"/>
            <a:ext cx="17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m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700360" y="6021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203640" y="602136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651640" y="530064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219640" y="5373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516720" y="42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416720" y="4221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588000" y="3141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164360" y="31417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16720" y="2060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416720" y="213372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580000" y="1197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084720" y="1197000"/>
            <a:ext cx="21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79280" y="18900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Papyrus"/>
              </a:rPr>
              <a:t>Une potion magiq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976320" cy="8017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6588000" y="0"/>
            <a:ext cx="935280" cy="9334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witchani1-5.gif (4989 bytes)"/>
          <p:cNvPicPr/>
          <p:nvPr/>
        </p:nvPicPr>
        <p:blipFill>
          <a:blip r:embed="rId3"/>
          <a:stretch/>
        </p:blipFill>
        <p:spPr>
          <a:xfrm>
            <a:off x="3059280" y="1916280"/>
            <a:ext cx="3384360" cy="29718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4"/>
          <a:stretch/>
        </p:blipFill>
        <p:spPr>
          <a:xfrm>
            <a:off x="324000" y="981000"/>
            <a:ext cx="912600" cy="9352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5"/>
          <a:stretch/>
        </p:blipFill>
        <p:spPr>
          <a:xfrm>
            <a:off x="1619280" y="2276640"/>
            <a:ext cx="879480" cy="10080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6"/>
          <a:stretch/>
        </p:blipFill>
        <p:spPr>
          <a:xfrm>
            <a:off x="250920" y="3645000"/>
            <a:ext cx="804600" cy="10080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7"/>
          <a:stretch/>
        </p:blipFill>
        <p:spPr>
          <a:xfrm>
            <a:off x="6804000" y="40766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8"/>
          <a:stretch/>
        </p:blipFill>
        <p:spPr>
          <a:xfrm>
            <a:off x="6804000" y="2060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9"/>
          <a:stretch/>
        </p:blipFill>
        <p:spPr>
          <a:xfrm>
            <a:off x="8317080" y="3141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10"/>
          <a:stretch/>
        </p:blipFill>
        <p:spPr>
          <a:xfrm>
            <a:off x="8244000" y="112536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11"/>
          <a:stretch/>
        </p:blipFill>
        <p:spPr>
          <a:xfrm>
            <a:off x="8317080" y="515772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12"/>
          <a:stretch/>
        </p:blipFill>
        <p:spPr>
          <a:xfrm>
            <a:off x="2050920" y="515772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13"/>
          <a:stretch/>
        </p:blipFill>
        <p:spPr>
          <a:xfrm>
            <a:off x="5076720" y="5950080"/>
            <a:ext cx="1873440" cy="5731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0" y="98100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332000" y="1197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242100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39640" y="27082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357336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042920" y="386064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apa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5300640"/>
            <a:ext cx="6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24000" y="5373720"/>
            <a:ext cx="17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m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700360" y="6021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203640" y="602136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l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651640" y="530064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219640" y="5373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516720" y="42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416720" y="4221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588000" y="3141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164360" y="31417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516720" y="2060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416720" y="213372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580000" y="1197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084720" y="1197000"/>
            <a:ext cx="21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79280" y="18900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Papyrus"/>
              </a:rPr>
              <a:t>Une potion magiq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976320" cy="8017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6588000" y="0"/>
            <a:ext cx="935280" cy="93348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witchani1-5.gif (4989 bytes)"/>
          <p:cNvPicPr/>
          <p:nvPr/>
        </p:nvPicPr>
        <p:blipFill>
          <a:blip r:embed="rId3"/>
          <a:stretch/>
        </p:blipFill>
        <p:spPr>
          <a:xfrm>
            <a:off x="3059280" y="1916280"/>
            <a:ext cx="3384360" cy="29718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4"/>
          <a:stretch/>
        </p:blipFill>
        <p:spPr>
          <a:xfrm>
            <a:off x="324000" y="981000"/>
            <a:ext cx="912600" cy="93528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5"/>
          <a:stretch/>
        </p:blipFill>
        <p:spPr>
          <a:xfrm>
            <a:off x="1619280" y="2276640"/>
            <a:ext cx="879480" cy="10080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6"/>
          <a:stretch/>
        </p:blipFill>
        <p:spPr>
          <a:xfrm>
            <a:off x="250920" y="3645000"/>
            <a:ext cx="804600" cy="100800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7"/>
          <a:stretch/>
        </p:blipFill>
        <p:spPr>
          <a:xfrm>
            <a:off x="6804000" y="40766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8"/>
          <a:stretch/>
        </p:blipFill>
        <p:spPr>
          <a:xfrm>
            <a:off x="6804000" y="2060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9"/>
          <a:stretch/>
        </p:blipFill>
        <p:spPr>
          <a:xfrm>
            <a:off x="8317080" y="3141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10"/>
          <a:stretch/>
        </p:blipFill>
        <p:spPr>
          <a:xfrm>
            <a:off x="8244000" y="112536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11"/>
          <a:stretch/>
        </p:blipFill>
        <p:spPr>
          <a:xfrm>
            <a:off x="8317080" y="515772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12"/>
          <a:stretch/>
        </p:blipFill>
        <p:spPr>
          <a:xfrm>
            <a:off x="2050920" y="515772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13"/>
          <a:stretch/>
        </p:blipFill>
        <p:spPr>
          <a:xfrm>
            <a:off x="5076720" y="5950080"/>
            <a:ext cx="1873440" cy="57312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0" y="98100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332000" y="1197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242100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39640" y="27082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357336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042920" y="386064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apa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5300640"/>
            <a:ext cx="6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4000" y="5373720"/>
            <a:ext cx="17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m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00360" y="6021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203640" y="602136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l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651640" y="530064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itroui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19640" y="5373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516720" y="42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416720" y="4221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588000" y="3141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164360" y="31417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516720" y="2060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416720" y="213372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580000" y="1197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084720" y="1197000"/>
            <a:ext cx="21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79280" y="18900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Papyrus"/>
              </a:rPr>
              <a:t>Une potion magiq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976320" cy="80172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6588000" y="0"/>
            <a:ext cx="935280" cy="93348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witchani1-5.gif (4989 bytes)"/>
          <p:cNvPicPr/>
          <p:nvPr/>
        </p:nvPicPr>
        <p:blipFill>
          <a:blip r:embed="rId3"/>
          <a:stretch/>
        </p:blipFill>
        <p:spPr>
          <a:xfrm>
            <a:off x="3059280" y="1916280"/>
            <a:ext cx="3384360" cy="297180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4"/>
          <a:stretch/>
        </p:blipFill>
        <p:spPr>
          <a:xfrm>
            <a:off x="324000" y="981000"/>
            <a:ext cx="912600" cy="93528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1619280" y="2276640"/>
            <a:ext cx="879480" cy="100800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6"/>
          <a:stretch/>
        </p:blipFill>
        <p:spPr>
          <a:xfrm>
            <a:off x="250920" y="3645000"/>
            <a:ext cx="804600" cy="100800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7"/>
          <a:stretch/>
        </p:blipFill>
        <p:spPr>
          <a:xfrm>
            <a:off x="6804000" y="40766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8"/>
          <a:stretch/>
        </p:blipFill>
        <p:spPr>
          <a:xfrm>
            <a:off x="6804000" y="2060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9"/>
          <a:stretch/>
        </p:blipFill>
        <p:spPr>
          <a:xfrm>
            <a:off x="8317080" y="3141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10"/>
          <a:stretch/>
        </p:blipFill>
        <p:spPr>
          <a:xfrm>
            <a:off x="8244000" y="112536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11"/>
          <a:stretch/>
        </p:blipFill>
        <p:spPr>
          <a:xfrm>
            <a:off x="8317080" y="515772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12"/>
          <a:stretch/>
        </p:blipFill>
        <p:spPr>
          <a:xfrm>
            <a:off x="2050920" y="515772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13"/>
          <a:stretch/>
        </p:blipFill>
        <p:spPr>
          <a:xfrm>
            <a:off x="5076720" y="5950080"/>
            <a:ext cx="1873440" cy="57312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0" y="98100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332000" y="1197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242100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39640" y="27082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357336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042920" y="386064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apa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5300640"/>
            <a:ext cx="6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24000" y="5373720"/>
            <a:ext cx="17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m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700360" y="6021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203640" y="602136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l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651640" y="530064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itroui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219640" y="5373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516720" y="42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416720" y="4221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ig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0" y="3141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164360" y="31417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516720" y="2060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416720" y="213372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580000" y="1197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84720" y="1197000"/>
            <a:ext cx="21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79280" y="18900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Papyrus"/>
              </a:rPr>
              <a:t>Une potion magiq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976320" cy="80172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2"/>
          <a:stretch/>
        </p:blipFill>
        <p:spPr>
          <a:xfrm>
            <a:off x="6588000" y="0"/>
            <a:ext cx="935280" cy="93348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witchani1-5.gif (4989 bytes)"/>
          <p:cNvPicPr/>
          <p:nvPr/>
        </p:nvPicPr>
        <p:blipFill>
          <a:blip r:embed="rId3"/>
          <a:stretch/>
        </p:blipFill>
        <p:spPr>
          <a:xfrm>
            <a:off x="3059280" y="1916280"/>
            <a:ext cx="3384360" cy="29718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4"/>
          <a:stretch/>
        </p:blipFill>
        <p:spPr>
          <a:xfrm>
            <a:off x="324000" y="981000"/>
            <a:ext cx="912600" cy="9352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5"/>
          <a:stretch/>
        </p:blipFill>
        <p:spPr>
          <a:xfrm>
            <a:off x="1619280" y="2276640"/>
            <a:ext cx="879480" cy="100800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6"/>
          <a:stretch/>
        </p:blipFill>
        <p:spPr>
          <a:xfrm>
            <a:off x="250920" y="3645000"/>
            <a:ext cx="804600" cy="100800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7"/>
          <a:stretch/>
        </p:blipFill>
        <p:spPr>
          <a:xfrm>
            <a:off x="6804000" y="40766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8"/>
          <a:stretch/>
        </p:blipFill>
        <p:spPr>
          <a:xfrm>
            <a:off x="6804000" y="2060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9"/>
          <a:stretch/>
        </p:blipFill>
        <p:spPr>
          <a:xfrm>
            <a:off x="8317080" y="3141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10"/>
          <a:stretch/>
        </p:blipFill>
        <p:spPr>
          <a:xfrm>
            <a:off x="8244000" y="112536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11"/>
          <a:stretch/>
        </p:blipFill>
        <p:spPr>
          <a:xfrm>
            <a:off x="8317080" y="515772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12"/>
          <a:stretch/>
        </p:blipFill>
        <p:spPr>
          <a:xfrm>
            <a:off x="2050920" y="515772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13"/>
          <a:stretch/>
        </p:blipFill>
        <p:spPr>
          <a:xfrm>
            <a:off x="5076720" y="5950080"/>
            <a:ext cx="1873440" cy="57312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0" y="98100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332000" y="1197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0" y="242100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39640" y="27082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357336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042920" y="386064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apa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5300640"/>
            <a:ext cx="6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24000" y="5373720"/>
            <a:ext cx="17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m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700360" y="6021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03640" y="602136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l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651640" y="530064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itroui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219640" y="5373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516720" y="42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416720" y="4221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ig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588000" y="3141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164360" y="31417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516720" y="2060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416720" y="213372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580000" y="1197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084720" y="1197000"/>
            <a:ext cx="21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0T21:07:40Z</dcterms:created>
  <dc:creator>CSeccombe</dc:creator>
  <dc:description/>
  <dc:language>en-US</dc:language>
  <cp:lastModifiedBy>CSeccombe</cp:lastModifiedBy>
  <dcterms:modified xsi:type="dcterms:W3CDTF">2006-11-03T11:14:30Z</dcterms:modified>
  <cp:revision>9</cp:revision>
  <dc:subject/>
  <dc:title>Slide 1</dc:title>
</cp:coreProperties>
</file>