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2532-06F5-428F-9BCC-9D6229DD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96A1-66C1-4904-AAB7-C93D801F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4EA4-37B2-4817-BDD9-5CB6FB0F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718A-0A1A-42FE-BA95-02EF9FB18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36A5-1074-45FF-9778-B22081FD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B915-9584-4375-9A79-AA2232E0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A601-3C60-45C2-88B0-65292E9E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038F-4DF8-482B-88CD-0B4AD6AF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1C72-0E81-41D8-8C9F-FC15A155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8DFC-516C-490A-AEC2-81AFFAE0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97E5-F800-4DC8-85DF-4A95C944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AF79-7669-45DF-AFE2-75D28317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BA0C-CF02-4D4C-B5AF-60E5FDB61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hyperlink" Target="http://www.sunderlandschools.org/mfl-sunderland" TargetMode="External"/><Relationship Id="rId1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hyperlink" Target="http://www.sunderlandschools.org/mfl-sunderland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e potion mag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35280" y="6597720"/>
            <a:ext cx="73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MFL Sunderland 2006 CS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www.sunderlandschools.org/mfl-sunderl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64360" y="3141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e potion mag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apa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trou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ig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164360" y="3141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e potion mag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apa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trou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ig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64360" y="3141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aig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e potion mag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>
            <a:off x="32400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9"/>
          <a:stretch/>
        </p:blipFill>
        <p:spPr>
          <a:xfrm>
            <a:off x="6877080" y="3068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10"/>
          <a:stretch/>
        </p:blipFill>
        <p:spPr>
          <a:xfrm>
            <a:off x="5940360" y="1052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11"/>
          <a:stretch/>
        </p:blipFill>
        <p:spPr>
          <a:xfrm>
            <a:off x="5508720" y="530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12"/>
          <a:stretch/>
        </p:blipFill>
        <p:spPr>
          <a:xfrm>
            <a:off x="324000" y="508464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13"/>
          <a:stretch/>
        </p:blipFill>
        <p:spPr>
          <a:xfrm>
            <a:off x="2987640" y="602136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258920" y="148428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32000" y="566100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932360" y="630864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227640" y="566100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415280" y="4437000"/>
            <a:ext cx="1728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380360" y="3213000"/>
            <a:ext cx="17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451640" y="2349360"/>
            <a:ext cx="16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551640" y="141300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332000" y="2708280"/>
            <a:ext cx="158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116000" y="4149720"/>
            <a:ext cx="180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635280" y="1557360"/>
            <a:ext cx="230508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COMBIE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e potion mag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179280" y="981000"/>
            <a:ext cx="896472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itrouil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mpki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g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aignée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id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live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apau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is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u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euf (m) de lézar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zard’s 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nt (f) de lou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lf’s to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rpent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nak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it (m) de 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lk of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eil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y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tte (f) de 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ot of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eux (m.pl.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y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ue (m) de 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il of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igt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g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otte (f) de 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opping of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nouille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umon (m) de 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 of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eur (m) de 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rt of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mace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l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uche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urmi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e potion mag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0" y="1125360"/>
            <a:ext cx="91440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ggestions for 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ive pupils a copy of the first slide.  Dictate the vocabulary by spelling it out – good alphabet revision !  Alternatively more able pupils could use the dictionary to track down the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slides 2-11 to check that the words are spelt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ctate some weights, measures and containers (we used the ones in Metro 2 Rouge), then pupils can practise writing out (for example) “un pot de dents” and “un litre de sang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pupils use the vocab on slide 13 to write their own shopping list for a magic po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835280" y="6597720"/>
            <a:ext cx="73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MFL Sunderland 2006 CS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nderlandschools.org/mfl-sunderl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e potion mag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4360" y="3141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e potion mag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64360" y="3141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e potion mag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apa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164360" y="3141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e potion mag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apa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64360" y="3141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e potion mag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apa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164360" y="3141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e potion mag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apa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trou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164360" y="3141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e potion mag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apa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trou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ig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164360" y="3141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e potion mag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apa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trou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ig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164360" y="3141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21:07:40Z</dcterms:created>
  <dc:creator>CSeccombe</dc:creator>
  <dc:description/>
  <dc:language>en-US</dc:language>
  <cp:lastModifiedBy>CSeccombe</cp:lastModifiedBy>
  <dcterms:modified xsi:type="dcterms:W3CDTF">2006-11-03T11:14:30Z</dcterms:modified>
  <cp:revision>9</cp:revision>
  <dc:subject/>
  <dc:title>Slide 1</dc:title>
</cp:coreProperties>
</file>