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63F-0566-40C2-884B-426C85C2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48A-7103-481A-9302-599CA5A3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C16-FE18-43C1-AB96-FFDC5E94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5E8-DEBD-466B-8320-1994A2CF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DBE-769B-4BE1-BF63-D1D07616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5F4-CC54-48B1-84A7-0FD77454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7D2-DC8B-46F9-9E34-D875E203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806-B565-49B4-A295-374DA6A4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20D-A741-4DD5-BE33-4F6B1C9E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18F-E43B-493C-B51C-0F548EFE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C05-B93C-455F-A203-0BD89F31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39B-9581-4766-B9E6-738B9BCF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D9B4-1DE4-4499-9D12-8B6388246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oorbell.wav" TargetMode="External"/><Relationship Id="rId2" Type="http://schemas.microsoft.com/office/2007/relationships/media" Target="file:///tmp/home/.config/libreoffice/4/user/gallery/doorbell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car%20horn%201.wav" TargetMode="External"/><Relationship Id="rId5" Type="http://schemas.microsoft.com/office/2007/relationships/media" Target="file:///tmp/home/.config/libreoffice/4/user/gallery/car%20horn%201.wav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flushtoilet.wav" TargetMode="External"/><Relationship Id="rId8" Type="http://schemas.microsoft.com/office/2007/relationships/media" Target="file:///tmp/home/.config/libreoffice/4/user/gallery/flushtoilet.wav" TargetMode="External"/><Relationship Id="rId9" Type="http://schemas.openxmlformats.org/officeDocument/2006/relationships/image" Target="../media/image2.png"/><Relationship Id="rId10" Type="http://schemas.openxmlformats.org/officeDocument/2006/relationships/audio" Target="file:///tmp/home/.config/libreoffice/4/user/gallery/snore.wav" TargetMode="External"/><Relationship Id="rId11" Type="http://schemas.microsoft.com/office/2007/relationships/media" Target="file:///tmp/home/.config/libreoffice/4/user/gallery/snore.wav" TargetMode="External"/><Relationship Id="rId12" Type="http://schemas.openxmlformats.org/officeDocument/2006/relationships/image" Target="../media/image2.png"/><Relationship Id="rId13" Type="http://schemas.openxmlformats.org/officeDocument/2006/relationships/audio" Target="file:///tmp/home/.config/libreoffice/4/user/gallery/BIRD1.wav" TargetMode="External"/><Relationship Id="rId14" Type="http://schemas.microsoft.com/office/2007/relationships/media" Target="file:///tmp/home/.config/libreoffice/4/user/gallery/BIRD1.wav" TargetMode="External"/><Relationship Id="rId15" Type="http://schemas.openxmlformats.org/officeDocument/2006/relationships/image" Target="../media/image2.png"/><Relationship Id="rId16" Type="http://schemas.openxmlformats.org/officeDocument/2006/relationships/audio" Target="file:///tmp/home/.config/libreoffice/4/user/gallery/water%20splash.wav" TargetMode="External"/><Relationship Id="rId17" Type="http://schemas.microsoft.com/office/2007/relationships/media" Target="file:///tmp/home/.config/libreoffice/4/user/gallery/water%20splash.wav" TargetMode="External"/><Relationship Id="rId18" Type="http://schemas.openxmlformats.org/officeDocument/2006/relationships/image" Target="../media/image2.png"/><Relationship Id="rId19" Type="http://schemas.openxmlformats.org/officeDocument/2006/relationships/audio" Target="file:///tmp/home/.config/libreoffice/4/user/gallery/music%20box.wav" TargetMode="External"/><Relationship Id="rId20" Type="http://schemas.microsoft.com/office/2007/relationships/media" Target="file:///tmp/home/.config/libreoffice/4/user/gallery/music%20box.wav" TargetMode="External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844640"/>
            <a:ext cx="8064360" cy="22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hez moi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6453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0800000">
            <a:off x="539280" y="404280"/>
            <a:ext cx="1800360" cy="3529080"/>
          </a:xfrm>
          <a:prstGeom prst="upArrowCallout">
            <a:avLst>
              <a:gd name="adj1" fmla="val 25002"/>
              <a:gd name="adj2" fmla="val 25000"/>
              <a:gd name="adj3" fmla="val 32670"/>
              <a:gd name="adj4" fmla="val 163299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10800000">
            <a:off x="2339640" y="-360"/>
            <a:ext cx="1800360" cy="3529080"/>
          </a:xfrm>
          <a:prstGeom prst="upArrowCallout">
            <a:avLst>
              <a:gd name="adj1" fmla="val 25002"/>
              <a:gd name="adj2" fmla="val 25000"/>
              <a:gd name="adj3" fmla="val 32670"/>
              <a:gd name="adj4" fmla="val 163299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ga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0800000">
            <a:off x="3059280" y="404640"/>
            <a:ext cx="1800000" cy="2448000"/>
          </a:xfrm>
          <a:prstGeom prst="upArrowCallout">
            <a:avLst>
              <a:gd name="adj1" fmla="val 25002"/>
              <a:gd name="adj2" fmla="val 25000"/>
              <a:gd name="adj3" fmla="val 22667"/>
              <a:gd name="adj4" fmla="val 156168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W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0800000">
            <a:off x="3492000" y="333360"/>
            <a:ext cx="1800360" cy="2448000"/>
          </a:xfrm>
          <a:prstGeom prst="upArrowCallout">
            <a:avLst>
              <a:gd name="adj1" fmla="val 25002"/>
              <a:gd name="adj2" fmla="val 25000"/>
              <a:gd name="adj3" fmla="val 22662"/>
              <a:gd name="adj4" fmla="val 127625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sall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 b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0800000">
            <a:off x="4427640" y="333360"/>
            <a:ext cx="1800000" cy="2448000"/>
          </a:xfrm>
          <a:prstGeom prst="upArrowCallout">
            <a:avLst>
              <a:gd name="adj1" fmla="val 25002"/>
              <a:gd name="adj2" fmla="val 25000"/>
              <a:gd name="adj3" fmla="val 22667"/>
              <a:gd name="adj4" fmla="val 150204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10800000">
            <a:off x="5435640" y="0"/>
            <a:ext cx="2232000" cy="2852640"/>
          </a:xfrm>
          <a:prstGeom prst="upArrowCallout">
            <a:avLst>
              <a:gd name="adj1" fmla="val 25002"/>
              <a:gd name="adj2" fmla="val 19134"/>
              <a:gd name="adj3" fmla="val 21301"/>
              <a:gd name="adj4" fmla="val 156047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0800000">
            <a:off x="6407280" y="619920"/>
            <a:ext cx="2736720" cy="2087640"/>
          </a:xfrm>
          <a:prstGeom prst="upArrowCallout">
            <a:avLst>
              <a:gd name="adj1" fmla="val 29814"/>
              <a:gd name="adj2" fmla="val 24185"/>
              <a:gd name="adj3" fmla="val 16574"/>
              <a:gd name="adj4" fmla="val 116466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chambr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 mes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10800000">
            <a:off x="3924360" y="549360"/>
            <a:ext cx="1800000" cy="1511280"/>
          </a:xfrm>
          <a:prstGeom prst="upArrowCallout">
            <a:avLst>
              <a:gd name="adj1" fmla="val 27738"/>
              <a:gd name="adj2" fmla="val 29776"/>
              <a:gd name="adj3" fmla="val 30588"/>
              <a:gd name="adj4" fmla="val 118272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gre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89000"/>
          <a:ext cx="1450800" cy="6480000"/>
        </p:xfrm>
        <a:graphic>
          <a:graphicData uri="http://schemas.openxmlformats.org/drawingml/2006/table">
            <a:tbl>
              <a:tblPr/>
              <a:tblGrid>
                <a:gridCol w="730080"/>
                <a:gridCol w="7207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332000" y="260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332000" y="134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332000" y="19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332000" y="24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332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332000" y="40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2"/>
          <a:stretch/>
        </p:blipFill>
        <p:spPr>
          <a:xfrm>
            <a:off x="133200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3"/>
          <a:stretch/>
        </p:blipFill>
        <p:spPr>
          <a:xfrm>
            <a:off x="1332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4"/>
          <a:stretch/>
        </p:blipFill>
        <p:spPr>
          <a:xfrm>
            <a:off x="1332000" y="61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133200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56000" y="189000"/>
            <a:ext cx="6588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’esca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hambre de mes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ui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à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b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j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ga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gre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W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6"/>
          <a:stretch/>
        </p:blipFill>
        <p:spPr>
          <a:xfrm>
            <a:off x="1332000" y="299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70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5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86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  <p:seq>
              <p:cTn id="1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31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7"/>
                </p:tgtEl>
              </p:cMediaNode>
            </p:audio>
            <p:seq>
              <p:cTn id="1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63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  <p:seq>
              <p:cTn id="2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16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  <p:seq>
              <p:cTn id="2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610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  <p:seq>
              <p:cTn id="3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8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1"/>
                </p:tgtEl>
              </p:cMediaNode>
            </p:audio>
            <p:seq>
              <p:cTn id="3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35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25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798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36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33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57200" y="189000"/>
          <a:ext cx="1450800" cy="6480000"/>
        </p:xfrm>
        <a:graphic>
          <a:graphicData uri="http://schemas.openxmlformats.org/drawingml/2006/table">
            <a:tbl>
              <a:tblPr/>
              <a:tblGrid>
                <a:gridCol w="730080"/>
                <a:gridCol w="7207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332000" y="19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32000" y="24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332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1332000" y="40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33200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1332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1332000" y="61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133200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79640" y="189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1773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ga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23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W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924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3429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hambre de mes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3933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45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à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5013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b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589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6093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692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j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1268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070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86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31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63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6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233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10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68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35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225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798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36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413000">
            <a:off x="7632360" y="4076280"/>
            <a:ext cx="1511280" cy="1511280"/>
          </a:xfrm>
          <a:prstGeom prst="upArrowCallout">
            <a:avLst>
              <a:gd name="adj1" fmla="val 34670"/>
              <a:gd name="adj2" fmla="val 25944"/>
              <a:gd name="adj3" fmla="val 20588"/>
              <a:gd name="adj4" fmla="val 116596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01080" y="260280"/>
            <a:ext cx="1942920" cy="3384720"/>
          </a:xfrm>
          <a:prstGeom prst="downArrowCallout">
            <a:avLst>
              <a:gd name="adj1" fmla="val 25002"/>
              <a:gd name="adj2" fmla="val 25000"/>
              <a:gd name="adj3" fmla="val 29035"/>
              <a:gd name="adj4" fmla="val 18481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’esca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20000" y="4869000"/>
            <a:ext cx="1511280" cy="1511280"/>
          </a:xfrm>
          <a:prstGeom prst="upArrowCallout">
            <a:avLst>
              <a:gd name="adj1" fmla="val 34670"/>
              <a:gd name="adj2" fmla="val 25944"/>
              <a:gd name="adj3" fmla="val 20588"/>
              <a:gd name="adj4" fmla="val 76255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sall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 j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16720" y="4005360"/>
            <a:ext cx="1728720" cy="2016000"/>
          </a:xfrm>
          <a:prstGeom prst="upArrowCallout">
            <a:avLst>
              <a:gd name="adj1" fmla="val 28197"/>
              <a:gd name="adj2" fmla="val 26310"/>
              <a:gd name="adj3" fmla="val 30618"/>
              <a:gd name="adj4" fmla="val 136544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cui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92720" y="4005360"/>
            <a:ext cx="1655640" cy="2852640"/>
          </a:xfrm>
          <a:prstGeom prst="upArrowCallout">
            <a:avLst>
              <a:gd name="adj1" fmla="val 27688"/>
              <a:gd name="adj2" fmla="val 25750"/>
              <a:gd name="adj3" fmla="val 46385"/>
              <a:gd name="adj4" fmla="val 141156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sall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à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08360" y="3933720"/>
            <a:ext cx="1728720" cy="2563920"/>
          </a:xfrm>
          <a:prstGeom prst="upArrowCallout">
            <a:avLst>
              <a:gd name="adj1" fmla="val 28197"/>
              <a:gd name="adj2" fmla="val 26310"/>
              <a:gd name="adj3" fmla="val 38939"/>
              <a:gd name="adj4" fmla="val 149481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32000" y="4292640"/>
            <a:ext cx="2592360" cy="718920"/>
          </a:xfrm>
          <a:prstGeom prst="rightArrowCallout">
            <a:avLst>
              <a:gd name="adj1" fmla="val 58061"/>
              <a:gd name="adj2" fmla="val 50000"/>
              <a:gd name="adj3" fmla="val 72652"/>
              <a:gd name="adj4" fmla="val 66667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2:45:07Z</dcterms:created>
  <dc:creator>CSeccombe</dc:creator>
  <dc:description/>
  <dc:language>en-US</dc:language>
  <cp:lastModifiedBy>CSeccombe</cp:lastModifiedBy>
  <dcterms:modified xsi:type="dcterms:W3CDTF">2007-11-25T20:23:06Z</dcterms:modified>
  <cp:revision>25</cp:revision>
  <dc:subject/>
  <dc:title>Slide 1</dc:title>
</cp:coreProperties>
</file>