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BEF6-4C34-482C-8E4D-86A0CB577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quez sur l’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quer sur l’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7AA-0B83-4C83-AD23-32C62769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C28-354E-46A0-AFFA-DBEC119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432-8F8A-4465-B4FA-4A0882A4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DA3-EE49-444E-B1BE-DFC9C524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181-B944-407C-A127-EE12F7BB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169-FF88-4550-95A6-18C8A63E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37E-683E-4514-A88E-A1A2234E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73F-D225-4E5A-ACCA-3C719640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7FB-A1CB-4E2A-9C92-B6BC815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14C-279B-4909-92B9-A612CF3D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747-53E7-404A-B0BC-871D283B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38A-6158-4A70-9FD6-D09C600D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E574-4477-4DE7-ADC5-99F69A583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" Target="slide6.xml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slide" Target="slide12.xml"/><Relationship Id="rId14" Type="http://schemas.openxmlformats.org/officeDocument/2006/relationships/slide" Target="slide4.xml"/><Relationship Id="rId15" Type="http://schemas.openxmlformats.org/officeDocument/2006/relationships/slide" Target="slide10.xml"/><Relationship Id="rId16" Type="http://schemas.openxmlformats.org/officeDocument/2006/relationships/slide" Target="slide13.xml"/><Relationship Id="rId17" Type="http://schemas.openxmlformats.org/officeDocument/2006/relationships/slide" Target="slide5.xml"/><Relationship Id="rId18" Type="http://schemas.openxmlformats.org/officeDocument/2006/relationships/slide" Target="slide11.xml"/><Relationship Id="rId19" Type="http://schemas.openxmlformats.org/officeDocument/2006/relationships/image" Target="../media/image11.wmf"/><Relationship Id="rId20" Type="http://schemas.openxmlformats.org/officeDocument/2006/relationships/slide" Target="slide14.xml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envenue au centre de vac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7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eut fair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eauco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’activ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02436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6553080"/>
            <a:ext cx="79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8 MP http://www.sunderlandschools.org/mfl-sunderlan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encontrer des am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de la musi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la f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ê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du tenn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du go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envenue au centre de vac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676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y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3048120" cy="1869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1762200" cy="188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1587240" cy="175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71800" y="4876920"/>
            <a:ext cx="2438280" cy="1633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553080" y="4419720"/>
            <a:ext cx="2265480" cy="205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200400" y="1219320"/>
            <a:ext cx="2092320" cy="1974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3048120"/>
            <a:ext cx="1676160" cy="1600200"/>
          </a:xfrm>
          <a:custGeom>
            <a:avLst/>
            <a:gdLst>
              <a:gd name="textAreaLeft" fmla="*/ 103680 w 1676160"/>
              <a:gd name="textAreaRight" fmla="*/ 1572480 w 167616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25" h="21600">
                <a:moveTo>
                  <a:pt x="0" y="0"/>
                </a:moveTo>
                <a:lnTo>
                  <a:pt x="22625" y="0"/>
                </a:lnTo>
                <a:lnTo>
                  <a:pt x="22625" y="21600"/>
                </a:lnTo>
                <a:lnTo>
                  <a:pt x="0" y="21600"/>
                </a:lnTo>
                <a:close/>
              </a:path>
              <a:path fill="lightenLess" w="22625" h="21600">
                <a:moveTo>
                  <a:pt x="0" y="0"/>
                </a:moveTo>
                <a:lnTo>
                  <a:pt x="22625" y="0"/>
                </a:lnTo>
                <a:lnTo>
                  <a:pt x="21225" y="1400"/>
                </a:lnTo>
                <a:lnTo>
                  <a:pt x="1400" y="1400"/>
                </a:lnTo>
                <a:close/>
              </a:path>
              <a:path fill="darken" w="22625" h="21600">
                <a:moveTo>
                  <a:pt x="22625" y="0"/>
                </a:moveTo>
                <a:lnTo>
                  <a:pt x="22625" y="21600"/>
                </a:lnTo>
                <a:lnTo>
                  <a:pt x="21225" y="20200"/>
                </a:lnTo>
                <a:lnTo>
                  <a:pt x="21225" y="1400"/>
                </a:lnTo>
                <a:close/>
              </a:path>
              <a:path fill="darkenLess" w="22625" h="21600">
                <a:moveTo>
                  <a:pt x="22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25" y="20200"/>
                </a:lnTo>
                <a:close/>
              </a:path>
              <a:path fill="lighten" w="22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876920"/>
            <a:ext cx="2286000" cy="1523880"/>
          </a:xfrm>
          <a:custGeom>
            <a:avLst/>
            <a:gdLst>
              <a:gd name="textAreaLeft" fmla="*/ 98640 w 2286000"/>
              <a:gd name="textAreaRight" fmla="*/ 2187360 w 22860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4495680"/>
            <a:ext cx="1981080" cy="1828800"/>
          </a:xfrm>
          <a:custGeom>
            <a:avLst/>
            <a:gdLst>
              <a:gd name="textAreaLeft" fmla="*/ 118440 w 1981080"/>
              <a:gd name="textAreaRight" fmla="*/ 1862640 w 19810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3398" h="21600">
                <a:moveTo>
                  <a:pt x="0" y="0"/>
                </a:moveTo>
                <a:lnTo>
                  <a:pt x="23398" y="0"/>
                </a:lnTo>
                <a:lnTo>
                  <a:pt x="23398" y="21600"/>
                </a:lnTo>
                <a:lnTo>
                  <a:pt x="0" y="21600"/>
                </a:lnTo>
                <a:close/>
              </a:path>
              <a:path fill="lightenLess" w="23398" h="21600">
                <a:moveTo>
                  <a:pt x="0" y="0"/>
                </a:moveTo>
                <a:lnTo>
                  <a:pt x="23398" y="0"/>
                </a:lnTo>
                <a:lnTo>
                  <a:pt x="21998" y="1400"/>
                </a:lnTo>
                <a:lnTo>
                  <a:pt x="1400" y="1400"/>
                </a:lnTo>
                <a:close/>
              </a:path>
              <a:path fill="darken" w="23398" h="21600">
                <a:moveTo>
                  <a:pt x="23398" y="0"/>
                </a:moveTo>
                <a:lnTo>
                  <a:pt x="23398" y="21600"/>
                </a:lnTo>
                <a:lnTo>
                  <a:pt x="21998" y="20200"/>
                </a:lnTo>
                <a:lnTo>
                  <a:pt x="21998" y="1400"/>
                </a:lnTo>
                <a:close/>
              </a:path>
              <a:path fill="darkenLess" w="23398" h="21600">
                <a:moveTo>
                  <a:pt x="23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8" y="20200"/>
                </a:lnTo>
                <a:close/>
              </a:path>
              <a:path fill="lighten" w="23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133720"/>
            <a:ext cx="2590920" cy="1600200"/>
          </a:xfrm>
          <a:custGeom>
            <a:avLst/>
            <a:gdLst>
              <a:gd name="textAreaLeft" fmla="*/ 103680 w 2590920"/>
              <a:gd name="textAreaRight" fmla="*/ 2487240 w 25909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4970" h="21600">
                <a:moveTo>
                  <a:pt x="0" y="0"/>
                </a:moveTo>
                <a:lnTo>
                  <a:pt x="34970" y="0"/>
                </a:lnTo>
                <a:lnTo>
                  <a:pt x="34970" y="21600"/>
                </a:lnTo>
                <a:lnTo>
                  <a:pt x="0" y="21600"/>
                </a:lnTo>
                <a:close/>
              </a:path>
              <a:path fill="lightenLess" w="34970" h="21600">
                <a:moveTo>
                  <a:pt x="0" y="0"/>
                </a:moveTo>
                <a:lnTo>
                  <a:pt x="34970" y="0"/>
                </a:lnTo>
                <a:lnTo>
                  <a:pt x="33570" y="1400"/>
                </a:lnTo>
                <a:lnTo>
                  <a:pt x="1400" y="1400"/>
                </a:lnTo>
                <a:close/>
              </a:path>
              <a:path fill="darken" w="34970" h="21600">
                <a:moveTo>
                  <a:pt x="34970" y="0"/>
                </a:moveTo>
                <a:lnTo>
                  <a:pt x="34970" y="21600"/>
                </a:lnTo>
                <a:lnTo>
                  <a:pt x="33570" y="20200"/>
                </a:lnTo>
                <a:lnTo>
                  <a:pt x="33570" y="1400"/>
                </a:lnTo>
                <a:close/>
              </a:path>
              <a:path fill="darkenLess" w="34970" h="21600">
                <a:moveTo>
                  <a:pt x="34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0" y="20200"/>
                </a:lnTo>
                <a:close/>
              </a:path>
              <a:path fill="lighten" w="34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523880"/>
            <a:ext cx="1295640" cy="167652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676520"/>
              <a:gd name="textAreaBottom" fmla="*/ 1592640 h 1676520"/>
            </a:gdLst>
            <a:ahLst/>
            <a:rect l="textAreaLeft" t="textAreaTop" r="textAreaRight" b="textAreaBottom"/>
            <a:pathLst>
              <a:path w="21600" h="27948">
                <a:moveTo>
                  <a:pt x="0" y="0"/>
                </a:moveTo>
                <a:lnTo>
                  <a:pt x="21600" y="0"/>
                </a:lnTo>
                <a:lnTo>
                  <a:pt x="21600" y="27948"/>
                </a:lnTo>
                <a:lnTo>
                  <a:pt x="0" y="27948"/>
                </a:lnTo>
                <a:close/>
              </a:path>
              <a:path fill="lightenLess" w="21600" h="279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948">
                <a:moveTo>
                  <a:pt x="21600" y="0"/>
                </a:moveTo>
                <a:lnTo>
                  <a:pt x="21600" y="27948"/>
                </a:lnTo>
                <a:lnTo>
                  <a:pt x="20200" y="26548"/>
                </a:lnTo>
                <a:lnTo>
                  <a:pt x="20200" y="1400"/>
                </a:lnTo>
                <a:close/>
              </a:path>
              <a:path fill="darkenLess" w="21600" h="27948">
                <a:moveTo>
                  <a:pt x="21600" y="27948"/>
                </a:moveTo>
                <a:lnTo>
                  <a:pt x="0" y="27948"/>
                </a:lnTo>
                <a:lnTo>
                  <a:pt x="1400" y="26548"/>
                </a:lnTo>
                <a:lnTo>
                  <a:pt x="20200" y="26548"/>
                </a:lnTo>
                <a:close/>
              </a:path>
              <a:path fill="lighten" w="21600" h="27948">
                <a:moveTo>
                  <a:pt x="0" y="279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5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lastslide"/>
          </p:cNvPr>
          <p:cNvSpPr/>
          <p:nvPr/>
        </p:nvSpPr>
        <p:spPr>
          <a:xfrm>
            <a:off x="0" y="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e pisc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es magas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 restaur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e salle de je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envenue au centre de vac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peut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l y a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l y 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 bill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envenue au centre de vac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 pe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71720" cy="138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058840" cy="155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198612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934320" y="3200400"/>
            <a:ext cx="1847880" cy="190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438280" y="4678200"/>
            <a:ext cx="2078280" cy="217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105520" y="5334120"/>
            <a:ext cx="1333440" cy="132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486400" y="1219320"/>
            <a:ext cx="1297080" cy="140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7086600" y="5334120"/>
            <a:ext cx="1339920" cy="13636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10" action="ppaction://hlinksldjump"/>
          </p:cNvPr>
          <p:cNvSpPr/>
          <p:nvPr/>
        </p:nvSpPr>
        <p:spPr>
          <a:xfrm>
            <a:off x="4267080" y="3809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1" action="ppaction://hlinksldjump"/>
          </p:cNvPr>
          <p:cNvSpPr/>
          <p:nvPr/>
        </p:nvSpPr>
        <p:spPr>
          <a:xfrm>
            <a:off x="304920" y="5410080"/>
            <a:ext cx="990360" cy="114300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28">
                <a:moveTo>
                  <a:pt x="0" y="0"/>
                </a:moveTo>
                <a:lnTo>
                  <a:pt x="21600" y="0"/>
                </a:lnTo>
                <a:lnTo>
                  <a:pt x="21600" y="24928"/>
                </a:lnTo>
                <a:lnTo>
                  <a:pt x="0" y="24928"/>
                </a:lnTo>
                <a:close/>
              </a:path>
              <a:path fill="lightenLess" w="21600" h="24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28">
                <a:moveTo>
                  <a:pt x="21600" y="0"/>
                </a:moveTo>
                <a:lnTo>
                  <a:pt x="21600" y="24928"/>
                </a:lnTo>
                <a:lnTo>
                  <a:pt x="20200" y="23528"/>
                </a:lnTo>
                <a:lnTo>
                  <a:pt x="20200" y="1400"/>
                </a:lnTo>
                <a:close/>
              </a:path>
              <a:path fill="darkenLess" w="21600" h="24928">
                <a:moveTo>
                  <a:pt x="21600" y="24928"/>
                </a:moveTo>
                <a:lnTo>
                  <a:pt x="0" y="24928"/>
                </a:lnTo>
                <a:lnTo>
                  <a:pt x="1400" y="23528"/>
                </a:lnTo>
                <a:lnTo>
                  <a:pt x="20200" y="23528"/>
                </a:lnTo>
                <a:close/>
              </a:path>
              <a:path fill="lighten" w="21600" h="24928">
                <a:moveTo>
                  <a:pt x="0" y="24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2" action="ppaction://hlinksldjump"/>
          </p:cNvPr>
          <p:cNvSpPr/>
          <p:nvPr/>
        </p:nvSpPr>
        <p:spPr>
          <a:xfrm>
            <a:off x="2743200" y="5334120"/>
            <a:ext cx="1447920" cy="1143000"/>
          </a:xfrm>
          <a:custGeom>
            <a:avLst/>
            <a:gdLst>
              <a:gd name="textAreaLeft" fmla="*/ 73800 w 1447920"/>
              <a:gd name="textAreaRight" fmla="*/ 1374120 w 1447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1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1" y="20200"/>
                </a:lnTo>
                <a:lnTo>
                  <a:pt x="25961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1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3" action="ppaction://hlinksldjump"/>
          </p:cNvPr>
          <p:cNvSpPr/>
          <p:nvPr/>
        </p:nvSpPr>
        <p:spPr>
          <a:xfrm>
            <a:off x="5410080" y="541008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4" action="ppaction://hlinksldjump"/>
          </p:cNvPr>
          <p:cNvSpPr/>
          <p:nvPr/>
        </p:nvSpPr>
        <p:spPr>
          <a:xfrm>
            <a:off x="7010280" y="3352680"/>
            <a:ext cx="1600200" cy="167652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76520"/>
              <a:gd name="textAreaBottom" fmla="*/ 1572840 h 1676520"/>
            </a:gdLst>
            <a:ahLst/>
            <a:rect l="textAreaLeft" t="textAreaTop" r="textAreaRight" b="textAreaBottom"/>
            <a:pathLst>
              <a:path w="21600" h="22630">
                <a:moveTo>
                  <a:pt x="0" y="0"/>
                </a:moveTo>
                <a:lnTo>
                  <a:pt x="21600" y="0"/>
                </a:lnTo>
                <a:lnTo>
                  <a:pt x="21600" y="22630"/>
                </a:lnTo>
                <a:lnTo>
                  <a:pt x="0" y="22630"/>
                </a:lnTo>
                <a:close/>
              </a:path>
              <a:path fill="lightenLess" w="21600" h="22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0">
                <a:moveTo>
                  <a:pt x="21600" y="0"/>
                </a:moveTo>
                <a:lnTo>
                  <a:pt x="21600" y="22630"/>
                </a:lnTo>
                <a:lnTo>
                  <a:pt x="20200" y="21230"/>
                </a:lnTo>
                <a:lnTo>
                  <a:pt x="20200" y="1400"/>
                </a:lnTo>
                <a:close/>
              </a:path>
              <a:path fill="darkenLess" w="21600" h="22630">
                <a:moveTo>
                  <a:pt x="21600" y="22630"/>
                </a:moveTo>
                <a:lnTo>
                  <a:pt x="0" y="22630"/>
                </a:lnTo>
                <a:lnTo>
                  <a:pt x="1400" y="21230"/>
                </a:lnTo>
                <a:lnTo>
                  <a:pt x="20200" y="21230"/>
                </a:lnTo>
                <a:close/>
              </a:path>
              <a:path fill="lighten" w="21600" h="22630">
                <a:moveTo>
                  <a:pt x="0" y="22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5" action="ppaction://hlinksldjump"/>
          </p:cNvPr>
          <p:cNvSpPr/>
          <p:nvPr/>
        </p:nvSpPr>
        <p:spPr>
          <a:xfrm>
            <a:off x="7315200" y="541008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6" action="ppaction://hlinksldjump"/>
          </p:cNvPr>
          <p:cNvSpPr/>
          <p:nvPr/>
        </p:nvSpPr>
        <p:spPr>
          <a:xfrm>
            <a:off x="7086600" y="1523880"/>
            <a:ext cx="1447920" cy="1143000"/>
          </a:xfrm>
          <a:custGeom>
            <a:avLst/>
            <a:gdLst>
              <a:gd name="textAreaLeft" fmla="*/ 73800 w 1447920"/>
              <a:gd name="textAreaRight" fmla="*/ 1374120 w 1447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1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1" y="20200"/>
                </a:lnTo>
                <a:lnTo>
                  <a:pt x="25961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1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7" action="ppaction://hlinksldjump"/>
          </p:cNvPr>
          <p:cNvSpPr/>
          <p:nvPr/>
        </p:nvSpPr>
        <p:spPr>
          <a:xfrm>
            <a:off x="2895480" y="1219320"/>
            <a:ext cx="1676520" cy="205740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2057400"/>
              <a:gd name="textAreaBottom" fmla="*/ 1949040 h 2057400"/>
            </a:gdLst>
            <a:ahLst/>
            <a:rect l="textAreaLeft" t="textAreaTop" r="textAreaRight" b="textAreaBottom"/>
            <a:pathLst>
              <a:path w="21600" h="26506">
                <a:moveTo>
                  <a:pt x="0" y="0"/>
                </a:moveTo>
                <a:lnTo>
                  <a:pt x="21600" y="0"/>
                </a:lnTo>
                <a:lnTo>
                  <a:pt x="21600" y="26506"/>
                </a:lnTo>
                <a:lnTo>
                  <a:pt x="0" y="26506"/>
                </a:lnTo>
                <a:close/>
              </a:path>
              <a:path fill="lightenLess" w="21600" h="265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06">
                <a:moveTo>
                  <a:pt x="21600" y="0"/>
                </a:moveTo>
                <a:lnTo>
                  <a:pt x="21600" y="26506"/>
                </a:lnTo>
                <a:lnTo>
                  <a:pt x="20200" y="25106"/>
                </a:lnTo>
                <a:lnTo>
                  <a:pt x="20200" y="1400"/>
                </a:lnTo>
                <a:close/>
              </a:path>
              <a:path fill="darkenLess" w="21600" h="26506">
                <a:moveTo>
                  <a:pt x="21600" y="26506"/>
                </a:moveTo>
                <a:lnTo>
                  <a:pt x="0" y="26506"/>
                </a:lnTo>
                <a:lnTo>
                  <a:pt x="1400" y="25106"/>
                </a:lnTo>
                <a:lnTo>
                  <a:pt x="20200" y="25106"/>
                </a:lnTo>
                <a:close/>
              </a:path>
              <a:path fill="lighten" w="21600" h="26506">
                <a:moveTo>
                  <a:pt x="0" y="265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8" action="ppaction://hlinksldjump"/>
          </p:cNvPr>
          <p:cNvSpPr/>
          <p:nvPr/>
        </p:nvSpPr>
        <p:spPr>
          <a:xfrm>
            <a:off x="5486400" y="1219320"/>
            <a:ext cx="1066680" cy="12952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95280"/>
              <a:gd name="textAreaBottom" fmla="*/ 1226160 h 1295280"/>
            </a:gdLst>
            <a:ahLst/>
            <a:rect l="textAreaLeft" t="textAreaTop" r="textAreaRight" b="textAreaBottom"/>
            <a:pathLst>
              <a:path w="21600" h="26228">
                <a:moveTo>
                  <a:pt x="0" y="0"/>
                </a:moveTo>
                <a:lnTo>
                  <a:pt x="21600" y="0"/>
                </a:lnTo>
                <a:lnTo>
                  <a:pt x="21600" y="26228"/>
                </a:lnTo>
                <a:lnTo>
                  <a:pt x="0" y="26228"/>
                </a:lnTo>
                <a:close/>
              </a:path>
              <a:path fill="lightenLess" w="21600" h="26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8">
                <a:moveTo>
                  <a:pt x="21600" y="0"/>
                </a:moveTo>
                <a:lnTo>
                  <a:pt x="21600" y="26228"/>
                </a:lnTo>
                <a:lnTo>
                  <a:pt x="20200" y="24828"/>
                </a:lnTo>
                <a:lnTo>
                  <a:pt x="20200" y="1400"/>
                </a:lnTo>
                <a:close/>
              </a:path>
              <a:path fill="darkenLess" w="21600" h="26228">
                <a:moveTo>
                  <a:pt x="21600" y="26228"/>
                </a:moveTo>
                <a:lnTo>
                  <a:pt x="0" y="26228"/>
                </a:lnTo>
                <a:lnTo>
                  <a:pt x="1400" y="24828"/>
                </a:lnTo>
                <a:lnTo>
                  <a:pt x="20200" y="24828"/>
                </a:lnTo>
                <a:close/>
              </a:path>
              <a:path fill="lighten" w="21600" h="26228">
                <a:moveTo>
                  <a:pt x="0" y="26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380880" y="2590920"/>
            <a:ext cx="1663920" cy="185076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0" action="ppaction://hlinksldjump"/>
          </p:cNvPr>
          <p:cNvSpPr/>
          <p:nvPr/>
        </p:nvSpPr>
        <p:spPr>
          <a:xfrm>
            <a:off x="457200" y="2743200"/>
            <a:ext cx="1295280" cy="15238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523880"/>
              <a:gd name="textAreaBottom" fmla="*/ 1440000 h 1523880"/>
            </a:gdLst>
            <a:ahLst/>
            <a:rect l="textAreaLeft" t="textAreaTop" r="textAreaRight" b="textAreaBottom"/>
            <a:pathLst>
              <a:path w="21600" h="25411">
                <a:moveTo>
                  <a:pt x="0" y="0"/>
                </a:moveTo>
                <a:lnTo>
                  <a:pt x="21600" y="0"/>
                </a:lnTo>
                <a:lnTo>
                  <a:pt x="21600" y="25411"/>
                </a:lnTo>
                <a:lnTo>
                  <a:pt x="0" y="25411"/>
                </a:lnTo>
                <a:close/>
              </a:path>
              <a:path fill="lightenLess" w="21600" h="254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11">
                <a:moveTo>
                  <a:pt x="21600" y="0"/>
                </a:moveTo>
                <a:lnTo>
                  <a:pt x="21600" y="25411"/>
                </a:lnTo>
                <a:lnTo>
                  <a:pt x="20200" y="24011"/>
                </a:lnTo>
                <a:lnTo>
                  <a:pt x="20200" y="1400"/>
                </a:lnTo>
                <a:close/>
              </a:path>
              <a:path fill="darkenLess" w="21600" h="25411">
                <a:moveTo>
                  <a:pt x="21600" y="25411"/>
                </a:moveTo>
                <a:lnTo>
                  <a:pt x="0" y="25411"/>
                </a:lnTo>
                <a:lnTo>
                  <a:pt x="1400" y="24011"/>
                </a:lnTo>
                <a:lnTo>
                  <a:pt x="20200" y="24011"/>
                </a:lnTo>
                <a:close/>
              </a:path>
              <a:path fill="lighten" w="21600" h="25411">
                <a:moveTo>
                  <a:pt x="0" y="254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4299" y="12601"/>
                </a:moveTo>
                <a:lnTo>
                  <a:pt x="3794" y="19608"/>
                </a:lnTo>
                <a:lnTo>
                  <a:pt x="3794" y="5595"/>
                </a:lnTo>
                <a:close/>
              </a:path>
              <a:path fill="darken" w="21600" h="25203">
                <a:moveTo>
                  <a:pt x="16144" y="5595"/>
                </a:moveTo>
                <a:lnTo>
                  <a:pt x="16144" y="19608"/>
                </a:lnTo>
                <a:lnTo>
                  <a:pt x="17806" y="19608"/>
                </a:lnTo>
                <a:lnTo>
                  <a:pt x="17806" y="559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 pe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 promen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 pe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isiter des mu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é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aire du v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é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orm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ller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à la plage/ bronz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 relax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n pe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7:28:51Z</dcterms:created>
  <dc:creator>0705675</dc:creator>
  <dc:description/>
  <dc:language>en-US</dc:language>
  <cp:lastModifiedBy>Clare</cp:lastModifiedBy>
  <dcterms:modified xsi:type="dcterms:W3CDTF">2008-04-21T15:03:45Z</dcterms:modified>
  <cp:revision>6</cp:revision>
  <dc:subject/>
  <dc:title>Bienvenue au centre de vacances</dc:title>
</cp:coreProperties>
</file>