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02C-ABEA-4880-A387-07EC1626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D8D-DE37-4D88-B4EB-840A7D10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A86-6445-44CC-8AEB-1D1DB0D1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DB5-8E71-4B41-8470-FE9C9EC9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F3C-D168-4E16-BC35-0174E7E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F03-2AF4-4EA2-A1FB-D0490D31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DD4-E3C4-44CF-9BF8-80C02215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C7E-A930-4286-87D1-448D066A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3C9-79AF-4A1A-B4DB-BD847379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443-DE43-4167-A091-8ACD7F81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24B-105A-4B31-B469-F1D2A9F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380-73E7-4B3E-B433-119226B9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26A6-8A2D-4982-A5E6-18FAA1C2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derlandschools.org/mfl-sunderland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1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mi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651640" y="620640"/>
            <a:ext cx="0" cy="1656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651640" y="1125360"/>
            <a:ext cx="0" cy="1151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40360" y="6597720"/>
            <a:ext cx="5003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8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seize he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51640" y="620640"/>
            <a:ext cx="0" cy="1656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276640"/>
            <a:ext cx="0" cy="936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4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2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trois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t de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2276640"/>
            <a:ext cx="158436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2276640"/>
            <a:ext cx="108108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3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cinq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ins vin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284360" y="2276640"/>
            <a:ext cx="1366920" cy="72072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720720" cy="792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4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onze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651640" y="836640"/>
            <a:ext cx="792000" cy="1440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219640" y="1412640"/>
            <a:ext cx="432000" cy="86364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5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huit heures d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500360" y="1557360"/>
            <a:ext cx="1150920" cy="719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787640" y="2276640"/>
            <a:ext cx="863640" cy="64764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6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quatre heur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t qu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2276640"/>
            <a:ext cx="0" cy="16570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276640"/>
            <a:ext cx="1008000" cy="72072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4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7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neuf heur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ins le qu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95640" y="2276640"/>
            <a:ext cx="165600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716360" y="1773360"/>
            <a:ext cx="935280" cy="503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8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vingt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276640"/>
            <a:ext cx="0" cy="16570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716360" y="2276640"/>
            <a:ext cx="935280" cy="360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0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9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dix-huit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quar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066920" y="2276640"/>
            <a:ext cx="158436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08360" y="2276640"/>
            <a:ext cx="142920" cy="1152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9:28:58Z</dcterms:created>
  <dc:creator>Clare</dc:creator>
  <dc:description/>
  <dc:language>en-US</dc:language>
  <cp:lastModifiedBy>Clare</cp:lastModifiedBy>
  <dcterms:modified xsi:type="dcterms:W3CDTF">2008-04-24T20:33:22Z</dcterms:modified>
  <cp:revision>12</cp:revision>
  <dc:subject/>
  <dc:title>Slide 1</dc:title>
</cp:coreProperties>
</file>