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9D6-9E50-40B0-BEBE-3467B708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D2C-1761-4BF2-BF8B-3BC3E700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059-5074-45BF-945D-03B10E3E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9A6-D8E3-4CF2-BBE2-72C1B22C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254-732B-45EB-86FB-D735C36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D93-8E29-44BB-96E7-26F5E8D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914-EAF8-4BA1-9876-A40CA312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C35-8AF6-47C3-B46A-AA6D3BE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B81-DF8D-4A1B-B3E9-9B64B9B5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ADD-0F80-47F3-BCAA-C3C6AF1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F31-A517-4A66-B6D6-204FEA05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2F5-B070-4AAA-8F2B-C0A916E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02B-FFFD-4447-916E-BBB1413CB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m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1125360"/>
            <a:ext cx="0" cy="1151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40360" y="6597720"/>
            <a:ext cx="500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seize he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276640"/>
            <a:ext cx="0" cy="936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trois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de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276640"/>
            <a:ext cx="108108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cinq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vi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84360" y="2276640"/>
            <a:ext cx="136692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720720" cy="792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4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onze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651640" y="836640"/>
            <a:ext cx="792000" cy="1440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219640" y="1412640"/>
            <a:ext cx="432000" cy="863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5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huit heures d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500360" y="1557360"/>
            <a:ext cx="1150920" cy="719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787640" y="2276640"/>
            <a:ext cx="863640" cy="647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6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quatre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276640"/>
            <a:ext cx="100800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7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neuf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le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95640" y="2276640"/>
            <a:ext cx="165600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716360" y="1773360"/>
            <a:ext cx="935280" cy="503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8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ving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716360" y="2276640"/>
            <a:ext cx="935280" cy="360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9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dix-hui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ar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06692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08360" y="2276640"/>
            <a:ext cx="142920" cy="1152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9:28:58Z</dcterms:created>
  <dc:creator>Clare</dc:creator>
  <dc:description/>
  <dc:language>en-US</dc:language>
  <cp:lastModifiedBy>Clare</cp:lastModifiedBy>
  <dcterms:modified xsi:type="dcterms:W3CDTF">2008-04-24T20:33:22Z</dcterms:modified>
  <cp:revision>12</cp:revision>
  <dc:subject/>
  <dc:title>Slide 1</dc:title>
</cp:coreProperties>
</file>