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346-7866-4253-B104-5E88BA57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AC5-6485-4325-8614-584F7242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85B-02A7-4F79-8E6A-6E9641F7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D72-C8A4-47CF-9D0A-FCC34243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0F9-4317-47C0-8E2F-8A257A9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B6B-DA24-4E69-823D-A37D80E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11A-C30B-45B8-BFF4-EEFBF7F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B3A-CCBE-4875-8A6C-B371FAE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7F9-7514-4D46-8369-7201203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669-7F76-4467-AD9F-F07E208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B47-327E-4041-9FF4-C8B8D6E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804-D489-41EC-8271-D34DD2C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649E-6E04-4AA9-8DF8-3BC1C857D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2.wmf"/><Relationship Id="rId8" Type="http://schemas.openxmlformats.org/officeDocument/2006/relationships/image" Target="../media/image10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gitalbrain.com/document.server/subjects/ks3fre/su3/media/direct.htm" TargetMode="Externa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67280" y="609480"/>
            <a:ext cx="1257480" cy="11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" y="2209680"/>
            <a:ext cx="15318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91520" y="2819520"/>
            <a:ext cx="135252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286000" y="2286000"/>
            <a:ext cx="289260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914400" y="4724280"/>
            <a:ext cx="100188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flipH="1">
            <a:off x="6705360" y="4724280"/>
            <a:ext cx="2438280" cy="180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362320" y="4343400"/>
            <a:ext cx="1190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75248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ww.frenchrevision.co.u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27672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tion 2 unit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2514600" cy="241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2667240" cy="241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2743200" y="2057400"/>
            <a:ext cx="2743200" cy="24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4038480" y="0"/>
            <a:ext cx="1600200" cy="157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876920" y="2057400"/>
            <a:ext cx="2900160" cy="403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-4038480" y="1828800"/>
            <a:ext cx="356076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-9296280" y="4419720"/>
            <a:ext cx="2892240" cy="14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5638680" y="2590920"/>
            <a:ext cx="2379960" cy="289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 flipH="1">
            <a:off x="-4495680" y="2514600"/>
            <a:ext cx="3581280" cy="264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5181480" y="2819520"/>
            <a:ext cx="2552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295280"/>
            <a:ext cx="7848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à +     le =  a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= à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’ = à l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 = au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1257480" cy="110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1149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858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à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609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14479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24080" y="0"/>
            <a:ext cx="2838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pour alle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1523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2096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march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762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à l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895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égl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886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jar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495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’hô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6019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p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 la g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1938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 march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895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 l’égl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3434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a po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5181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’hô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5897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 p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 jar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685800"/>
            <a:ext cx="3047760" cy="13716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6668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80988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ournez à dro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971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ourne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à gau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0292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llez tout 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36232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4382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2133720"/>
            <a:ext cx="1828800" cy="3047760"/>
          </a:xfrm>
          <a:prstGeom prst="upArrow">
            <a:avLst>
              <a:gd name="adj1" fmla="val 50000"/>
              <a:gd name="adj2" fmla="val 4166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60020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57200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609480"/>
            <a:ext cx="3048120" cy="1371600"/>
          </a:xfrm>
          <a:prstGeom prst="rightArrow">
            <a:avLst>
              <a:gd name="adj1" fmla="val 50000"/>
              <a:gd name="adj2" fmla="val 555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74320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60020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480"/>
            <a:ext cx="1828800" cy="3048120"/>
          </a:xfrm>
          <a:prstGeom prst="upArrow">
            <a:avLst>
              <a:gd name="adj1" fmla="val 50000"/>
              <a:gd name="adj2" fmla="val 416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04812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8380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33412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257480" cy="1104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1190880" cy="1457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094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914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990720"/>
            <a:ext cx="1143000" cy="838080"/>
          </a:xfrm>
          <a:prstGeom prst="rightArrow">
            <a:avLst>
              <a:gd name="adj1" fmla="val 50000"/>
              <a:gd name="adj2" fmla="val 34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8380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5909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590920"/>
            <a:ext cx="1143000" cy="838080"/>
          </a:xfrm>
          <a:prstGeom prst="rightArrow">
            <a:avLst>
              <a:gd name="adj1" fmla="val 50000"/>
              <a:gd name="adj2" fmla="val 34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590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09680"/>
            <a:ext cx="762120" cy="1371600"/>
          </a:xfrm>
          <a:prstGeom prst="upArrow">
            <a:avLst>
              <a:gd name="adj1" fmla="val 50000"/>
              <a:gd name="adj2" fmla="val 449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380880"/>
            <a:ext cx="1447920" cy="129564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4138" h="21600">
                <a:moveTo>
                  <a:pt x="0" y="0"/>
                </a:moveTo>
                <a:lnTo>
                  <a:pt x="24138" y="0"/>
                </a:lnTo>
                <a:lnTo>
                  <a:pt x="24138" y="21600"/>
                </a:lnTo>
                <a:lnTo>
                  <a:pt x="0" y="21600"/>
                </a:lnTo>
                <a:close/>
              </a:path>
              <a:path fill="lightenLess" w="24138" h="21600">
                <a:moveTo>
                  <a:pt x="0" y="0"/>
                </a:moveTo>
                <a:lnTo>
                  <a:pt x="24138" y="0"/>
                </a:lnTo>
                <a:lnTo>
                  <a:pt x="22738" y="1400"/>
                </a:lnTo>
                <a:lnTo>
                  <a:pt x="1400" y="1400"/>
                </a:lnTo>
                <a:close/>
              </a:path>
              <a:path fill="darken" w="24138" h="21600">
                <a:moveTo>
                  <a:pt x="24138" y="0"/>
                </a:moveTo>
                <a:lnTo>
                  <a:pt x="24138" y="21600"/>
                </a:lnTo>
                <a:lnTo>
                  <a:pt x="22738" y="20200"/>
                </a:lnTo>
                <a:lnTo>
                  <a:pt x="22738" y="1400"/>
                </a:lnTo>
                <a:close/>
              </a:path>
              <a:path fill="darkenLess" w="24138" h="21600">
                <a:moveTo>
                  <a:pt x="24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8" y="20200"/>
                </a:lnTo>
                <a:close/>
              </a:path>
              <a:path fill="lighten" w="24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8" h="21600">
                <a:moveTo>
                  <a:pt x="5063" y="3794"/>
                </a:moveTo>
                <a:lnTo>
                  <a:pt x="19075" y="10800"/>
                </a:lnTo>
                <a:lnTo>
                  <a:pt x="50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4495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572000"/>
            <a:ext cx="1523880" cy="838080"/>
          </a:xfrm>
          <a:prstGeom prst="leftArrow">
            <a:avLst>
              <a:gd name="adj1" fmla="val 50000"/>
              <a:gd name="adj2" fmla="val 4545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495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4572000"/>
            <a:ext cx="1143000" cy="838080"/>
          </a:xfrm>
          <a:prstGeom prst="rightArrow">
            <a:avLst>
              <a:gd name="adj1" fmla="val 50000"/>
              <a:gd name="adj2" fmla="val 34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27432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44197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24080" y="0"/>
            <a:ext cx="2838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pour alle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1143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743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ur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2666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575320" cy="5715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761760" cy="731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914400" cy="803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71136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572000" y="21337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900520" y="609480"/>
            <a:ext cx="92520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2971800" y="2133720"/>
            <a:ext cx="838080" cy="757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172200" y="5335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3733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1219320" y="3733920"/>
            <a:ext cx="1066680" cy="547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6095880"/>
            <a:ext cx="3200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/>
          </p:cNvPr>
          <p:cNvSpPr/>
          <p:nvPr/>
        </p:nvSpPr>
        <p:spPr>
          <a:xfrm>
            <a:off x="609480" y="1600200"/>
            <a:ext cx="304812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ouver son chemin à partir de l'hô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809880"/>
            <a:ext cx="16002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éco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80880"/>
            <a:ext cx="4419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 vocabula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81680" y="3962520"/>
            <a:ext cx="1710000" cy="24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43000" y="4952880"/>
            <a:ext cx="34290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rai ou f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6:06:27Z</dcterms:created>
  <dc:creator>testpupil</dc:creator>
  <dc:description/>
  <dc:language>en-US</dc:language>
  <cp:lastModifiedBy>testpupil</cp:lastModifiedBy>
  <dcterms:modified xsi:type="dcterms:W3CDTF">2002-06-24T13:26:38Z</dcterms:modified>
  <cp:revision>16</cp:revision>
  <dc:subject/>
  <dc:title>No Slide Title</dc:title>
</cp:coreProperties>
</file>