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E4D-D6CD-420C-93AD-320FD736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356-C0C6-435F-AC5E-8BE83367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500-9DD3-4541-AF25-97206A30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5DF-C309-4032-9F8E-68902942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030-C73D-4BB0-BD36-0526026B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B31-26B6-4814-B31F-FEE01CF5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B84-6E2E-41D2-A5EA-68F23A9E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775-51EE-49B4-A866-7D16F28E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69D-B72B-4307-8122-B8C2AD10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83B-9765-4C37-8748-D3306EEB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B3B-44CB-4F85-879A-6B1982E3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573-3060-428A-8790-3BD69340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5C4F-F91D-4637-A252-14FF92BE5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image" Target="../media/image2.wmf"/><Relationship Id="rId8" Type="http://schemas.openxmlformats.org/officeDocument/2006/relationships/image" Target="../media/image10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gitalbrain.com/document.server/subjects/ks3fre/su3/media/direct.htm" TargetMode="Externa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867280" y="609480"/>
            <a:ext cx="1257480" cy="110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391520" y="60948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57200" y="2209680"/>
            <a:ext cx="15318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91520" y="2819520"/>
            <a:ext cx="1352520" cy="1447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286000" y="2286000"/>
            <a:ext cx="2892600" cy="148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914400" y="4724280"/>
            <a:ext cx="100188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flipH="1">
            <a:off x="6705360" y="4724280"/>
            <a:ext cx="2438280" cy="18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2362320" y="4343400"/>
            <a:ext cx="11905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75248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ww.frenchrevision.co.u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27672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ction 2 unit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2514600" cy="241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2667240" cy="241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2743200" y="2057400"/>
            <a:ext cx="2743200" cy="24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-4038480" y="0"/>
            <a:ext cx="1600200" cy="157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876920" y="2057400"/>
            <a:ext cx="2900160" cy="403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-4038480" y="1828800"/>
            <a:ext cx="356076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-9296280" y="4419720"/>
            <a:ext cx="2892240" cy="1485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5638680" y="2590920"/>
            <a:ext cx="2379960" cy="289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 flipH="1">
            <a:off x="-4495680" y="2514600"/>
            <a:ext cx="3581280" cy="264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5181480" y="2819520"/>
            <a:ext cx="2552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295280"/>
            <a:ext cx="78483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à +     le =  a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= à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’ = à l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 = au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1257480" cy="1104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715000" y="3048120"/>
            <a:ext cx="1149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858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à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6094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14479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124080" y="0"/>
            <a:ext cx="2838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pour alle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1523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22096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march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7621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à l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895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égl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3886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 jar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495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’hô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60199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 p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47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à la g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219384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 march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895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à l’égl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3434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la po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5181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’hô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5897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 p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 jar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685800"/>
            <a:ext cx="3047760" cy="13716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266688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809880"/>
            <a:ext cx="1828800" cy="3048120"/>
          </a:xfrm>
          <a:prstGeom prst="upArrow">
            <a:avLst>
              <a:gd name="adj1" fmla="val 50000"/>
              <a:gd name="adj2" fmla="val 416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914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ournez à dro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971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ournez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à gau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0292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lez tout dro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362320"/>
            <a:ext cx="3048120" cy="1371600"/>
          </a:xfrm>
          <a:prstGeom prst="rightArrow">
            <a:avLst>
              <a:gd name="adj1" fmla="val 50000"/>
              <a:gd name="adj2" fmla="val 555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43828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2133720"/>
            <a:ext cx="1828800" cy="3047760"/>
          </a:xfrm>
          <a:prstGeom prst="upArrow">
            <a:avLst>
              <a:gd name="adj1" fmla="val 50000"/>
              <a:gd name="adj2" fmla="val 4166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1600200"/>
            <a:ext cx="3048120" cy="1371600"/>
          </a:xfrm>
          <a:prstGeom prst="rightArrow">
            <a:avLst>
              <a:gd name="adj1" fmla="val 50000"/>
              <a:gd name="adj2" fmla="val 555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572000"/>
            <a:ext cx="3048120" cy="1371600"/>
          </a:xfrm>
          <a:prstGeom prst="rightArrow">
            <a:avLst>
              <a:gd name="adj1" fmla="val 50000"/>
              <a:gd name="adj2" fmla="val 555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609480"/>
            <a:ext cx="3048120" cy="1371600"/>
          </a:xfrm>
          <a:prstGeom prst="rightArrow">
            <a:avLst>
              <a:gd name="adj1" fmla="val 50000"/>
              <a:gd name="adj2" fmla="val 555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2743200"/>
            <a:ext cx="1828800" cy="3048120"/>
          </a:xfrm>
          <a:prstGeom prst="upArrow">
            <a:avLst>
              <a:gd name="adj1" fmla="val 50000"/>
              <a:gd name="adj2" fmla="val 416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1600200"/>
            <a:ext cx="1828800" cy="3048120"/>
          </a:xfrm>
          <a:prstGeom prst="upArrow">
            <a:avLst>
              <a:gd name="adj1" fmla="val 50000"/>
              <a:gd name="adj2" fmla="val 416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480"/>
            <a:ext cx="1828800" cy="3048120"/>
          </a:xfrm>
          <a:prstGeom prst="upArrow">
            <a:avLst>
              <a:gd name="adj1" fmla="val 50000"/>
              <a:gd name="adj2" fmla="val 416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04812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83808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33412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257480" cy="1104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1190880" cy="1457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0948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914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990720"/>
            <a:ext cx="1143000" cy="838080"/>
          </a:xfrm>
          <a:prstGeom prst="rightArrow">
            <a:avLst>
              <a:gd name="adj1" fmla="val 50000"/>
              <a:gd name="adj2" fmla="val 340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8380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5909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590920"/>
            <a:ext cx="1143000" cy="838080"/>
          </a:xfrm>
          <a:prstGeom prst="rightArrow">
            <a:avLst>
              <a:gd name="adj1" fmla="val 50000"/>
              <a:gd name="adj2" fmla="val 340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25909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209680"/>
            <a:ext cx="762120" cy="1371600"/>
          </a:xfrm>
          <a:prstGeom prst="upArrow">
            <a:avLst>
              <a:gd name="adj1" fmla="val 50000"/>
              <a:gd name="adj2" fmla="val 4499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380880"/>
            <a:ext cx="1447920" cy="129564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4138" h="21600">
                <a:moveTo>
                  <a:pt x="0" y="0"/>
                </a:moveTo>
                <a:lnTo>
                  <a:pt x="24138" y="0"/>
                </a:lnTo>
                <a:lnTo>
                  <a:pt x="24138" y="21600"/>
                </a:lnTo>
                <a:lnTo>
                  <a:pt x="0" y="21600"/>
                </a:lnTo>
                <a:close/>
              </a:path>
              <a:path fill="lightenLess" w="24138" h="21600">
                <a:moveTo>
                  <a:pt x="0" y="0"/>
                </a:moveTo>
                <a:lnTo>
                  <a:pt x="24138" y="0"/>
                </a:lnTo>
                <a:lnTo>
                  <a:pt x="22738" y="1400"/>
                </a:lnTo>
                <a:lnTo>
                  <a:pt x="1400" y="1400"/>
                </a:lnTo>
                <a:close/>
              </a:path>
              <a:path fill="darken" w="24138" h="21600">
                <a:moveTo>
                  <a:pt x="24138" y="0"/>
                </a:moveTo>
                <a:lnTo>
                  <a:pt x="24138" y="21600"/>
                </a:lnTo>
                <a:lnTo>
                  <a:pt x="22738" y="20200"/>
                </a:lnTo>
                <a:lnTo>
                  <a:pt x="22738" y="1400"/>
                </a:lnTo>
                <a:close/>
              </a:path>
              <a:path fill="darkenLess" w="24138" h="21600">
                <a:moveTo>
                  <a:pt x="24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8" y="20200"/>
                </a:lnTo>
                <a:close/>
              </a:path>
              <a:path fill="lighten" w="24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8" h="21600">
                <a:moveTo>
                  <a:pt x="5063" y="3794"/>
                </a:moveTo>
                <a:lnTo>
                  <a:pt x="19075" y="10800"/>
                </a:lnTo>
                <a:lnTo>
                  <a:pt x="50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4495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572000"/>
            <a:ext cx="1523880" cy="838080"/>
          </a:xfrm>
          <a:prstGeom prst="leftArrow">
            <a:avLst>
              <a:gd name="adj1" fmla="val 50000"/>
              <a:gd name="adj2" fmla="val 4545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495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4572000"/>
            <a:ext cx="1143000" cy="838080"/>
          </a:xfrm>
          <a:prstGeom prst="rightArrow">
            <a:avLst>
              <a:gd name="adj1" fmla="val 50000"/>
              <a:gd name="adj2" fmla="val 340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29600" y="27432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4520" y="441972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24080" y="0"/>
            <a:ext cx="2838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pour alle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1143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ur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464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ur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64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ur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2743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ur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26668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575320" cy="5715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761760" cy="731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914400" cy="803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724280" y="3505320"/>
            <a:ext cx="711360" cy="99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572000" y="21337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900520" y="609480"/>
            <a:ext cx="92520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2971800" y="2133720"/>
            <a:ext cx="838080" cy="757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6172200" y="5335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3880" y="37339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1219320" y="3733920"/>
            <a:ext cx="1066680" cy="547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1600" y="6095880"/>
            <a:ext cx="3200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/>
          </p:cNvPr>
          <p:cNvSpPr/>
          <p:nvPr/>
        </p:nvSpPr>
        <p:spPr>
          <a:xfrm>
            <a:off x="609480" y="1600200"/>
            <a:ext cx="304812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ouver son chemin à partir de l'hô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809880"/>
            <a:ext cx="16002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éco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80880"/>
            <a:ext cx="4419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 vocabulai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781680" y="3962520"/>
            <a:ext cx="1710000" cy="2433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43000" y="4952880"/>
            <a:ext cx="342900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rai ou f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6:06:27Z</dcterms:created>
  <dc:creator>testpupil</dc:creator>
  <dc:description/>
  <dc:language>en-US</dc:language>
  <cp:lastModifiedBy>testpupil</cp:lastModifiedBy>
  <dcterms:modified xsi:type="dcterms:W3CDTF">2002-06-24T13:26:38Z</dcterms:modified>
  <cp:revision>16</cp:revision>
  <dc:subject/>
  <dc:title>No Slide Title</dc:title>
</cp:coreProperties>
</file>