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245-DBCA-4BA7-BC00-98138201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152-C864-4813-8545-CECBBC5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9E5-8EE5-4CD0-86D1-5015CE40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A8C-AB8F-4A8F-8AD2-0FBC2476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242-8EBC-4F61-8619-73D7A758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1B0-BF49-4770-8144-CC6752F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4B6-53D9-4371-A8D3-60BB0358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FC1-2B0B-449C-871C-E3DB8AB1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0EF-9758-4F9C-893C-B5F60070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0CA-FD50-46FC-802F-AC9D432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4C0-EDCE-401C-88E2-C09D73C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3C0-10CF-4128-A023-CD9D25D5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BC42-1C83-4D6D-90F6-A4855B1A3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4724280"/>
            <a:ext cx="8424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Quelle heure est-il 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2705040" cy="306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95640" y="6524640"/>
            <a:ext cx="5148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9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dix-hui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ar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06692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360" y="2276640"/>
            <a:ext cx="142920" cy="1152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seize 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276640"/>
            <a:ext cx="0" cy="936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m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51640" y="1125360"/>
            <a:ext cx="0" cy="1151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trois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de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276640"/>
            <a:ext cx="108108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cinq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vi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84360" y="2276640"/>
            <a:ext cx="136692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2276640"/>
            <a:ext cx="720720" cy="792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4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onze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651640" y="836640"/>
            <a:ext cx="792000" cy="1440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19640" y="1412640"/>
            <a:ext cx="432000" cy="863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5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huit heures d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500360" y="1557360"/>
            <a:ext cx="1150920" cy="719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87640" y="2276640"/>
            <a:ext cx="863640" cy="647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6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quatre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276640"/>
            <a:ext cx="100800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7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neuf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le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2276640"/>
            <a:ext cx="165600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716360" y="1773360"/>
            <a:ext cx="935280" cy="503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8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ving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16360" y="2276640"/>
            <a:ext cx="935280" cy="360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9:28:58Z</dcterms:created>
  <dc:creator>Clare</dc:creator>
  <dc:description/>
  <dc:language>en-US</dc:language>
  <cp:lastModifiedBy>Clare</cp:lastModifiedBy>
  <dcterms:modified xsi:type="dcterms:W3CDTF">2008-04-24T20:35:28Z</dcterms:modified>
  <cp:revision>12</cp:revision>
  <dc:subject/>
  <dc:title>Slide 1</dc:title>
</cp:coreProperties>
</file>