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701-0503-4EE9-912A-476E6A40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3D8-4166-459A-9D68-40086744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D75-4D96-4236-9C7D-ED757E5A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8A1-17B4-4A64-A1BF-82888EBE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230-D115-4AE4-981A-5E9603D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660-FF8E-4332-B10C-B0B21F9D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824-9B07-41E3-A356-AB427020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B6A-CAEC-4964-9562-5EA712C2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C6C-1CCB-4C5C-AD73-0FB8A4D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3C9-2C17-47AE-B8C3-0F650F9E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DD4-7A99-44C0-A1B8-45D8E692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76B-8C8D-482A-827E-E8D82C0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A958-53D5-4DBC-B1FB-9883F683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4724280"/>
            <a:ext cx="8424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Quelle heure est-il 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67280" y="836640"/>
            <a:ext cx="2705040" cy="306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95640" y="6524640"/>
            <a:ext cx="5148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2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9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dix-huit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ar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066920" y="2276640"/>
            <a:ext cx="158436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360" y="2276640"/>
            <a:ext cx="142920" cy="1152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1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seize he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651640" y="620640"/>
            <a:ext cx="0" cy="1656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276640"/>
            <a:ext cx="0" cy="936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1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mi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651640" y="620640"/>
            <a:ext cx="0" cy="1656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51640" y="1125360"/>
            <a:ext cx="0" cy="1151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2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trois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t de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2276640"/>
            <a:ext cx="158436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276640"/>
            <a:ext cx="108108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3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cinq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ins vin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84360" y="2276640"/>
            <a:ext cx="1366920" cy="72072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2276640"/>
            <a:ext cx="720720" cy="792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4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onze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651640" y="836640"/>
            <a:ext cx="792000" cy="144000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19640" y="1412640"/>
            <a:ext cx="432000" cy="86364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5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4941720"/>
            <a:ext cx="619272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huit heures d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500360" y="1557360"/>
            <a:ext cx="1150920" cy="719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787640" y="2276640"/>
            <a:ext cx="863640" cy="64764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6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quatre heur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t qu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2276640"/>
            <a:ext cx="0" cy="16570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276640"/>
            <a:ext cx="1008000" cy="72072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4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7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neuf heur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ins le qu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2276640"/>
            <a:ext cx="1656000" cy="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716360" y="1773360"/>
            <a:ext cx="935280" cy="5032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189000"/>
            <a:ext cx="115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989000"/>
            <a:ext cx="151308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faux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368928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468360" y="1773360"/>
            <a:ext cx="71892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ou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4724280"/>
            <a:ext cx="136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No. 8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4941720"/>
            <a:ext cx="6192720" cy="13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l est vingt heures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2276640"/>
            <a:ext cx="0" cy="165708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16360" y="2276640"/>
            <a:ext cx="935280" cy="360360"/>
          </a:xfrm>
          <a:prstGeom prst="line">
            <a:avLst/>
          </a:prstGeom>
          <a:ln w="7632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92360" y="3141720"/>
            <a:ext cx="4464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99"/>
                    </a:gs>
                  </a:gsLst>
                  <a:lin ang="10800000"/>
                </a:gradFill>
                <a:latin typeface="Arial Black"/>
              </a:rPr>
              <a:t>vra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med" advTm="14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9:28:58Z</dcterms:created>
  <dc:creator>Clare</dc:creator>
  <dc:description/>
  <dc:language>en-US</dc:language>
  <cp:lastModifiedBy>Clare</cp:lastModifiedBy>
  <dcterms:modified xsi:type="dcterms:W3CDTF">2008-04-24T20:35:28Z</dcterms:modified>
  <cp:revision>12</cp:revision>
  <dc:subject/>
  <dc:title>Slide 1</dc:title>
</cp:coreProperties>
</file>