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F08-E0D5-4CDD-B069-77766C71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23B-8B06-4C30-9ACC-D6134BF7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7EE-D16C-4A8E-977E-F76A0F1D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76D-BA83-4FA9-AC25-B2E5B7E7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0FD-23F0-4AB4-8013-F534303A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9F1-5AC7-4F10-91A0-CEA9D3E0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7C0B-8432-4ACC-B60C-8CC56627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4899-1AA0-4914-91A5-C33E1163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81E5-BE99-4A9F-937A-70FE8D87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FC7-4C62-4A33-B050-02B8F6AF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90F2-9C29-464D-AA52-CF433997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7F69-27CD-4791-9919-7E286DF6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CB59-DEC7-4732-AC51-8C7DD4B449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2205000"/>
            <a:ext cx="6985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rioche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920" y="260280"/>
            <a:ext cx="2663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e voiture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00720" y="260280"/>
            <a:ext cx="39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e sorte de chapeau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4653000"/>
            <a:ext cx="2663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e chanson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1280" y="5877000"/>
            <a:ext cx="252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gâteau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0" y="1268280"/>
            <a:ext cx="2664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e fleur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12000" y="4869000"/>
            <a:ext cx="2663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village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859280" y="5805360"/>
            <a:ext cx="2664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bijou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1413000"/>
            <a:ext cx="2663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arbre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968400" cy="70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431200" y="0"/>
            <a:ext cx="712800" cy="712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059280" y="1125360"/>
            <a:ext cx="880920" cy="100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308720" y="105264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419640" y="4508640"/>
            <a:ext cx="876240" cy="799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203640" y="5661000"/>
            <a:ext cx="1008000" cy="860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308720" y="5516640"/>
            <a:ext cx="149868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Brioche"/>
          <p:cNvPicPr/>
          <p:nvPr/>
        </p:nvPicPr>
        <p:blipFill>
          <a:blip r:embed="rId1"/>
          <a:stretch/>
        </p:blipFill>
        <p:spPr>
          <a:xfrm>
            <a:off x="2556000" y="404640"/>
            <a:ext cx="4008240" cy="60487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58" name=""/>
          <p:cNvSpPr txBox="1"/>
          <p:nvPr/>
        </p:nvSpPr>
        <p:spPr>
          <a:xfrm>
            <a:off x="250920" y="907920"/>
            <a:ext cx="172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élicieu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04000" y="981000"/>
            <a:ext cx="1944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ffreu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80360" y="1159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77080" y="1773360"/>
            <a:ext cx="1944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rri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1700280"/>
            <a:ext cx="1728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cr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4000" y="2565360"/>
            <a:ext cx="172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avoreu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213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48360" y="4365720"/>
            <a:ext cx="1729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ou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948360" y="5157720"/>
            <a:ext cx="172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s m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164360" y="2708280"/>
            <a:ext cx="122400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3429000"/>
            <a:ext cx="172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lécha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2:50:11Z</dcterms:created>
  <dc:creator>clare.seccombe</dc:creator>
  <dc:description/>
  <dc:language>en-US</dc:language>
  <cp:lastModifiedBy>Clare Seccombe</cp:lastModifiedBy>
  <dcterms:modified xsi:type="dcterms:W3CDTF">2010-11-02T09:46:47Z</dcterms:modified>
  <cp:revision>4</cp:revision>
  <dc:subject/>
  <dc:title>Slide 1</dc:title>
</cp:coreProperties>
</file>