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918-A8AF-48AF-BFB9-12E17E9E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58A-8EDF-4C29-B854-600B2D4A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429-4BEA-4D33-AF52-67D1E016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76B-9C51-4A7A-99F6-6E0C0BDC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8CD-93B5-49FC-AF67-6FE4A02A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013-212E-43D5-A1E2-BA0606A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3B6-8BFB-4A0D-9749-61E6CBAA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758-6DC1-4346-9D8F-95B387A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9A7-26EA-4674-8DAC-F32BA871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172-5845-4334-AAB7-040BA86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72A-CD44-42DF-B1AF-AE7FAEF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A7B-D830-4B6E-BAC7-611FDF6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D6B3-8A26-4130-A4BA-7072940713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205000"/>
            <a:ext cx="6985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rioch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260280"/>
            <a:ext cx="26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voitur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00720" y="260280"/>
            <a:ext cx="39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sorte de chapeau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4653000"/>
            <a:ext cx="266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chanson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5877000"/>
            <a:ext cx="25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gâteau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1268280"/>
            <a:ext cx="26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e fleur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12000" y="4869000"/>
            <a:ext cx="266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villag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59280" y="5805360"/>
            <a:ext cx="26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bijou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413000"/>
            <a:ext cx="266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 arbr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968400" cy="70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431200" y="0"/>
            <a:ext cx="712800" cy="71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59280" y="1125360"/>
            <a:ext cx="880920" cy="10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308720" y="10526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419640" y="4508640"/>
            <a:ext cx="87624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03640" y="5661000"/>
            <a:ext cx="1008000" cy="86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308720" y="5516640"/>
            <a:ext cx="14986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Brioche"/>
          <p:cNvPicPr/>
          <p:nvPr/>
        </p:nvPicPr>
        <p:blipFill>
          <a:blip r:embed="rId1"/>
          <a:stretch/>
        </p:blipFill>
        <p:spPr>
          <a:xfrm>
            <a:off x="2556000" y="404640"/>
            <a:ext cx="4008240" cy="6048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250920" y="90792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élici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04000" y="981000"/>
            <a:ext cx="194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fr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0360" y="1159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77080" y="1773360"/>
            <a:ext cx="194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rr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700280"/>
            <a:ext cx="1728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cr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256536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vor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48360" y="4365720"/>
            <a:ext cx="172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948360" y="5157720"/>
            <a:ext cx="172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 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64360" y="2708280"/>
            <a:ext cx="12240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342900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léch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2:50:11Z</dcterms:created>
  <dc:creator>clare.seccombe</dc:creator>
  <dc:description/>
  <dc:language>en-US</dc:language>
  <cp:lastModifiedBy>Clare Seccombe</cp:lastModifiedBy>
  <dcterms:modified xsi:type="dcterms:W3CDTF">2010-11-02T09:46:47Z</dcterms:modified>
  <cp:revision>4</cp:revision>
  <dc:subject/>
  <dc:title>Slide 1</dc:title>
</cp:coreProperties>
</file>