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782F-FB1A-48A7-8D17-EF4F1111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8AFB-516A-4EFD-A0EE-D336DC35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91DD-1B88-4C31-A9DE-4C31A62B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60FB-29F5-43EB-98EA-A05FD7801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27AC-5555-45FD-A9BC-0E5DBB5D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F6CD-B7A3-4547-852B-A70C034E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57F3-6D22-46EA-BB2F-CDD088DA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2FBA-F0AB-43CC-A85C-36DF410F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427D-E181-46B5-A5DE-E81DFD59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5E3E-2A76-49C3-AC00-4D6D2DC1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2712-8BBB-47D7-BBC1-4AD79F54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4981-2E49-4FBF-A315-1587249A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727E-F366-4112-9AF1-E8477D7E2C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blogs.mysanantonio.com/weblogs/latinnotes/archives/DomingoPlacido022807.JPG&amp;imgrefurl=http://blogs.mysanantonio.com/weblogs/latinnotes/archives/2007/02/placido_domingo.html&amp;h=360&amp;w=298&amp;sz=18&amp;hl=en&amp;start=11&amp;um=1&amp;tbnid=HPnF2judnHJ9zM:&amp;tbnh=121&amp;tbnw=100&amp;prev=/images%3Fq%3Dplacido%2Bdomingo%26svnum%3D10%26um%3D1%26hl%3Den%26safe%3Dactive%26sa%3D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03640" y="1052640"/>
            <a:ext cx="2467080" cy="3343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’homme le plus gr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465300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___________ mèt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4653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2,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5445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Rounded MT Bold"/>
              </a:rPr>
              <a:t>Robert Pershing Wadlow, 8’11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916360" y="1197000"/>
            <a:ext cx="2536560" cy="3382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11280" y="5445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Rounded MT Bold"/>
              </a:rPr>
              <a:t>Sandy Allen, 7’7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24360" y="4653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2,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472428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___________ mèt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a femme la plus gra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Gold Frog"/>
          <p:cNvPicPr/>
          <p:nvPr/>
        </p:nvPicPr>
        <p:blipFill>
          <a:blip r:embed="rId1"/>
          <a:stretch/>
        </p:blipFill>
        <p:spPr>
          <a:xfrm>
            <a:off x="3635280" y="1413000"/>
            <a:ext cx="1914480" cy="1904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a grenouille la plus pet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0000" y="465300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___________ milimèt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64000" y="4653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9,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5445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Rounded MT Bold"/>
              </a:rPr>
              <a:t>Gold Fr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Goliath Toad"/>
          <p:cNvPicPr/>
          <p:nvPr/>
        </p:nvPicPr>
        <p:blipFill>
          <a:blip r:embed="rId1"/>
          <a:stretch/>
        </p:blipFill>
        <p:spPr>
          <a:xfrm>
            <a:off x="2556000" y="1773360"/>
            <a:ext cx="3190680" cy="2428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a grenouille la plus gra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465300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___________ centimèt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08360" y="4653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445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Rounded MT Bold"/>
              </a:rPr>
              <a:t>Goliath Frog, Camer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35280" y="1413000"/>
            <a:ext cx="4680000" cy="2976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e fromage le plus gr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0000" y="465300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___________ ton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64000" y="4653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15,6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5445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Rounded MT Bold"/>
              </a:rPr>
              <a:t>Wisconsin, 19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03640" y="1197000"/>
            <a:ext cx="2370240" cy="3240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a botte la plus gra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465300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___________ mèt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24360" y="4653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6,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5445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Rounded MT Bold"/>
              </a:rPr>
              <a:t>Minnesota, 4.9m tall, 6.1m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03640" y="1052640"/>
            <a:ext cx="2495520" cy="3744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’ascenseur le plus rap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465300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___________ mètres par minu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4653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1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544500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Rounded MT Bold"/>
              </a:rPr>
              <a:t>Taipei 101 Building, Taiwan.  508m, 101 storeys.  84 floors in 37 seco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268280"/>
            <a:ext cx="2143080" cy="2592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79280" y="26028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es applaudissements les plus l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0000" y="465300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________ heures______ min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4581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03640" y="4653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5445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Rounded MT Bold"/>
              </a:rPr>
              <a:t>Plácido Domingo, Vienna, 19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09:37:56Z</dcterms:created>
  <dc:creator>clare.seccombe</dc:creator>
  <dc:description/>
  <dc:language>en-US</dc:language>
  <cp:lastModifiedBy>Clare Seccombe</cp:lastModifiedBy>
  <dcterms:modified xsi:type="dcterms:W3CDTF">2010-11-02T10:52:31Z</dcterms:modified>
  <cp:revision>5</cp:revision>
  <dc:subject/>
  <dc:title>Slide 1</dc:title>
</cp:coreProperties>
</file>