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F48-AB73-4D9B-9F2A-B3F68DE5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32C-B02C-4505-88C9-CA4D2F8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DC9-2D4A-49E7-8C4D-F4204FA3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62A-B662-4DC8-B2AC-2DA10E8F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BEB-251D-46E9-94A1-93D3C79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CFD-03AE-4E00-A836-EA3B43E3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060-A51A-44CF-84BE-E74D992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8EB-C5A2-401C-9F2C-77288BF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33E-0425-43FD-B7FF-FF2368C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97A-C8CE-4905-984C-C73F1609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494-33B2-4981-A40C-4D395F6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E57-AE37-4C80-B9EE-A435D43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09D-2785-4C79-B038-EFD9BFBC0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logs.mysanantonio.com/weblogs/latinnotes/archives/DomingoPlacido022807.JPG&amp;imgrefurl=http://blogs.mysanantonio.com/weblogs/latinnotes/archives/2007/02/placido_domingo.html&amp;h=360&amp;w=298&amp;sz=18&amp;hl=en&amp;start=11&amp;um=1&amp;tbnid=HPnF2judnHJ9zM:&amp;tbnh=121&amp;tbnw=100&amp;prev=/images%3Fq%3Dplacido%2Bdomingo%26svnum%3D10%26um%3D1%26hl%3Den%26safe%3Dactive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467080" cy="334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homm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Robert Pershing Wadlow, 8’1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2536560" cy="338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Sandy Allen, 7’7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femm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Gold Frog"/>
          <p:cNvPicPr/>
          <p:nvPr/>
        </p:nvPicPr>
        <p:blipFill>
          <a:blip r:embed="rId1"/>
          <a:stretch/>
        </p:blipFill>
        <p:spPr>
          <a:xfrm>
            <a:off x="3635280" y="1413000"/>
            <a:ext cx="191448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il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9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d Fr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liath Toad"/>
          <p:cNvPicPr/>
          <p:nvPr/>
        </p:nvPicPr>
        <p:blipFill>
          <a:blip r:embed="rId1"/>
          <a:stretch/>
        </p:blipFill>
        <p:spPr>
          <a:xfrm>
            <a:off x="2556000" y="1773360"/>
            <a:ext cx="319068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cent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iath Frog, Camer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68000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fromag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___________ to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5,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Wisconsin,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37024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bott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6,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Minnesota, 4.9m tall, 6.1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495520" cy="374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scenseur le plus rap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 par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6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445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Taipei 101 Building, Taiwan.  508m, 101 storeys.  84 floors in 37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26828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pplaudissements les plus l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 heures______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5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Plácido Domingo, Vienna,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9:37:56Z</dcterms:created>
  <dc:creator>clare.seccombe</dc:creator>
  <dc:description/>
  <dc:language>en-US</dc:language>
  <cp:lastModifiedBy>Clare Seccombe</cp:lastModifiedBy>
  <dcterms:modified xsi:type="dcterms:W3CDTF">2010-11-02T10:52:31Z</dcterms:modified>
  <cp:revision>5</cp:revision>
  <dc:subject/>
  <dc:title>Slide 1</dc:title>
</cp:coreProperties>
</file>