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CD6-FB42-4C07-B674-0E45DAD6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1F8-4D52-4FFF-A0F3-2F92EDB3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E05-797C-43FB-BABD-195E9BE8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020-2702-4363-9F36-9735DC7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8B4-DBC5-43C2-8F79-EAD6946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651-78DD-4354-9BFB-2CA541E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49F-1CAF-4BBE-81B1-6A874DCF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58F-9D4B-4BB6-813D-62AE11FA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6FF-2FB8-4527-BB7B-E08A159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4A6-17BA-43A7-BDB1-901BED9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667-A40E-4BBE-8B24-C3A6740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3D9-FC83-40FD-8900-E2027BB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F917-747F-4BB1-8D1B-5A33B53A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3.wmf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lipartguide.com/_named_clipart_images/0511-0902-0302-2357_Cartoon_of_a_Cold_Duck_Shivering_with_Ice_on_His_Beak_clipart_image.jpg&amp;imgrefurl=http://www.clipartguide.com/_pages/0511-0902-0302-2357.html&amp;usg=__FeiKuSPVwZDRDQIgwgs5l0K6ZtU=&amp;h=350&amp;w=221&amp;sz=63&amp;hl=en&amp;start=3&amp;zoom=1&amp;itbs=1&amp;tbnid=BH8ncKPk2fdYHM:&amp;tbnh=120&amp;tbnw=76&amp;prev=/images%3Fq%3Dduck%2Bcold%26hl%3Den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el temps fait-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on objective: learn how to describe the weather in the 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97720" y="649044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MColwell 2011 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392720" cy="39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4000" y="4941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Il y a du sole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/solay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5184720" cy="4186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43280" y="501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ple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48440" cy="434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87640" y="5013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nei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97160" cy="357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56000" y="501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Il gèle /jel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103640" cy="37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4653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Le ciel est ble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990099"/>
                </a:solidFill>
                <a:latin typeface="Comic Sans MS"/>
              </a:rPr>
              <a:t>/see-el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117324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1944360" cy="12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164360" y="260280"/>
            <a:ext cx="1582920" cy="141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55640" y="2997360"/>
            <a:ext cx="117468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24000" y="2421000"/>
            <a:ext cx="1087200" cy="8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2565360"/>
            <a:ext cx="1016280" cy="78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2492280"/>
            <a:ext cx="97488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735200" cy="122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4797360"/>
            <a:ext cx="1368360" cy="122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1908000" y="486900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924360" y="4797360"/>
            <a:ext cx="1395360" cy="122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667640" y="4869000"/>
            <a:ext cx="1297080" cy="111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5940360" y="4869000"/>
            <a:ext cx="120348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3348000" y="2421000"/>
            <a:ext cx="981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274680"/>
          <a:ext cx="8229600" cy="637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ç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fr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mauv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un temps de chi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eather is dread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l fait un froid de can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bitterly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brouill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l y a du sole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gè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le ciel est bl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3240" y="33336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 s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052640"/>
          <a:ext cx="8229240" cy="54716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7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prin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prantom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ét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utom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h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eevair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67464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6360" y="47242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il n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64360" cy="339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869000"/>
            <a:ext cx="49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cha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345120" cy="410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4869000"/>
            <a:ext cx="49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fro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18472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4869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mauv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0000" cy="417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40000" y="4941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Comic Sans MS"/>
              </a:rPr>
              <a:t>Il fait b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2104920" cy="232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472428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un temps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         </a:t>
            </a: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chi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095560" cy="16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11640" y="69228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4797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Il fait un froid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1" lang="en-GB" sz="5400" spc="-1" strike="noStrike">
                <a:solidFill>
                  <a:srgbClr val="0033cc"/>
                </a:solidFill>
                <a:latin typeface="Comic Sans MS"/>
              </a:rPr>
              <a:t>can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76280"/>
            <a:ext cx="26226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631960" cy="388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4000" y="4941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Il y a du v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40720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494172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Il y a du brouill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ff3300"/>
                </a:solidFill>
                <a:latin typeface="Comic Sans MS"/>
              </a:rPr>
              <a:t>/bree-ar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5:48:08Z</dcterms:created>
  <dc:creator>user</dc:creator>
  <dc:description/>
  <dc:language>en-US</dc:language>
  <cp:lastModifiedBy>Clare Seccombe</cp:lastModifiedBy>
  <dcterms:modified xsi:type="dcterms:W3CDTF">2011-04-04T11:17:21Z</dcterms:modified>
  <cp:revision>16</cp:revision>
  <dc:subject/>
  <dc:title>Quel temps fait-il?</dc:title>
</cp:coreProperties>
</file>