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30.gif" ContentType="image/gif"/>
  <Override PartName="/ppt/media/image19.png" ContentType="image/png"/>
  <Override PartName="/ppt/media/image26.png" ContentType="image/png"/>
  <Override PartName="/ppt/media/image13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7.jpeg" ContentType="image/jpeg"/>
  <Override PartName="/ppt/media/image3.jpeg" ContentType="image/jpeg"/>
  <Override PartName="/ppt/media/image28.png" ContentType="image/png"/>
  <Override PartName="/ppt/media/image7.jpeg" ContentType="image/jpeg"/>
  <Override PartName="/ppt/media/image40.wmf" ContentType="image/x-wmf"/>
  <Override PartName="/ppt/media/image15.gif" ContentType="image/gif"/>
  <Override PartName="/ppt/media/image5.wmf" ContentType="image/x-wmf"/>
  <Override PartName="/ppt/media/image18.png" ContentType="image/png"/>
  <Override PartName="/ppt/media/image6.jpeg" ContentType="image/jpeg"/>
  <Override PartName="/ppt/media/image3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49A-0CE9-40ED-858C-620C451F2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50BF-E667-40AA-BA54-F76A8B40B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1F2-3024-4C96-9ABF-A9582E341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47C8-3C9E-4374-8BBB-53590C100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D93-F592-4612-8752-161CFE68C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458-261F-4DF5-8C35-F1EB23D70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E4B4-F7D1-4F21-8080-D26F1D460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E8C2-B995-4C66-93E3-4789E89D1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A51-F24F-49C2-97B0-B4F22AD47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6FA0-4178-47F9-9315-4DCC54342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0FE-666A-4BD6-8D34-E9199EFE3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225-9E7F-4E2F-A19D-54ECF44B1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6633-D9B8-476C-B2B2-A8F0FD5E0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795-0D46-468C-B918-A9EDE6703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3E1-2976-4CE2-BD23-2484EF293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B89-228F-4822-96CD-BD03AFD2A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938-2BCB-4761-987F-0F6291778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967-D8BC-4CE0-912E-370DE563E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A97-174D-40DC-8D2D-ACE47A5FB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A5F9-198E-4EA9-8D0D-35032AD3C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301-EC66-4443-A560-04B42B6E7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23E7-8233-4D55-92B3-C56C93F7D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903-4251-4EF7-9CC4-E1C25A64A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B43-1FD8-4932-B051-343DAB1FE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6F86-3AF5-4AAC-9214-E6C12FC88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CC2-B7AA-4015-8C18-AB5B234C2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925-45AB-46C0-AD5A-1E6B71AD5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1FD-D5A2-460E-95C8-5048621FA3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24A-BA01-450F-9EF1-B5BA281BC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CDF-9F7B-4951-A298-53015AE82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11D3-3468-4C66-B56E-47034DBE4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77E-C3BE-4F41-8182-4D95D1BB0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109-A748-49F6-ABA9-5AFA12DA3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0AB6-8031-4823-8ADD-02ECC763D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7FB-37B4-46D1-A84B-A6ABE4583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9E2-3F01-42FC-82B1-5C0D8B0FB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919-AC1D-4EAA-A255-93CB74146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CDBE-51D0-474F-A1C3-5298F3232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083-F6FB-4509-9A48-2B60F6A79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8DBC-4EFA-4910-AF73-3F591053E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4A99-8C89-45FC-A232-D82B3652F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B1AB-53E8-442F-B9A5-06BEDBB92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E7E6-E9DA-4355-BCE2-24D04B570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E2D-48AB-4C6E-8D6D-4041CC4E8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55CB-C5B8-40DE-9EA3-C5B0D7174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4AF4-A2F9-4258-8A2C-0445F17ED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9478-8D3F-4090-B556-D39DFC686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E65-53DF-434E-912E-29189443D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1ECF-FDD1-4899-9BDE-F223D8CD8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BA02-CA18-4F31-9F03-934FC5C7E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578-FF10-4049-93C0-B9B438B6A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3F7-A5F8-4E0B-AA5F-163882FD6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A1AA-A729-4254-8513-026EB0D58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263-A26A-4D3C-8213-0C50DC05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765-443E-4A37-B150-E0841CF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2F0-F55B-4A32-A434-B00A8794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26B-4C76-4A5F-8FA8-5ED959EA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513-60AC-4C48-95D6-4C1CE7B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D6E-D5D9-433E-96DD-A6B3814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67F-D732-43D3-80F7-BA175B0A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DD4-297D-4060-81DD-970BE71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29E-4C69-4875-973B-F44E7110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58E-007B-464B-A9C7-3242BA9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60F-2350-470A-995C-94333476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A7C-C935-4415-B8E3-B9DB06F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115B-0BEE-420B-80CE-DB99C09546C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6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6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6.png"/><Relationship Id="rId6" Type="http://schemas.openxmlformats.org/officeDocument/2006/relationships/image" Target="../media/image33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2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jpeg"/><Relationship Id="rId3" Type="http://schemas.openxmlformats.org/officeDocument/2006/relationships/image" Target="../media/image39.jpeg"/><Relationship Id="rId4" Type="http://schemas.openxmlformats.org/officeDocument/2006/relationships/image" Target="../media/image40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71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ez notre </a:t>
            </a:r>
            <a:r>
              <a:rPr b="0" lang="en-GB" sz="3600" spc="-1" strike="noStrike">
                <a:solidFill>
                  <a:srgbClr val="0070c0"/>
                </a:solidFill>
                <a:latin typeface="Comic Sans MS"/>
              </a:rPr>
              <a:t>copai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/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cop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www.bravotv.com/media/imagecache/photo-scaled/images/fantasy-homes-04.jpg"/>
          <p:cNvPicPr/>
          <p:nvPr/>
        </p:nvPicPr>
        <p:blipFill>
          <a:blip r:embed="rId1"/>
          <a:stretch/>
        </p:blipFill>
        <p:spPr>
          <a:xfrm>
            <a:off x="1908000" y="2492280"/>
            <a:ext cx="50961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http://www4.pictures.zimbio.com/gi/Olly+Murs+T4+Stars+2010+Concert+zwSfmtK9Xzil.jpg"/>
          <p:cNvPicPr/>
          <p:nvPr/>
        </p:nvPicPr>
        <p:blipFill>
          <a:blip r:embed="rId8"/>
          <a:stretch/>
        </p:blipFill>
        <p:spPr>
          <a:xfrm>
            <a:off x="611280" y="1413000"/>
            <a:ext cx="2738520" cy="412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Box 9"/>
          <p:cNvSpPr/>
          <p:nvPr/>
        </p:nvSpPr>
        <p:spPr>
          <a:xfrm>
            <a:off x="3564000" y="1989000"/>
            <a:ext cx="5040360" cy="22269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conc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ttp://www.netanimations.net/Animated-gif-spinning-question-mark-picture-moving.gif"/>
          <p:cNvPicPr/>
          <p:nvPr/>
        </p:nvPicPr>
        <p:blipFill>
          <a:blip r:embed="rId9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http://www4.pictures.zimbio.com/gi/Olly+Murs+T4+Stars+2010+Concert+zwSfmtK9Xzil.jpg"/>
          <p:cNvPicPr/>
          <p:nvPr/>
        </p:nvPicPr>
        <p:blipFill>
          <a:blip r:embed="rId8"/>
          <a:stretch/>
        </p:blipFill>
        <p:spPr>
          <a:xfrm>
            <a:off x="611280" y="1413000"/>
            <a:ext cx="2738520" cy="412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8" name="TextBox 9"/>
          <p:cNvSpPr/>
          <p:nvPr/>
        </p:nvSpPr>
        <p:spPr>
          <a:xfrm>
            <a:off x="3564000" y="1989000"/>
            <a:ext cx="5040360" cy="22269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pourrait aller au conc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http://www.netanimations.net/Animated-gif-spinning-question-mark-picture-moving.gif"/>
          <p:cNvPicPr/>
          <p:nvPr/>
        </p:nvPicPr>
        <p:blipFill>
          <a:blip r:embed="rId9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30ish.me/wp-content/uploads/2012/10/Theatre-London.jpg"/>
          <p:cNvPicPr/>
          <p:nvPr/>
        </p:nvPicPr>
        <p:blipFill>
          <a:blip r:embed="rId9"/>
          <a:stretch/>
        </p:blipFill>
        <p:spPr>
          <a:xfrm>
            <a:off x="395280" y="1413000"/>
            <a:ext cx="5521320" cy="366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9" name="TextBox 9"/>
          <p:cNvSpPr/>
          <p:nvPr/>
        </p:nvSpPr>
        <p:spPr>
          <a:xfrm>
            <a:off x="3564000" y="1989000"/>
            <a:ext cx="504036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lub de 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30ish.me/wp-content/uploads/2012/10/Theatre-London.jpg"/>
          <p:cNvPicPr/>
          <p:nvPr/>
        </p:nvPicPr>
        <p:blipFill>
          <a:blip r:embed="rId9"/>
          <a:stretch/>
        </p:blipFill>
        <p:spPr>
          <a:xfrm>
            <a:off x="395280" y="1413000"/>
            <a:ext cx="5521320" cy="366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9" name="TextBox 9"/>
          <p:cNvSpPr/>
          <p:nvPr/>
        </p:nvSpPr>
        <p:spPr>
          <a:xfrm>
            <a:off x="3564000" y="1989000"/>
            <a:ext cx="504036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lub de je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www.bravotv.com/media/imagecache/photo-scaled/images/fantasy-homes-04.jpg"/>
          <p:cNvPicPr/>
          <p:nvPr/>
        </p:nvPicPr>
        <p:blipFill>
          <a:blip r:embed="rId9"/>
          <a:stretch/>
        </p:blipFill>
        <p:spPr>
          <a:xfrm>
            <a:off x="179280" y="1413000"/>
            <a:ext cx="557712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9" name="TextBox 9"/>
          <p:cNvSpPr/>
          <p:nvPr/>
        </p:nvSpPr>
        <p:spPr>
          <a:xfrm>
            <a:off x="3924360" y="1989000"/>
            <a:ext cx="4968720" cy="3080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terrain d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chez notre co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365720"/>
            <a:ext cx="531720" cy="90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www.bravotv.com/media/imagecache/photo-scaled/images/fantasy-homes-04.jpg"/>
          <p:cNvPicPr/>
          <p:nvPr/>
        </p:nvPicPr>
        <p:blipFill>
          <a:blip r:embed="rId9"/>
          <a:stretch/>
        </p:blipFill>
        <p:spPr>
          <a:xfrm>
            <a:off x="179280" y="1413000"/>
            <a:ext cx="557712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9"/>
          <p:cNvSpPr/>
          <p:nvPr/>
        </p:nvSpPr>
        <p:spPr>
          <a:xfrm>
            <a:off x="3924360" y="1989000"/>
            <a:ext cx="4968720" cy="3080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terrain d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chez notre co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508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DsBfJlOWGLrcfQJBhgTM2Mh2kEKsnPwn_800x600.jpg"/>
          <p:cNvPicPr/>
          <p:nvPr/>
        </p:nvPicPr>
        <p:blipFill>
          <a:blip r:embed="rId9"/>
          <a:stretch/>
        </p:blipFill>
        <p:spPr>
          <a:xfrm>
            <a:off x="250920" y="1700280"/>
            <a:ext cx="5329080" cy="353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9" name="TextBox 9"/>
          <p:cNvSpPr/>
          <p:nvPr/>
        </p:nvSpPr>
        <p:spPr>
          <a:xfrm>
            <a:off x="3924360" y="1989000"/>
            <a:ext cx="496872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chez notre 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number8.org/wp-content/uploads/quiz_night.jpg"/>
          <p:cNvPicPr/>
          <p:nvPr/>
        </p:nvPicPr>
        <p:blipFill>
          <a:blip r:embed="rId1"/>
          <a:stretch/>
        </p:blipFill>
        <p:spPr>
          <a:xfrm>
            <a:off x="0" y="0"/>
            <a:ext cx="131666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netanimations.net/Animated-gif-spinning-question-mark-picture-moving.gif"/>
          <p:cNvPicPr/>
          <p:nvPr/>
        </p:nvPicPr>
        <p:blipFill>
          <a:blip r:embed="rId2"/>
          <a:stretch/>
        </p:blipFill>
        <p:spPr>
          <a:xfrm>
            <a:off x="2484360" y="2276640"/>
            <a:ext cx="912960" cy="1550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netanimations.net/Animated-gif-spinning-question-mark-picture-moving.gif"/>
          <p:cNvPicPr/>
          <p:nvPr/>
        </p:nvPicPr>
        <p:blipFill>
          <a:blip r:embed="rId3"/>
          <a:stretch/>
        </p:blipFill>
        <p:spPr>
          <a:xfrm>
            <a:off x="1692360" y="5157720"/>
            <a:ext cx="828720" cy="140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www.netanimations.net/Animated-gif-spinning-question-mark-picture-moving.gif"/>
          <p:cNvPicPr/>
          <p:nvPr/>
        </p:nvPicPr>
        <p:blipFill>
          <a:blip r:embed="rId4"/>
          <a:stretch/>
        </p:blipFill>
        <p:spPr>
          <a:xfrm>
            <a:off x="6156360" y="1844640"/>
            <a:ext cx="5382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ttp://www.netanimations.net/Animated-gif-spinning-question-mark-picture-moving.gif"/>
          <p:cNvPicPr/>
          <p:nvPr/>
        </p:nvPicPr>
        <p:blipFill>
          <a:blip r:embed="rId5"/>
          <a:stretch/>
        </p:blipFill>
        <p:spPr>
          <a:xfrm>
            <a:off x="8612280" y="836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netanimations.net/Animated-gif-spinning-question-mark-picture-moving.gif"/>
          <p:cNvPicPr/>
          <p:nvPr/>
        </p:nvPicPr>
        <p:blipFill>
          <a:blip r:embed="rId6"/>
          <a:stretch/>
        </p:blipFill>
        <p:spPr>
          <a:xfrm>
            <a:off x="2050920" y="333360"/>
            <a:ext cx="532080" cy="90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7667640" y="5373720"/>
            <a:ext cx="531720" cy="90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www.netanimations.net/Animated-gif-spinning-question-mark-picture-moving.gif"/>
          <p:cNvPicPr/>
          <p:nvPr/>
        </p:nvPicPr>
        <p:blipFill>
          <a:blip r:embed="rId8"/>
          <a:stretch/>
        </p:blipFill>
        <p:spPr>
          <a:xfrm>
            <a:off x="4932360" y="4508640"/>
            <a:ext cx="53172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DsBfJlOWGLrcfQJBhgTM2Mh2kEKsnPwn_800x600.jpg"/>
          <p:cNvPicPr/>
          <p:nvPr/>
        </p:nvPicPr>
        <p:blipFill>
          <a:blip r:embed="rId9"/>
          <a:stretch/>
        </p:blipFill>
        <p:spPr>
          <a:xfrm>
            <a:off x="250920" y="1700280"/>
            <a:ext cx="5329080" cy="353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TextBox 9"/>
          <p:cNvSpPr/>
          <p:nvPr/>
        </p:nvSpPr>
        <p:spPr>
          <a:xfrm>
            <a:off x="3924360" y="1989000"/>
            <a:ext cx="4968720" cy="265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chez notre 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n pourrait aller au cin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ourrait aller à la pis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4427640" y="1341360"/>
            <a:ext cx="626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  u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148360" y="1197000"/>
            <a:ext cx="3095640" cy="3960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quick_le_port.jpg"/>
          <p:cNvPicPr/>
          <p:nvPr/>
        </p:nvPicPr>
        <p:blipFill>
          <a:blip r:embed="rId3"/>
          <a:stretch/>
        </p:blipFill>
        <p:spPr>
          <a:xfrm>
            <a:off x="324000" y="1844640"/>
            <a:ext cx="3743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002060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4427640" y="1341360"/>
            <a:ext cx="626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  onc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148360" y="1125360"/>
            <a:ext cx="3095640" cy="395928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http://www4.pictures.zimbio.com/gi/Olly+Murs+T4+Stars+2010+Concert+zwSfmtK9Xzil.jpg"/>
          <p:cNvPicPr/>
          <p:nvPr/>
        </p:nvPicPr>
        <p:blipFill>
          <a:blip r:embed="rId3"/>
          <a:stretch/>
        </p:blipFill>
        <p:spPr>
          <a:xfrm>
            <a:off x="1547640" y="1125360"/>
            <a:ext cx="27385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0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4356000" y="836640"/>
            <a:ext cx="62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  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 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 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53172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flipH="1">
            <a:off x="-324360" y="4743360"/>
            <a:ext cx="1403640" cy="21146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003640" y="765000"/>
            <a:ext cx="3168720" cy="49676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https://encrypted-tbn2.gstatic.com/images?q=tbn:ANd9GcRdzvKMcaInRKtoXzSUeMWiqOJRxdJ600hLTPLntvE-A25wzI5j"/>
          <p:cNvPicPr/>
          <p:nvPr/>
        </p:nvPicPr>
        <p:blipFill>
          <a:blip r:embed="rId3"/>
          <a:stretch/>
        </p:blipFill>
        <p:spPr>
          <a:xfrm>
            <a:off x="395280" y="1844640"/>
            <a:ext cx="36212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0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DsBfJlOWGLrcfQJBhgTM2Mh2kEKsnPwn_800x600.jpg"/>
          <p:cNvPicPr/>
          <p:nvPr/>
        </p:nvPicPr>
        <p:blipFill>
          <a:blip r:embed="rId1"/>
          <a:stretch/>
        </p:blipFill>
        <p:spPr>
          <a:xfrm>
            <a:off x="395280" y="2276640"/>
            <a:ext cx="3693960" cy="2447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427640" y="1341360"/>
            <a:ext cx="626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our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 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 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  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147636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flipH="1">
            <a:off x="1258560" y="4437000"/>
            <a:ext cx="1405080" cy="2114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076720" y="1341360"/>
            <a:ext cx="3095640" cy="417528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0399 1.05 E">
                                      <p:cBhvr>
                                        <p:cTn id="11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aperfectworld.org/clipart/gestures/listen02.gif"/>
          <p:cNvPicPr/>
          <p:nvPr/>
        </p:nvPicPr>
        <p:blipFill>
          <a:blip r:embed="rId2"/>
          <a:stretch/>
        </p:blipFill>
        <p:spPr>
          <a:xfrm>
            <a:off x="179280" y="260280"/>
            <a:ext cx="1562040" cy="12193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2124000" y="333360"/>
            <a:ext cx="1727280" cy="88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Éc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vel 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http://watermarked.cutcaster.com/cutcaster-photo-100439760-Teen-girl-with-mobile-phone.jpg"/>
          <p:cNvPicPr/>
          <p:nvPr/>
        </p:nvPicPr>
        <p:blipFill>
          <a:blip r:embed="rId3"/>
          <a:stretch/>
        </p:blipFill>
        <p:spPr>
          <a:xfrm>
            <a:off x="324000" y="1773360"/>
            <a:ext cx="1143000" cy="165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4" name="TextBox 4"/>
          <p:cNvSpPr/>
          <p:nvPr/>
        </p:nvSpPr>
        <p:spPr>
          <a:xfrm>
            <a:off x="1763640" y="1779480"/>
            <a:ext cx="259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36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3348000" y="2492280"/>
            <a:ext cx="3357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Comic Sans MS"/>
              </a:rPr>
              <a:t>..regarder ..l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6156360" y="2492280"/>
            <a:ext cx="3357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340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324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234000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4140360" y="522936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6300720" y="5950080"/>
            <a:ext cx="165600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250920" y="5229360"/>
            <a:ext cx="8497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rite 4 suggestions us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96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cin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www.thisismiddlesbrough.com/uploads/1/cineworld-header.jpg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3"/>
          <p:cNvSpPr/>
          <p:nvPr/>
        </p:nvSpPr>
        <p:spPr>
          <a:xfrm>
            <a:off x="6300720" y="5950080"/>
            <a:ext cx="165600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25992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fter “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”, we use the </a:t>
            </a:r>
            <a:r>
              <a:rPr b="1" lang="en-GB" sz="28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rm of the verb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n pourrait..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e c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324000" y="2492280"/>
            <a:ext cx="33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a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f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reg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Comic Sans MS"/>
              </a:rPr>
              <a:t>..l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042920" y="2492280"/>
            <a:ext cx="37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70c0"/>
                </a:solidFill>
                <a:latin typeface="Comic Sans MS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572000" y="184464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4572000" y="2637000"/>
            <a:ext cx="1655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4284720" y="3357720"/>
            <a:ext cx="28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 la mu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6516720" y="263700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4500720" y="4076640"/>
            <a:ext cx="2232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u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6948360" y="4076640"/>
            <a:ext cx="1656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6516720" y="1844640"/>
            <a:ext cx="1584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788000" y="1125360"/>
            <a:ext cx="3097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x jeux vidé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"/>
          <p:cNvSpPr/>
          <p:nvPr/>
        </p:nvSpPr>
        <p:spPr>
          <a:xfrm>
            <a:off x="250920" y="5229360"/>
            <a:ext cx="8497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rite 4 suggestions us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7030a0"/>
                </a:solidFill>
                <a:latin typeface="Comic Sans MS"/>
              </a:rPr>
              <a:t>On pourrait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Comic Sans MS"/>
              </a:rPr>
              <a:t>infini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480360" cy="484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-463680"/>
            <a:ext cx="9144000" cy="7321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cliparts101.com/files/202/0F467525D92AD4D0117D7E2F3E62EB1F/thumbsupnathaneady01.png"/>
          <p:cNvPicPr/>
          <p:nvPr/>
        </p:nvPicPr>
        <p:blipFill>
          <a:blip r:embed="rId1"/>
          <a:stretch/>
        </p:blipFill>
        <p:spPr>
          <a:xfrm>
            <a:off x="324000" y="404640"/>
            <a:ext cx="2857320" cy="28576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269" name="TextBox 2"/>
          <p:cNvSpPr/>
          <p:nvPr/>
        </p:nvSpPr>
        <p:spPr>
          <a:xfrm>
            <a:off x="3419640" y="126828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b050"/>
                </a:solidFill>
                <a:latin typeface="Comic Sans MS"/>
              </a:rPr>
              <a:t>Oui d’accor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ttp://www.cliparts101.com/files/202/0F467525D92AD4D0117D7E2F3E62EB1F/thumbsupnathaneady01.png"/>
          <p:cNvPicPr/>
          <p:nvPr/>
        </p:nvPicPr>
        <p:blipFill>
          <a:blip r:embed="rId2"/>
          <a:stretch/>
        </p:blipFill>
        <p:spPr>
          <a:xfrm>
            <a:off x="324000" y="3573360"/>
            <a:ext cx="2857320" cy="2880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1" name="TextBox 4"/>
          <p:cNvSpPr/>
          <p:nvPr/>
        </p:nvSpPr>
        <p:spPr>
          <a:xfrm>
            <a:off x="3419640" y="3789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N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je ne veux p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suis trop fatigué(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ontent Placeholder 3" descr="tired.jpg"/>
          <p:cNvPicPr/>
          <p:nvPr/>
        </p:nvPicPr>
        <p:blipFill>
          <a:blip r:embed="rId1"/>
          <a:stretch/>
        </p:blipFill>
        <p:spPr>
          <a:xfrm>
            <a:off x="1403280" y="3141720"/>
            <a:ext cx="2895840" cy="285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4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7" descr="http://www.clipsahoy.com/clipart/as0786tn.gif"/>
          <p:cNvPicPr/>
          <p:nvPr/>
        </p:nvPicPr>
        <p:blipFill>
          <a:blip r:embed="rId3"/>
          <a:stretch/>
        </p:blipFill>
        <p:spPr>
          <a:xfrm>
            <a:off x="4788000" y="3213000"/>
            <a:ext cx="2016000" cy="280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6" name="Picture 2" descr="http://www.cliparts101.com/files/202/0F467525D92AD4D0117D7E2F3E62EB1F/thumbsupnathaneady01.png"/>
          <p:cNvPicPr/>
          <p:nvPr/>
        </p:nvPicPr>
        <p:blipFill>
          <a:blip r:embed="rId4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suis mal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5" descr="https://encrypted-tbn0.gstatic.com/images?q=tbn:ANd9GcQD4gJSbCBYv0NHgl0PgBfKYEv1U5VUfy_WeqShpY7cnrRdCpRg6g"/>
          <p:cNvPicPr/>
          <p:nvPr/>
        </p:nvPicPr>
        <p:blipFill>
          <a:blip r:embed="rId1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2" descr="http://www.spxcsac.com/v/vspfiles/assets/images/clipart_sick.jpg"/>
          <p:cNvPicPr/>
          <p:nvPr/>
        </p:nvPicPr>
        <p:blipFill>
          <a:blip r:embed="rId2"/>
          <a:stretch/>
        </p:blipFill>
        <p:spPr>
          <a:xfrm>
            <a:off x="2484360" y="3141720"/>
            <a:ext cx="4032360" cy="303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0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 trop de devoi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7" descr="http://bestclipartblog.com/clipart-pics/-homework-clipart-1.gif"/>
          <p:cNvPicPr/>
          <p:nvPr/>
        </p:nvPicPr>
        <p:blipFill>
          <a:blip r:embed="rId1"/>
          <a:stretch/>
        </p:blipFill>
        <p:spPr>
          <a:xfrm>
            <a:off x="3132000" y="3213000"/>
            <a:ext cx="2784600" cy="3218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n’ai pas d’arg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Content Placeholder 5" descr="wpc30240.gif"/>
          <p:cNvPicPr/>
          <p:nvPr/>
        </p:nvPicPr>
        <p:blipFill>
          <a:blip r:embed="rId1"/>
          <a:stretch/>
        </p:blipFill>
        <p:spPr>
          <a:xfrm>
            <a:off x="3492360" y="3357720"/>
            <a:ext cx="194652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n’ai pas de temp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Content Placeholder 5" descr="midnight.gif"/>
          <p:cNvPicPr/>
          <p:nvPr/>
        </p:nvPicPr>
        <p:blipFill>
          <a:blip r:embed="rId1"/>
          <a:stretch/>
        </p:blipFill>
        <p:spPr>
          <a:xfrm>
            <a:off x="2916360" y="2852640"/>
            <a:ext cx="3147840" cy="3683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i oublié mon maillot de b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017880" cy="2957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https://encrypted-tbn0.gstatic.com/images?q=tbn:ANd9GcQD4gJSbCBYv0NHgl0PgBfKYEv1U5VUfy_WeqShpY7cnrRdCpRg6g"/>
          <p:cNvPicPr/>
          <p:nvPr/>
        </p:nvPicPr>
        <p:blipFill>
          <a:blip r:embed="rId2"/>
          <a:stretch/>
        </p:blipFill>
        <p:spPr>
          <a:xfrm>
            <a:off x="3419640" y="333360"/>
            <a:ext cx="18856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6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0" y="0"/>
            <a:ext cx="901800" cy="90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76360" y="404280"/>
            <a:ext cx="724392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théâ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30ish.me/wp-content/uploads/2012/10/Theatre-London.jpg"/>
          <p:cNvPicPr/>
          <p:nvPr/>
        </p:nvPicPr>
        <p:blipFill>
          <a:blip r:embed="rId1"/>
          <a:stretch/>
        </p:blipFill>
        <p:spPr>
          <a:xfrm>
            <a:off x="1332000" y="1844640"/>
            <a:ext cx="67132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5" descr="midnight.gif"/>
          <p:cNvPicPr/>
          <p:nvPr/>
        </p:nvPicPr>
        <p:blipFill>
          <a:blip r:embed="rId1"/>
          <a:stretch/>
        </p:blipFill>
        <p:spPr>
          <a:xfrm>
            <a:off x="314280" y="1197000"/>
            <a:ext cx="3517920" cy="41148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e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’ar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www.yama-designing.com/product-animation-samples/QM-V1-H300.gif"/>
          <p:cNvPicPr/>
          <p:nvPr/>
        </p:nvPicPr>
        <p:blipFill>
          <a:blip r:embed="rId2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Content Placeholder 5" descr="midnight.gif"/>
          <p:cNvPicPr/>
          <p:nvPr/>
        </p:nvPicPr>
        <p:blipFill>
          <a:blip r:embed="rId1"/>
          <a:stretch/>
        </p:blipFill>
        <p:spPr>
          <a:xfrm>
            <a:off x="314280" y="1197000"/>
            <a:ext cx="3517920" cy="4114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n’ai pas de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3152"/>
                </a:solidFill>
                <a:latin typeface="Comic Sans MS"/>
              </a:rPr>
              <a:t>Je n’ai pas d’ar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trop de dev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http://www.yama-designing.com/product-animation-samples/QM-V1-H300.gif"/>
          <p:cNvPicPr/>
          <p:nvPr/>
        </p:nvPicPr>
        <p:blipFill>
          <a:blip r:embed="rId1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  <p:pic>
        <p:nvPicPr>
          <p:cNvPr id="304" name="Picture 7" descr="http://bestclipartblog.com/clipart-pics/-homework-clipart-1.gif"/>
          <p:cNvPicPr/>
          <p:nvPr/>
        </p:nvPicPr>
        <p:blipFill>
          <a:blip r:embed="rId2"/>
          <a:stretch/>
        </p:blipFill>
        <p:spPr>
          <a:xfrm>
            <a:off x="324000" y="1773360"/>
            <a:ext cx="3576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3995640" y="3284640"/>
            <a:ext cx="4897440" cy="173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3152"/>
                </a:solidFill>
                <a:latin typeface="Comic Sans MS"/>
              </a:rPr>
              <a:t>Je suis 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trop de dev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http://bestclipartblog.com/clipart-pics/-homework-clipart-1.gif"/>
          <p:cNvPicPr/>
          <p:nvPr/>
        </p:nvPicPr>
        <p:blipFill>
          <a:blip r:embed="rId1"/>
          <a:stretch/>
        </p:blipFill>
        <p:spPr>
          <a:xfrm>
            <a:off x="324000" y="1773360"/>
            <a:ext cx="3576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3995640" y="3284640"/>
            <a:ext cx="4897440" cy="216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ai oublié mon maillot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trop fatig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yama-designing.com/product-animation-samples/QM-V1-H300.gif"/>
          <p:cNvPicPr/>
          <p:nvPr/>
        </p:nvPicPr>
        <p:blipFill>
          <a:blip r:embed="rId1"/>
          <a:stretch/>
        </p:blipFill>
        <p:spPr>
          <a:xfrm>
            <a:off x="5364000" y="189000"/>
            <a:ext cx="1791000" cy="2857320"/>
          </a:xfrm>
          <a:prstGeom prst="rect">
            <a:avLst/>
          </a:prstGeom>
          <a:ln w="57240">
            <a:solidFill>
              <a:srgbClr val="c00000"/>
            </a:solidFill>
            <a:prstDash val="dashDot"/>
            <a:miter/>
          </a:ln>
        </p:spPr>
      </p:pic>
      <p:pic>
        <p:nvPicPr>
          <p:cNvPr id="309" name="Picture 7" descr="http://www.clipsahoy.com/clipart/as0786tn.gif"/>
          <p:cNvPicPr/>
          <p:nvPr/>
        </p:nvPicPr>
        <p:blipFill>
          <a:blip r:embed="rId2"/>
          <a:stretch/>
        </p:blipFill>
        <p:spPr>
          <a:xfrm>
            <a:off x="468360" y="1844640"/>
            <a:ext cx="3166920" cy="44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3995640" y="3284640"/>
            <a:ext cx="4897440" cy="216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31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3152"/>
                </a:solidFill>
                <a:latin typeface="Comic Sans MS"/>
              </a:rPr>
              <a:t>J’ai oublié mon maillot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e suis trop fatig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clipsahoy.com/clipart/as0786tn.gif"/>
          <p:cNvPicPr/>
          <p:nvPr/>
        </p:nvPicPr>
        <p:blipFill>
          <a:blip r:embed="rId1"/>
          <a:stretch/>
        </p:blipFill>
        <p:spPr>
          <a:xfrm>
            <a:off x="468360" y="1844640"/>
            <a:ext cx="3166920" cy="44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395280" y="333360"/>
            <a:ext cx="82803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tch the </a:t>
            </a: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suggest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suitabl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exc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There may be a few possible answe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250920" y="1628640"/>
            <a:ext cx="4321080" cy="4866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aller au ciném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On pourrait aller au terrain de sport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On pourrait aller à la piscine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venir au concert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Tu veux aller au Quick..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4716360" y="1628640"/>
            <a:ext cx="4248360" cy="512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J’ai trop de devo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Je suis trop fatigu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C’est trop cher. Je n’ai pas d’arg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Non, j’ai déjà mang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Zut! J’ai oublié mon maillot de ba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6" descr="http://1.bp.blogspot.com/-RY_vPkWHEPs/UB-_rH_maAI/AAAAAAAAABw/OoCCOUwCLyg/s1600/Arc_de_Triomphe_at_Evening,_Paris,_France%5B1%5D.jpg"/>
          <p:cNvPicPr/>
          <p:nvPr/>
        </p:nvPicPr>
        <p:blipFill>
          <a:blip r:embed="rId1"/>
          <a:stretch/>
        </p:blipFill>
        <p:spPr>
          <a:xfrm>
            <a:off x="-828720" y="-457200"/>
            <a:ext cx="10972800" cy="7315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ttps://encrypted-tbn1.gstatic.com/images?q=tbn:ANd9GcTqPiW_SbK4q8lX06utlpJFctL92utTNIEytxNyRpXACVW7K815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2268360" y="-15840"/>
            <a:ext cx="4607280" cy="6889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0" name="TextBox 2"/>
          <p:cNvSpPr/>
          <p:nvPr/>
        </p:nvSpPr>
        <p:spPr>
          <a:xfrm>
            <a:off x="3276720" y="119700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your suggestion here, starting with “</a:t>
            </a:r>
            <a:r>
              <a:rPr b="1" lang="en-GB" sz="2400" spc="-1" strike="noStrike">
                <a:solidFill>
                  <a:srgbClr val="7030a0"/>
                </a:solidFill>
                <a:latin typeface="Comic Sans MS"/>
              </a:rPr>
              <a:t>on pourrai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http://www.cliparts101.com/files/202/0F467525D92AD4D0117D7E2F3E62EB1F/thumbsupnathaneady01.png"/>
          <p:cNvPicPr/>
          <p:nvPr/>
        </p:nvPicPr>
        <p:blipFill>
          <a:blip r:embed="rId3"/>
          <a:stretch/>
        </p:blipFill>
        <p:spPr>
          <a:xfrm>
            <a:off x="2556000" y="3213000"/>
            <a:ext cx="506160" cy="5097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2" name="TextBox 5"/>
          <p:cNvSpPr/>
          <p:nvPr/>
        </p:nvSpPr>
        <p:spPr>
          <a:xfrm>
            <a:off x="3203640" y="2997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an ex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3348000" y="436572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another sugges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www.cliparts101.com/files/202/0F467525D92AD4D0117D7E2F3E62EB1F/thumbsupnathaneady01.png"/>
          <p:cNvPicPr/>
          <p:nvPr/>
        </p:nvPicPr>
        <p:blipFill>
          <a:blip r:embed="rId4"/>
          <a:stretch/>
        </p:blipFill>
        <p:spPr>
          <a:xfrm>
            <a:off x="2627280" y="5445000"/>
            <a:ext cx="482760" cy="4809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325" name="Picture 7" descr="http://bestclipartblog.com/clipart-pics/-homework-clipart-1.gif"/>
          <p:cNvPicPr/>
          <p:nvPr/>
        </p:nvPicPr>
        <p:blipFill>
          <a:blip r:embed="rId5"/>
          <a:stretch/>
        </p:blipFill>
        <p:spPr>
          <a:xfrm>
            <a:off x="3348000" y="3357720"/>
            <a:ext cx="62568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6"/>
          <a:stretch/>
        </p:blipFill>
        <p:spPr>
          <a:xfrm>
            <a:off x="4140360" y="3429000"/>
            <a:ext cx="677880" cy="663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ttp://www.spxcsac.com/v/vspfiles/assets/images/clipart_sick.jpg"/>
          <p:cNvPicPr/>
          <p:nvPr/>
        </p:nvPicPr>
        <p:blipFill>
          <a:blip r:embed="rId7"/>
          <a:stretch/>
        </p:blipFill>
        <p:spPr>
          <a:xfrm>
            <a:off x="5076720" y="3500280"/>
            <a:ext cx="585720" cy="44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www.clipart-fr.com/en/data/clipart/star/star_169.gif"/>
          <p:cNvPicPr/>
          <p:nvPr/>
        </p:nvPicPr>
        <p:blipFill>
          <a:blip r:embed="rId1"/>
          <a:stretch/>
        </p:blipFill>
        <p:spPr>
          <a:xfrm>
            <a:off x="0" y="0"/>
            <a:ext cx="1010124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179280" y="1341360"/>
            <a:ext cx="8713800" cy="2835720"/>
          </a:xfrm>
          <a:prstGeom prst="rect">
            <a:avLst/>
          </a:prstGeom>
          <a:solidFill>
            <a:srgbClr val="0020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: Recognise at least 2 suggestions and 2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omic Sans MS"/>
              </a:rPr>
              <a:t>MOST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 : Suggest what you’d lik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omic Sans MS"/>
              </a:rPr>
              <a:t>SOME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: Select a suitable excuse to say </a:t>
            </a:r>
            <a:r>
              <a:rPr b="0" i="1" lang="en-GB" sz="3200" spc="-1" strike="noStrike">
                <a:solidFill>
                  <a:srgbClr val="e46c0a"/>
                </a:solidFill>
                <a:latin typeface="Comic Sans MS"/>
              </a:rPr>
              <a:t>why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 you can’t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solidFill>
            <a:srgbClr val="b3a2c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’est-ce qu’on pourrait faire ce s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940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Qu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quick_le_port.jpg"/>
          <p:cNvPicPr/>
          <p:nvPr/>
        </p:nvPicPr>
        <p:blipFill>
          <a:blip r:embed="rId1"/>
          <a:stretch/>
        </p:blipFill>
        <p:spPr>
          <a:xfrm>
            <a:off x="2857680" y="2286000"/>
            <a:ext cx="5076720" cy="380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Temp\Content.IE5\8ZEF4T2B\MCj04109790000[1].wmf"/>
          <p:cNvPicPr/>
          <p:nvPr/>
        </p:nvPicPr>
        <p:blipFill>
          <a:blip r:embed="rId2"/>
          <a:stretch/>
        </p:blipFill>
        <p:spPr>
          <a:xfrm>
            <a:off x="1332000" y="4581360"/>
            <a:ext cx="214452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32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34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908000" y="2276640"/>
            <a:ext cx="1440000" cy="12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908000" y="3860640"/>
            <a:ext cx="1440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492360" y="3860640"/>
            <a:ext cx="14400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529272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716436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564000" y="2133720"/>
            <a:ext cx="1439640" cy="13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5435640" y="2205000"/>
            <a:ext cx="1440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7236000" y="2205000"/>
            <a:ext cx="14396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0000000078.jpg"/>
          <p:cNvPicPr/>
          <p:nvPr/>
        </p:nvPicPr>
        <p:blipFill>
          <a:blip r:embed="rId2"/>
          <a:stretch/>
        </p:blipFill>
        <p:spPr>
          <a:xfrm>
            <a:off x="1835280" y="2205000"/>
            <a:ext cx="1538280" cy="123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http://bestclipartblog.com/clipart-pics/-homework-clipart-1.gif"/>
          <p:cNvPicPr/>
          <p:nvPr/>
        </p:nvPicPr>
        <p:blipFill>
          <a:blip r:embed="rId3"/>
          <a:stretch/>
        </p:blipFill>
        <p:spPr>
          <a:xfrm>
            <a:off x="3635280" y="2205000"/>
            <a:ext cx="1201680" cy="1387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quick_le_port.jpg"/>
          <p:cNvPicPr/>
          <p:nvPr/>
        </p:nvPicPr>
        <p:blipFill>
          <a:blip r:embed="rId4"/>
          <a:stretch/>
        </p:blipFill>
        <p:spPr>
          <a:xfrm>
            <a:off x="5292720" y="2276640"/>
            <a:ext cx="1633680" cy="122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00080" y="1847880"/>
            <a:ext cx="8943840" cy="3162240"/>
          </a:xfrm>
          <a:prstGeom prst="rect">
            <a:avLst/>
          </a:prstGeom>
          <a:ln w="0">
            <a:noFill/>
          </a:ln>
        </p:spPr>
      </p:pic>
      <p:sp>
        <p:nvSpPr>
          <p:cNvPr id="348" name="Title 1"/>
          <p:cNvSpPr/>
          <p:nvPr/>
        </p:nvSpPr>
        <p:spPr>
          <a:xfrm>
            <a:off x="468360" y="404640"/>
            <a:ext cx="7772400" cy="5572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  <a:ea typeface="Aharoni"/>
              </a:rPr>
              <a:t>Qu’est-ce qu’on pourrait faire ce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908000" y="2276640"/>
            <a:ext cx="1440000" cy="12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908000" y="3860640"/>
            <a:ext cx="144000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492360" y="3860640"/>
            <a:ext cx="14400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529272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7164360" y="3860640"/>
            <a:ext cx="1440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64000" y="2133720"/>
            <a:ext cx="1439640" cy="136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5435640" y="2205000"/>
            <a:ext cx="1440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7236000" y="2205000"/>
            <a:ext cx="14396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3635280" y="2205000"/>
            <a:ext cx="1325520" cy="1298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DsBfJlOWGLrcfQJBhgTM2Mh2kEKsnPwn_800x600.jpg"/>
          <p:cNvPicPr/>
          <p:nvPr/>
        </p:nvPicPr>
        <p:blipFill>
          <a:blip r:embed="rId3"/>
          <a:stretch/>
        </p:blipFill>
        <p:spPr>
          <a:xfrm>
            <a:off x="1835280" y="2205000"/>
            <a:ext cx="1500120" cy="1305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Temp\Content.IE5\UP07UB2H\MCj04125460000[1].wmf"/>
          <p:cNvPicPr/>
          <p:nvPr/>
        </p:nvPicPr>
        <p:blipFill>
          <a:blip r:embed="rId4"/>
          <a:stretch/>
        </p:blipFill>
        <p:spPr>
          <a:xfrm>
            <a:off x="5508720" y="2276640"/>
            <a:ext cx="1190520" cy="1209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5"/>
          <a:stretch/>
        </p:blipFill>
        <p:spPr>
          <a:xfrm>
            <a:off x="7236000" y="2205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96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 conc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http://www4.pictures.zimbio.com/gi/Olly+Murs+T4+Stars+2010+Concert+zwSfmtK9Xzil.jpg"/>
          <p:cNvPicPr/>
          <p:nvPr/>
        </p:nvPicPr>
        <p:blipFill>
          <a:blip r:embed="rId1"/>
          <a:stretch/>
        </p:blipFill>
        <p:spPr>
          <a:xfrm>
            <a:off x="3203640" y="2421000"/>
            <a:ext cx="2749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59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terrain de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s://encrypted-tbn2.gstatic.com/images?q=tbn:ANd9GcRdzvKMcaInRKtoXzSUeMWiqOJRxdJ600hLTPLntvE-A25wzI5j"/>
          <p:cNvPicPr/>
          <p:nvPr/>
        </p:nvPicPr>
        <p:blipFill>
          <a:blip r:embed="rId1"/>
          <a:stretch/>
        </p:blipFill>
        <p:spPr>
          <a:xfrm>
            <a:off x="1979640" y="2421000"/>
            <a:ext cx="544680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59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 club de je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activeyouth.co.uk/wp-content/uploads/Finch-Youth-Club8.jpg"/>
          <p:cNvPicPr/>
          <p:nvPr/>
        </p:nvPicPr>
        <p:blipFill>
          <a:blip r:embed="rId1"/>
          <a:stretch/>
        </p:blipFill>
        <p:spPr>
          <a:xfrm>
            <a:off x="900000" y="1628640"/>
            <a:ext cx="7128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 pourrait </a:t>
            </a:r>
            <a:r>
              <a:rPr b="0" lang="en-GB" sz="4400" spc="-1" strike="noStrike">
                <a:solidFill>
                  <a:srgbClr val="7030a0"/>
                </a:solidFill>
                <a:latin typeface="Comic Sans MS"/>
              </a:rPr>
              <a:t>aller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80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à la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DsBfJlOWGLrcfQJBhgTM2Mh2kEKsnPwn_800x600.jpg"/>
          <p:cNvPicPr/>
          <p:nvPr/>
        </p:nvPicPr>
        <p:blipFill>
          <a:blip r:embed="rId1"/>
          <a:stretch/>
        </p:blipFill>
        <p:spPr>
          <a:xfrm>
            <a:off x="1763640" y="2637000"/>
            <a:ext cx="53294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3:14:35Z</dcterms:created>
  <dc:creator>K0529349</dc:creator>
  <dc:description/>
  <dc:language>en-US</dc:language>
  <cp:lastModifiedBy>Clare</cp:lastModifiedBy>
  <dcterms:modified xsi:type="dcterms:W3CDTF">2013-05-14T09:30:12Z</dcterms:modified>
  <cp:revision>64</cp:revision>
  <dc:subject/>
  <dc:title>Slide 1</dc:title>
</cp:coreProperties>
</file>