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30.gif" ContentType="image/gif"/>
  <Override PartName="/ppt/media/image19.png" ContentType="image/png"/>
  <Override PartName="/ppt/media/image26.png" ContentType="image/png"/>
  <Override PartName="/ppt/media/image13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jpeg" ContentType="image/jpeg"/>
  <Override PartName="/ppt/media/image3.jpeg" ContentType="image/jpeg"/>
  <Override PartName="/ppt/media/image28.png" ContentType="image/png"/>
  <Override PartName="/ppt/media/image7.jpeg" ContentType="image/jpeg"/>
  <Override PartName="/ppt/media/image40.wmf" ContentType="image/x-wmf"/>
  <Override PartName="/ppt/media/image15.gif" ContentType="image/gif"/>
  <Override PartName="/ppt/media/image5.wmf" ContentType="image/x-wmf"/>
  <Override PartName="/ppt/media/image18.png" ContentType="image/png"/>
  <Override PartName="/ppt/media/image6.jpeg" ContentType="image/jpeg"/>
  <Override PartName="/ppt/media/image3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EEE-AF68-47E3-B8AD-B7B47EEE8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F99-ABA0-4CD4-9FDA-C927B97DB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904-D879-4689-9809-A84228E1B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A68-A9F0-4CD1-95F0-749835F76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B55-3A53-43C3-AF9C-D13313FB2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A48-828A-44F3-A824-454E6B636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431D-537D-4A25-BEFA-7CF881B0B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6E1-AA4C-4C21-A7B3-EF3A3FEF0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F76C-0ABC-4D78-973C-88CD5B919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D101-2333-44D6-B92A-FE91B9A5E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965-8C13-43CF-A880-1B0A9C816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629C-C44F-4E29-9E2B-C644A5A10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3F0-DC47-4245-9234-1FE786846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852-194E-43DA-BFDB-3742B8915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9C8-5F28-4E83-9CAE-B02E7D753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94DE-8D42-4A7F-BF06-F0D226665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E0A-1494-4A92-9142-EC0920FA3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368-8D89-415A-A983-325DC7CDA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252-DB2F-48A3-8DCB-E4137AD5D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E0F-83B3-4568-817F-22888C04A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CFB-75FD-40BA-9A9F-6168EDC37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14F9-80B7-4DF5-8811-D3A700D0F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5E18-60F6-4CCE-9841-F02DFA81E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9E7-DB29-461E-9730-3F9E7B655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3F9-E525-4467-82C1-81B6E506F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2E1-C205-45F0-8BB7-D1E629B73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D1D-96E4-4B37-80C3-6D7B8DD90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C274-3DF1-4F14-8E5A-B0C480C8B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68DE-8D17-4070-92C8-009F3BC53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CEA-886C-4283-9A4E-2B5CF00BF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1156-2634-4AC1-B15C-BFBB8EC65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512A-A6CC-49CB-A3F2-6A9BB9EC9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05F-5E14-4701-BFD2-F55324411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9C6-FB1E-496A-9D9C-1F138F31D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B23-48EF-4DFB-800A-D283913EC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1D6-DF8F-4288-AA61-772877FA9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C40-6B8F-407E-8482-D8F823E4C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AD97-2AD5-48D0-B17D-428F934C0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492-D9A3-4A03-B832-7A4534127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A25-EB9F-4EA1-AB4B-F9401C495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CCA-35B7-48E7-B1E8-49B7CDF27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D85F-2441-48E4-99B3-01ACB0BB4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2DB2-5C4C-4B65-B7E8-FF2172428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4F95-C8D8-492C-AE64-E886E6B14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031-D75D-4161-B078-6674DE387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C4C-ECEE-4146-8C5F-D7D1137D6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F8D-75A5-42F4-8B96-6136D1B80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408-7A97-485C-AD96-48D90E90A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B08-BBAA-4B9C-BA27-5F652343C9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FD4-2C58-4CA2-BE6A-FD4C3C533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F78E-BDA1-435B-8D7A-4F5304DE5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54DD-59A5-4BF7-B291-108B5A5EB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31A-77FB-460B-8D06-54752DC3A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77B-46DB-421B-BC91-B1DF1296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B0C-AE0C-485A-B510-DFD78AC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FAC-966A-4BB9-8F3F-28A00FC5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96A-47CC-4B5D-8619-DBC0762B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B74-A870-4E79-B688-D96D326E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EBB-B2FA-4566-952E-E91D4D6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BF6-DE57-4C1D-8F51-C44E446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D43-DDE1-4883-A563-B490029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AFE-C7C6-4C82-AF8F-545A84F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225-43EE-4F1A-A1A9-3A150F1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271-C118-409D-BA55-CC20CD6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182-4EBD-4F5B-9D9A-B0EA77D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95F-6C91-4B96-BE96-B58D95776B4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6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6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6.png"/><Relationship Id="rId6" Type="http://schemas.openxmlformats.org/officeDocument/2006/relationships/image" Target="../media/image33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2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jpeg"/><Relationship Id="rId3" Type="http://schemas.openxmlformats.org/officeDocument/2006/relationships/image" Target="../media/image39.jpeg"/><Relationship Id="rId4" Type="http://schemas.openxmlformats.org/officeDocument/2006/relationships/image" Target="../media/image40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71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ez notre </a:t>
            </a:r>
            <a:r>
              <a:rPr b="0" lang="en-GB" sz="3600" spc="-1" strike="noStrike">
                <a:solidFill>
                  <a:srgbClr val="0070c0"/>
                </a:solidFill>
                <a:latin typeface="Comic Sans MS"/>
              </a:rPr>
              <a:t>copai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cop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www.bravotv.com/media/imagecache/photo-scaled/images/fantasy-homes-04.jpg"/>
          <p:cNvPicPr/>
          <p:nvPr/>
        </p:nvPicPr>
        <p:blipFill>
          <a:blip r:embed="rId1"/>
          <a:stretch/>
        </p:blipFill>
        <p:spPr>
          <a:xfrm>
            <a:off x="1908000" y="2492280"/>
            <a:ext cx="50961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http://www4.pictures.zimbio.com/gi/Olly+Murs+T4+Stars+2010+Concert+zwSfmtK9Xzil.jpg"/>
          <p:cNvPicPr/>
          <p:nvPr/>
        </p:nvPicPr>
        <p:blipFill>
          <a:blip r:embed="rId8"/>
          <a:stretch/>
        </p:blipFill>
        <p:spPr>
          <a:xfrm>
            <a:off x="611280" y="1413000"/>
            <a:ext cx="2738520" cy="412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Box 9"/>
          <p:cNvSpPr/>
          <p:nvPr/>
        </p:nvSpPr>
        <p:spPr>
          <a:xfrm>
            <a:off x="3564000" y="1989000"/>
            <a:ext cx="5040360" cy="22269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conc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ttp://www.netanimations.net/Animated-gif-spinning-question-mark-picture-moving.gif"/>
          <p:cNvPicPr/>
          <p:nvPr/>
        </p:nvPicPr>
        <p:blipFill>
          <a:blip r:embed="rId9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http://www4.pictures.zimbio.com/gi/Olly+Murs+T4+Stars+2010+Concert+zwSfmtK9Xzil.jpg"/>
          <p:cNvPicPr/>
          <p:nvPr/>
        </p:nvPicPr>
        <p:blipFill>
          <a:blip r:embed="rId8"/>
          <a:stretch/>
        </p:blipFill>
        <p:spPr>
          <a:xfrm>
            <a:off x="611280" y="1413000"/>
            <a:ext cx="2738520" cy="412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TextBox 9"/>
          <p:cNvSpPr/>
          <p:nvPr/>
        </p:nvSpPr>
        <p:spPr>
          <a:xfrm>
            <a:off x="3564000" y="1989000"/>
            <a:ext cx="5040360" cy="22269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conc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http://www.netanimations.net/Animated-gif-spinning-question-mark-picture-moving.gif"/>
          <p:cNvPicPr/>
          <p:nvPr/>
        </p:nvPicPr>
        <p:blipFill>
          <a:blip r:embed="rId9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30ish.me/wp-content/uploads/2012/10/Theatre-London.jpg"/>
          <p:cNvPicPr/>
          <p:nvPr/>
        </p:nvPicPr>
        <p:blipFill>
          <a:blip r:embed="rId9"/>
          <a:stretch/>
        </p:blipFill>
        <p:spPr>
          <a:xfrm>
            <a:off x="395280" y="1413000"/>
            <a:ext cx="5521320" cy="366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9" name="TextBox 9"/>
          <p:cNvSpPr/>
          <p:nvPr/>
        </p:nvSpPr>
        <p:spPr>
          <a:xfrm>
            <a:off x="3564000" y="1989000"/>
            <a:ext cx="504036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lub de 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30ish.me/wp-content/uploads/2012/10/Theatre-London.jpg"/>
          <p:cNvPicPr/>
          <p:nvPr/>
        </p:nvPicPr>
        <p:blipFill>
          <a:blip r:embed="rId9"/>
          <a:stretch/>
        </p:blipFill>
        <p:spPr>
          <a:xfrm>
            <a:off x="395280" y="1413000"/>
            <a:ext cx="5521320" cy="366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9" name="TextBox 9"/>
          <p:cNvSpPr/>
          <p:nvPr/>
        </p:nvSpPr>
        <p:spPr>
          <a:xfrm>
            <a:off x="3564000" y="1989000"/>
            <a:ext cx="504036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lub de 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www.bravotv.com/media/imagecache/photo-scaled/images/fantasy-homes-04.jpg"/>
          <p:cNvPicPr/>
          <p:nvPr/>
        </p:nvPicPr>
        <p:blipFill>
          <a:blip r:embed="rId9"/>
          <a:stretch/>
        </p:blipFill>
        <p:spPr>
          <a:xfrm>
            <a:off x="179280" y="1413000"/>
            <a:ext cx="557712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9" name="TextBox 9"/>
          <p:cNvSpPr/>
          <p:nvPr/>
        </p:nvSpPr>
        <p:spPr>
          <a:xfrm>
            <a:off x="3924360" y="1989000"/>
            <a:ext cx="4968720" cy="3080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errain d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chez notre co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www.bravotv.com/media/imagecache/photo-scaled/images/fantasy-homes-04.jpg"/>
          <p:cNvPicPr/>
          <p:nvPr/>
        </p:nvPicPr>
        <p:blipFill>
          <a:blip r:embed="rId9"/>
          <a:stretch/>
        </p:blipFill>
        <p:spPr>
          <a:xfrm>
            <a:off x="179280" y="1413000"/>
            <a:ext cx="557712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9"/>
          <p:cNvSpPr/>
          <p:nvPr/>
        </p:nvSpPr>
        <p:spPr>
          <a:xfrm>
            <a:off x="3924360" y="1989000"/>
            <a:ext cx="4968720" cy="3080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terrain d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chez notre co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508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DsBfJlOWGLrcfQJBhgTM2Mh2kEKsnPwn_800x600.jpg"/>
          <p:cNvPicPr/>
          <p:nvPr/>
        </p:nvPicPr>
        <p:blipFill>
          <a:blip r:embed="rId9"/>
          <a:stretch/>
        </p:blipFill>
        <p:spPr>
          <a:xfrm>
            <a:off x="250920" y="1700280"/>
            <a:ext cx="5329080" cy="353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9" name="TextBox 9"/>
          <p:cNvSpPr/>
          <p:nvPr/>
        </p:nvSpPr>
        <p:spPr>
          <a:xfrm>
            <a:off x="3924360" y="1989000"/>
            <a:ext cx="496872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chez notre 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508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sBfJlOWGLrcfQJBhgTM2Mh2kEKsnPwn_800x600.jpg"/>
          <p:cNvPicPr/>
          <p:nvPr/>
        </p:nvPicPr>
        <p:blipFill>
          <a:blip r:embed="rId9"/>
          <a:stretch/>
        </p:blipFill>
        <p:spPr>
          <a:xfrm>
            <a:off x="250920" y="1700280"/>
            <a:ext cx="5329080" cy="353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TextBox 9"/>
          <p:cNvSpPr/>
          <p:nvPr/>
        </p:nvSpPr>
        <p:spPr>
          <a:xfrm>
            <a:off x="3924360" y="1989000"/>
            <a:ext cx="496872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chez notre 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4427640" y="1341360"/>
            <a:ext cx="626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  u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148360" y="1197000"/>
            <a:ext cx="3095640" cy="3960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quick_le_port.jpg"/>
          <p:cNvPicPr/>
          <p:nvPr/>
        </p:nvPicPr>
        <p:blipFill>
          <a:blip r:embed="rId3"/>
          <a:stretch/>
        </p:blipFill>
        <p:spPr>
          <a:xfrm>
            <a:off x="324000" y="1844640"/>
            <a:ext cx="3743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002060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4427640" y="1341360"/>
            <a:ext cx="626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  onc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148360" y="1125360"/>
            <a:ext cx="3095640" cy="395928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http://www4.pictures.zimbio.com/gi/Olly+Murs+T4+Stars+2010+Concert+zwSfmtK9Xzil.jpg"/>
          <p:cNvPicPr/>
          <p:nvPr/>
        </p:nvPicPr>
        <p:blipFill>
          <a:blip r:embed="rId3"/>
          <a:stretch/>
        </p:blipFill>
        <p:spPr>
          <a:xfrm>
            <a:off x="1547640" y="1125360"/>
            <a:ext cx="27385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0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4356000" y="836640"/>
            <a:ext cx="62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  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 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 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003640" y="765000"/>
            <a:ext cx="3168720" cy="49676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https://encrypted-tbn2.gstatic.com/images?q=tbn:ANd9GcRdzvKMcaInRKtoXzSUeMWiqOJRxdJ600hLTPLntvE-A25wzI5j"/>
          <p:cNvPicPr/>
          <p:nvPr/>
        </p:nvPicPr>
        <p:blipFill>
          <a:blip r:embed="rId3"/>
          <a:stretch/>
        </p:blipFill>
        <p:spPr>
          <a:xfrm>
            <a:off x="395280" y="1844640"/>
            <a:ext cx="36212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0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DsBfJlOWGLrcfQJBhgTM2Mh2kEKsnPwn_800x600.jpg"/>
          <p:cNvPicPr/>
          <p:nvPr/>
        </p:nvPicPr>
        <p:blipFill>
          <a:blip r:embed="rId1"/>
          <a:stretch/>
        </p:blipFill>
        <p:spPr>
          <a:xfrm>
            <a:off x="395280" y="2276640"/>
            <a:ext cx="3693960" cy="2447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427640" y="1341360"/>
            <a:ext cx="626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 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147636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flipH="1">
            <a:off x="1258560" y="4437000"/>
            <a:ext cx="1405080" cy="2114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076720" y="1341360"/>
            <a:ext cx="3095640" cy="417528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1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aperfectworld.org/clipart/gestures/listen02.gif"/>
          <p:cNvPicPr/>
          <p:nvPr/>
        </p:nvPicPr>
        <p:blipFill>
          <a:blip r:embed="rId2"/>
          <a:stretch/>
        </p:blipFill>
        <p:spPr>
          <a:xfrm>
            <a:off x="179280" y="260280"/>
            <a:ext cx="1562040" cy="12193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2124000" y="333360"/>
            <a:ext cx="1727280" cy="88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Éc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vel 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http://watermarked.cutcaster.com/cutcaster-photo-100439760-Teen-girl-with-mobile-phone.jpg"/>
          <p:cNvPicPr/>
          <p:nvPr/>
        </p:nvPicPr>
        <p:blipFill>
          <a:blip r:embed="rId3"/>
          <a:stretch/>
        </p:blipFill>
        <p:spPr>
          <a:xfrm>
            <a:off x="324000" y="1773360"/>
            <a:ext cx="1143000" cy="165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4" name="TextBox 4"/>
          <p:cNvSpPr/>
          <p:nvPr/>
        </p:nvSpPr>
        <p:spPr>
          <a:xfrm>
            <a:off x="1763640" y="1779480"/>
            <a:ext cx="259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36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3348000" y="2492280"/>
            <a:ext cx="3357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regarder ..l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6156360" y="2492280"/>
            <a:ext cx="3357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340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2340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4140360" y="522936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6300720" y="5950080"/>
            <a:ext cx="165600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250920" y="5229360"/>
            <a:ext cx="8497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rite 4 suggestions us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96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cin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www.thisismiddlesbrough.com/uploads/1/cineworld-header.jpg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3"/>
          <p:cNvSpPr/>
          <p:nvPr/>
        </p:nvSpPr>
        <p:spPr>
          <a:xfrm>
            <a:off x="6300720" y="5950080"/>
            <a:ext cx="165600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250920" y="5229360"/>
            <a:ext cx="8497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rite 4 suggestions us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480360" cy="484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-463680"/>
            <a:ext cx="9144000" cy="7321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cliparts101.com/files/202/0F467525D92AD4D0117D7E2F3E62EB1F/thumbsupnathaneady01.png"/>
          <p:cNvPicPr/>
          <p:nvPr/>
        </p:nvPicPr>
        <p:blipFill>
          <a:blip r:embed="rId1"/>
          <a:stretch/>
        </p:blipFill>
        <p:spPr>
          <a:xfrm>
            <a:off x="324000" y="404640"/>
            <a:ext cx="2857320" cy="28576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269" name="TextBox 2"/>
          <p:cNvSpPr/>
          <p:nvPr/>
        </p:nvSpPr>
        <p:spPr>
          <a:xfrm>
            <a:off x="3419640" y="126828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b050"/>
                </a:solidFill>
                <a:latin typeface="Comic Sans MS"/>
              </a:rPr>
              <a:t>Oui d’accor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ttp://www.cliparts101.com/files/202/0F467525D92AD4D0117D7E2F3E62EB1F/thumbsupnathaneady01.png"/>
          <p:cNvPicPr/>
          <p:nvPr/>
        </p:nvPicPr>
        <p:blipFill>
          <a:blip r:embed="rId2"/>
          <a:stretch/>
        </p:blipFill>
        <p:spPr>
          <a:xfrm>
            <a:off x="324000" y="3573360"/>
            <a:ext cx="2857320" cy="2880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1" name="TextBox 4"/>
          <p:cNvSpPr/>
          <p:nvPr/>
        </p:nvSpPr>
        <p:spPr>
          <a:xfrm>
            <a:off x="3419640" y="3789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N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je ne veux p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suis trop fatigué(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ontent Placeholder 3" descr="tired.jpg"/>
          <p:cNvPicPr/>
          <p:nvPr/>
        </p:nvPicPr>
        <p:blipFill>
          <a:blip r:embed="rId1"/>
          <a:stretch/>
        </p:blipFill>
        <p:spPr>
          <a:xfrm>
            <a:off x="1403280" y="3141720"/>
            <a:ext cx="2895840" cy="285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4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7" descr="http://www.clipsahoy.com/clipart/as0786tn.gif"/>
          <p:cNvPicPr/>
          <p:nvPr/>
        </p:nvPicPr>
        <p:blipFill>
          <a:blip r:embed="rId3"/>
          <a:stretch/>
        </p:blipFill>
        <p:spPr>
          <a:xfrm>
            <a:off x="4788000" y="3213000"/>
            <a:ext cx="2016000" cy="280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6" name="Picture 2" descr="http://www.cliparts101.com/files/202/0F467525D92AD4D0117D7E2F3E62EB1F/thumbsupnathaneady01.png"/>
          <p:cNvPicPr/>
          <p:nvPr/>
        </p:nvPicPr>
        <p:blipFill>
          <a:blip r:embed="rId4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suis mal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5" descr="https://encrypted-tbn0.gstatic.com/images?q=tbn:ANd9GcQD4gJSbCBYv0NHgl0PgBfKYEv1U5VUfy_WeqShpY7cnrRdCpRg6g"/>
          <p:cNvPicPr/>
          <p:nvPr/>
        </p:nvPicPr>
        <p:blipFill>
          <a:blip r:embed="rId1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2" descr="http://www.spxcsac.com/v/vspfiles/assets/images/clipart_sick.jpg"/>
          <p:cNvPicPr/>
          <p:nvPr/>
        </p:nvPicPr>
        <p:blipFill>
          <a:blip r:embed="rId2"/>
          <a:stretch/>
        </p:blipFill>
        <p:spPr>
          <a:xfrm>
            <a:off x="2484360" y="3141720"/>
            <a:ext cx="4032360" cy="303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0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 trop de devoi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7" descr="http://bestclipartblog.com/clipart-pics/-homework-clipart-1.gif"/>
          <p:cNvPicPr/>
          <p:nvPr/>
        </p:nvPicPr>
        <p:blipFill>
          <a:blip r:embed="rId1"/>
          <a:stretch/>
        </p:blipFill>
        <p:spPr>
          <a:xfrm>
            <a:off x="3132000" y="3213000"/>
            <a:ext cx="2784600" cy="3218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n’ai pas d’arg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Content Placeholder 5" descr="wpc30240.gif"/>
          <p:cNvPicPr/>
          <p:nvPr/>
        </p:nvPicPr>
        <p:blipFill>
          <a:blip r:embed="rId1"/>
          <a:stretch/>
        </p:blipFill>
        <p:spPr>
          <a:xfrm>
            <a:off x="3492360" y="3357720"/>
            <a:ext cx="194652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n’ai pas de temp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Content Placeholder 5" descr="midnight.gif"/>
          <p:cNvPicPr/>
          <p:nvPr/>
        </p:nvPicPr>
        <p:blipFill>
          <a:blip r:embed="rId1"/>
          <a:stretch/>
        </p:blipFill>
        <p:spPr>
          <a:xfrm>
            <a:off x="2916360" y="2852640"/>
            <a:ext cx="3147840" cy="3683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 oublié mon maillot de b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017880" cy="2957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6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76360" y="404280"/>
            <a:ext cx="724392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théâ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30ish.me/wp-content/uploads/2012/10/Theatre-London.jpg"/>
          <p:cNvPicPr/>
          <p:nvPr/>
        </p:nvPicPr>
        <p:blipFill>
          <a:blip r:embed="rId1"/>
          <a:stretch/>
        </p:blipFill>
        <p:spPr>
          <a:xfrm>
            <a:off x="1332000" y="1844640"/>
            <a:ext cx="67132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5" descr="midnight.gif"/>
          <p:cNvPicPr/>
          <p:nvPr/>
        </p:nvPicPr>
        <p:blipFill>
          <a:blip r:embed="rId1"/>
          <a:stretch/>
        </p:blipFill>
        <p:spPr>
          <a:xfrm>
            <a:off x="314280" y="1197000"/>
            <a:ext cx="3517920" cy="41148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e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’ar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www.yama-designing.com/product-animation-samples/QM-V1-H300.gif"/>
          <p:cNvPicPr/>
          <p:nvPr/>
        </p:nvPicPr>
        <p:blipFill>
          <a:blip r:embed="rId2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Content Placeholder 5" descr="midnight.gif"/>
          <p:cNvPicPr/>
          <p:nvPr/>
        </p:nvPicPr>
        <p:blipFill>
          <a:blip r:embed="rId1"/>
          <a:stretch/>
        </p:blipFill>
        <p:spPr>
          <a:xfrm>
            <a:off x="314280" y="1197000"/>
            <a:ext cx="3517920" cy="4114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e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3152"/>
                </a:solidFill>
                <a:latin typeface="Comic Sans MS"/>
              </a:rPr>
              <a:t>Je n’ai pas d’ar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trop de dev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http://www.yama-designing.com/product-animation-samples/QM-V1-H300.gif"/>
          <p:cNvPicPr/>
          <p:nvPr/>
        </p:nvPicPr>
        <p:blipFill>
          <a:blip r:embed="rId1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  <p:pic>
        <p:nvPicPr>
          <p:cNvPr id="304" name="Picture 7" descr="http://bestclipartblog.com/clipart-pics/-homework-clipart-1.gif"/>
          <p:cNvPicPr/>
          <p:nvPr/>
        </p:nvPicPr>
        <p:blipFill>
          <a:blip r:embed="rId2"/>
          <a:stretch/>
        </p:blipFill>
        <p:spPr>
          <a:xfrm>
            <a:off x="324000" y="1773360"/>
            <a:ext cx="3576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3152"/>
                </a:solidFill>
                <a:latin typeface="Comic Sans MS"/>
              </a:rPr>
              <a:t>Je suis 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trop de dev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http://bestclipartblog.com/clipart-pics/-homework-clipart-1.gif"/>
          <p:cNvPicPr/>
          <p:nvPr/>
        </p:nvPicPr>
        <p:blipFill>
          <a:blip r:embed="rId1"/>
          <a:stretch/>
        </p:blipFill>
        <p:spPr>
          <a:xfrm>
            <a:off x="324000" y="1773360"/>
            <a:ext cx="3576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3995640" y="3284640"/>
            <a:ext cx="4897440" cy="216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ai oublié mon maillot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trop fatig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yama-designing.com/product-animation-samples/QM-V1-H300.gif"/>
          <p:cNvPicPr/>
          <p:nvPr/>
        </p:nvPicPr>
        <p:blipFill>
          <a:blip r:embed="rId1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  <p:pic>
        <p:nvPicPr>
          <p:cNvPr id="309" name="Picture 7" descr="http://www.clipsahoy.com/clipart/as0786tn.gif"/>
          <p:cNvPicPr/>
          <p:nvPr/>
        </p:nvPicPr>
        <p:blipFill>
          <a:blip r:embed="rId2"/>
          <a:stretch/>
        </p:blipFill>
        <p:spPr>
          <a:xfrm>
            <a:off x="468360" y="1844640"/>
            <a:ext cx="3166920" cy="44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3995640" y="3284640"/>
            <a:ext cx="4897440" cy="216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3152"/>
                </a:solidFill>
                <a:latin typeface="Comic Sans MS"/>
              </a:rPr>
              <a:t>J’ai oublié mon maillot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trop fatig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clipsahoy.com/clipart/as0786tn.gif"/>
          <p:cNvPicPr/>
          <p:nvPr/>
        </p:nvPicPr>
        <p:blipFill>
          <a:blip r:embed="rId1"/>
          <a:stretch/>
        </p:blipFill>
        <p:spPr>
          <a:xfrm>
            <a:off x="468360" y="1844640"/>
            <a:ext cx="3166920" cy="44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395280" y="333360"/>
            <a:ext cx="82803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tch the </a:t>
            </a: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suggest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suitabl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exc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There may be a few possible answe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250920" y="1628640"/>
            <a:ext cx="4321080" cy="4866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aller au ciném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On pourrait aller au terrain de sport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On pourrait aller à la piscine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venir au concert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aller au Quick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4716360" y="1628640"/>
            <a:ext cx="4248360" cy="512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J’ai trop de devo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Je suis trop fatigu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C’est trop cher. Je n’ai pas d’arg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Non, j’ai déjà mang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Zut! J’ai oublié mon maillot de ba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ttps://encrypted-tbn1.gstatic.com/images?q=tbn:ANd9GcTqPiW_SbK4q8lX06utlpJFctL92utTNIEytxNyRpXACVW7K815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2268360" y="-15840"/>
            <a:ext cx="4607280" cy="6889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0" name="TextBox 2"/>
          <p:cNvSpPr/>
          <p:nvPr/>
        </p:nvSpPr>
        <p:spPr>
          <a:xfrm>
            <a:off x="3276720" y="119700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your suggestion here, starting with “</a:t>
            </a:r>
            <a:r>
              <a:rPr b="1" lang="en-GB" sz="24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2556000" y="3213000"/>
            <a:ext cx="506160" cy="5097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2" name="TextBox 5"/>
          <p:cNvSpPr/>
          <p:nvPr/>
        </p:nvSpPr>
        <p:spPr>
          <a:xfrm>
            <a:off x="3203640" y="2997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ex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3348000" y="436572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another sugges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cliparts101.com/files/202/0F467525D92AD4D0117D7E2F3E62EB1F/thumbsupnathaneady01.png"/>
          <p:cNvPicPr/>
          <p:nvPr/>
        </p:nvPicPr>
        <p:blipFill>
          <a:blip r:embed="rId4"/>
          <a:stretch/>
        </p:blipFill>
        <p:spPr>
          <a:xfrm>
            <a:off x="2627280" y="5445000"/>
            <a:ext cx="482760" cy="4809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325" name="Picture 7" descr="http://bestclipartblog.com/clipart-pics/-homework-clipart-1.gif"/>
          <p:cNvPicPr/>
          <p:nvPr/>
        </p:nvPicPr>
        <p:blipFill>
          <a:blip r:embed="rId5"/>
          <a:stretch/>
        </p:blipFill>
        <p:spPr>
          <a:xfrm>
            <a:off x="3348000" y="3357720"/>
            <a:ext cx="62568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6"/>
          <a:stretch/>
        </p:blipFill>
        <p:spPr>
          <a:xfrm>
            <a:off x="4140360" y="3429000"/>
            <a:ext cx="677880" cy="663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ttp://www.spxcsac.com/v/vspfiles/assets/images/clipart_sick.jpg"/>
          <p:cNvPicPr/>
          <p:nvPr/>
        </p:nvPicPr>
        <p:blipFill>
          <a:blip r:embed="rId7"/>
          <a:stretch/>
        </p:blipFill>
        <p:spPr>
          <a:xfrm>
            <a:off x="5076720" y="3500280"/>
            <a:ext cx="585720" cy="44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www.clipart-fr.com/en/data/clipart/star/star_169.gif"/>
          <p:cNvPicPr/>
          <p:nvPr/>
        </p:nvPicPr>
        <p:blipFill>
          <a:blip r:embed="rId1"/>
          <a:stretch/>
        </p:blipFill>
        <p:spPr>
          <a:xfrm>
            <a:off x="0" y="0"/>
            <a:ext cx="1010124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40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Qu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quick_le_port.jpg"/>
          <p:cNvPicPr/>
          <p:nvPr/>
        </p:nvPicPr>
        <p:blipFill>
          <a:blip r:embed="rId1"/>
          <a:stretch/>
        </p:blipFill>
        <p:spPr>
          <a:xfrm>
            <a:off x="2857680" y="2286000"/>
            <a:ext cx="5076720" cy="380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Temp\Content.IE5\8ZEF4T2B\MCj04109790000[1].wmf"/>
          <p:cNvPicPr/>
          <p:nvPr/>
        </p:nvPicPr>
        <p:blipFill>
          <a:blip r:embed="rId2"/>
          <a:stretch/>
        </p:blipFill>
        <p:spPr>
          <a:xfrm>
            <a:off x="1332000" y="4581360"/>
            <a:ext cx="214452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34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908000" y="2276640"/>
            <a:ext cx="1440000" cy="12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908000" y="3860640"/>
            <a:ext cx="1440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492360" y="3860640"/>
            <a:ext cx="14400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529272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716436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564000" y="2133720"/>
            <a:ext cx="1439640" cy="13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5435640" y="2205000"/>
            <a:ext cx="1440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7236000" y="2205000"/>
            <a:ext cx="14396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0000000078.jpg"/>
          <p:cNvPicPr/>
          <p:nvPr/>
        </p:nvPicPr>
        <p:blipFill>
          <a:blip r:embed="rId2"/>
          <a:stretch/>
        </p:blipFill>
        <p:spPr>
          <a:xfrm>
            <a:off x="1835280" y="2205000"/>
            <a:ext cx="1538280" cy="123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http://bestclipartblog.com/clipart-pics/-homework-clipart-1.gif"/>
          <p:cNvPicPr/>
          <p:nvPr/>
        </p:nvPicPr>
        <p:blipFill>
          <a:blip r:embed="rId3"/>
          <a:stretch/>
        </p:blipFill>
        <p:spPr>
          <a:xfrm>
            <a:off x="3635280" y="2205000"/>
            <a:ext cx="1201680" cy="1387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quick_le_port.jpg"/>
          <p:cNvPicPr/>
          <p:nvPr/>
        </p:nvPicPr>
        <p:blipFill>
          <a:blip r:embed="rId4"/>
          <a:stretch/>
        </p:blipFill>
        <p:spPr>
          <a:xfrm>
            <a:off x="5292720" y="2276640"/>
            <a:ext cx="1633680" cy="122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48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908000" y="2276640"/>
            <a:ext cx="1440000" cy="12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908000" y="3860640"/>
            <a:ext cx="1440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492360" y="3860640"/>
            <a:ext cx="14400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529272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716436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64000" y="2133720"/>
            <a:ext cx="1439640" cy="13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5435640" y="2205000"/>
            <a:ext cx="1440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7236000" y="2205000"/>
            <a:ext cx="14396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3635280" y="2205000"/>
            <a:ext cx="1325520" cy="1298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DsBfJlOWGLrcfQJBhgTM2Mh2kEKsnPwn_800x600.jpg"/>
          <p:cNvPicPr/>
          <p:nvPr/>
        </p:nvPicPr>
        <p:blipFill>
          <a:blip r:embed="rId3"/>
          <a:stretch/>
        </p:blipFill>
        <p:spPr>
          <a:xfrm>
            <a:off x="1835280" y="2205000"/>
            <a:ext cx="1500120" cy="1305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Temp\Content.IE5\UP07UB2H\MCj04125460000[1].wmf"/>
          <p:cNvPicPr/>
          <p:nvPr/>
        </p:nvPicPr>
        <p:blipFill>
          <a:blip r:embed="rId4"/>
          <a:stretch/>
        </p:blipFill>
        <p:spPr>
          <a:xfrm>
            <a:off x="5508720" y="2276640"/>
            <a:ext cx="1190520" cy="1209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96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conc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http://www4.pictures.zimbio.com/gi/Olly+Murs+T4+Stars+2010+Concert+zwSfmtK9Xzil.jpg"/>
          <p:cNvPicPr/>
          <p:nvPr/>
        </p:nvPicPr>
        <p:blipFill>
          <a:blip r:embed="rId1"/>
          <a:stretch/>
        </p:blipFill>
        <p:spPr>
          <a:xfrm>
            <a:off x="3203640" y="2421000"/>
            <a:ext cx="2749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59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terrain de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s://encrypted-tbn2.gstatic.com/images?q=tbn:ANd9GcRdzvKMcaInRKtoXzSUeMWiqOJRxdJ600hLTPLntvE-A25wzI5j"/>
          <p:cNvPicPr/>
          <p:nvPr/>
        </p:nvPicPr>
        <p:blipFill>
          <a:blip r:embed="rId1"/>
          <a:stretch/>
        </p:blipFill>
        <p:spPr>
          <a:xfrm>
            <a:off x="1979640" y="2421000"/>
            <a:ext cx="5446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59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club de je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activeyouth.co.uk/wp-content/uploads/Finch-Youth-Club8.jpg"/>
          <p:cNvPicPr/>
          <p:nvPr/>
        </p:nvPicPr>
        <p:blipFill>
          <a:blip r:embed="rId1"/>
          <a:stretch/>
        </p:blipFill>
        <p:spPr>
          <a:xfrm>
            <a:off x="900000" y="1628640"/>
            <a:ext cx="7128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80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à la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DsBfJlOWGLrcfQJBhgTM2Mh2kEKsnPwn_800x600.jpg"/>
          <p:cNvPicPr/>
          <p:nvPr/>
        </p:nvPicPr>
        <p:blipFill>
          <a:blip r:embed="rId1"/>
          <a:stretch/>
        </p:blipFill>
        <p:spPr>
          <a:xfrm>
            <a:off x="1763640" y="2637000"/>
            <a:ext cx="53294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3:14:35Z</dcterms:created>
  <dc:creator>K0529349</dc:creator>
  <dc:description/>
  <dc:language>en-US</dc:language>
  <cp:lastModifiedBy>Clare</cp:lastModifiedBy>
  <dcterms:modified xsi:type="dcterms:W3CDTF">2013-05-14T09:30:12Z</dcterms:modified>
  <cp:revision>64</cp:revision>
  <dc:subject/>
  <dc:title>Slide 1</dc:title>
</cp:coreProperties>
</file>