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A9C-B850-4542-A116-A26D179A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C39-0E64-4393-B631-916BD56D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918-EA93-44FF-A837-7479E3BC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360-A843-45B3-B809-3965CC2C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FFD-FEC4-44AC-94D9-1B92C64F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72E-4059-4EC4-A834-8416B887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042-2E0F-41EB-8A80-AD82C493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836-E588-46D9-A2EB-458EF424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625-9C46-42C4-8C40-5638C135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2C5-049D-43B4-83AA-00D3F58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7DC-DDC5-47D8-B609-CBDE265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AF4-BF51-40FA-8394-FCBC4DCF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EE0-7234-4297-B907-203B870A5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file:///alien_song.mpa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6629400" cy="4457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3809880"/>
            <a:ext cx="784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ercurius Script MT Bold"/>
              </a:rPr>
              <a:t>Bonjour, je m’appelle Zorg… je viens de la planète Caiem dans la galaxie Mirconos. J’ai cent vingt ans. J’habite au centre ville, au Nord de la capita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5638680" cy="43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63868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638680" y="358128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67280"/>
            <a:ext cx="96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suite, il y a la salle à manger et la cuisine. Ma mère cuisine super bien! Mon plat préféré c’est les lima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657600" y="8380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572000" y="1752480"/>
            <a:ext cx="137160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29640" y="2911680"/>
            <a:ext cx="1179360" cy="1034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626280" y="3355200"/>
            <a:ext cx="2203560" cy="525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66520" y="380880"/>
            <a:ext cx="30481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50360" y="1473840"/>
            <a:ext cx="778320" cy="950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352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971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657600" y="3200400"/>
            <a:ext cx="281952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685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 c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600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52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809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3623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419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 maison est très gra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029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l y a deux grandes chamb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5029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 chambre est la plus grande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4419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ns l’entrée, il y a un jardi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86400"/>
            <a:ext cx="99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droite il y a le salon. Il n’y a pas de télé car j’y suis allérgiq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9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4019400"/>
            <a:ext cx="9144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ans ma chambre, il y a un grand lit vert, une table de nuit. Sur ma table de nuit il y a  un réveil et un livre. J’ai aussi une commode et des étagères. Je partage ma chambre avec mon petit frère. Dans ma chambre, il y a aussi un bureau...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61800" y="2594520"/>
            <a:ext cx="3661920" cy="212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609480"/>
            <a:ext cx="838440" cy="358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572000" y="4038480"/>
            <a:ext cx="266688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220080" y="1630440"/>
            <a:ext cx="1565640" cy="371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609480"/>
            <a:ext cx="1447920" cy="243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97640" y="1908720"/>
            <a:ext cx="317880" cy="2886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3733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 étag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 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 lit de  petit fr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1520" y="1295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 bur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990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e table de n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446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4495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952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ilà mon bureau. J’écris à ma petite copine qui s’appelle Mart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147760" y="1738440"/>
          <a:ext cx="4848480" cy="33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7760" y="1738440"/>
                    <a:ext cx="484848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38480"/>
            <a:ext cx="876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/>
          </p:cNvPr>
          <p:cNvSpPr/>
          <p:nvPr/>
        </p:nvSpPr>
        <p:spPr>
          <a:xfrm>
            <a:off x="4344120" y="5105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3:59:04Z</dcterms:created>
  <dc:creator>M Heale</dc:creator>
  <dc:description/>
  <dc:language>en-US</dc:language>
  <cp:lastModifiedBy>testpupil</cp:lastModifiedBy>
  <dcterms:modified xsi:type="dcterms:W3CDTF">2002-05-09T10:48:11Z</dcterms:modified>
  <cp:revision>9</cp:revision>
  <dc:subject/>
  <dc:title>No Slide Title</dc:title>
</cp:coreProperties>
</file>