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37.jpeg" ContentType="image/jpeg"/>
  <Override PartName="/ppt/media/image50.jpeg" ContentType="image/jpeg"/>
  <Override PartName="/ppt/media/image27.jpeg" ContentType="image/jpeg"/>
  <Override PartName="/ppt/media/image5.wmf" ContentType="image/x-wmf"/>
  <Override PartName="/ppt/media/image1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15.jpeg" ContentType="image/jpeg"/>
  <Override PartName="/ppt/media/image12.png" ContentType="image/png"/>
  <Override PartName="/ppt/media/image23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60.png" ContentType="image/png"/>
  <Override PartName="/ppt/media/image26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.wmf" ContentType="image/x-wmf"/>
  <Override PartName="/ppt/media/image4.wmf" ContentType="image/x-wmf"/>
  <Override PartName="/ppt/media/image41.jpeg" ContentType="image/jpeg"/>
  <Override PartName="/ppt/media/image14.jpeg" ContentType="image/jpeg"/>
  <Override PartName="/ppt/media/image18.jpeg" ContentType="image/jpeg"/>
  <Override PartName="/ppt/media/image52.jpeg" ContentType="image/jpeg"/>
  <Override PartName="/ppt/media/image28.wmf" ContentType="image/x-wmf"/>
  <Override PartName="/ppt/media/image31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11.png" ContentType="image/png"/>
  <Override PartName="/ppt/media/image47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wmf" ContentType="image/x-wmf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10.wmf" ContentType="image/x-wmf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760B-BD4C-49E8-9951-F639E1F4D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2D3-4B83-4CE5-B30A-7987F9495449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hedral of st john, rome, cole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14D8-E1E4-41FD-AC1D-33C24BCF3386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957-6386-431E-B5FF-091D71A8C702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 4 : salz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B0C-8EBF-4129-82FD-35807C27A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to re-drill countries &amp; leave on board whilst kids label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F69-B214-4E45-826D-648852265F0E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nish pyrenees, sev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905-BB45-4EE8-9C15-ACC33529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3D3-D380-4B3A-832A-AFEF018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66E-2372-44CB-AA94-C4966C53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BE1-F47C-4457-B67B-84BDC358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036-89D9-4F25-A5D5-E82A010F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265-AFA5-46B5-98EA-DCEE8660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C93-8E3A-4ED9-96D4-D1E833B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4FD-9F56-437D-8EEE-BD43DBB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305-4754-47D1-AB82-8C3BC7D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DE8-63D9-487C-896A-060FC1A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834-9026-4FC8-A2EE-169C980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3D3-B9D5-4259-A43A-6956784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1AB-A168-4CF1-9178-EA3F470D1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rekearth.com/gallery/Europe/Austria/photo665642.htm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www.trekearth.com/gallery/Europe/Austria/photo665239.htm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www.bugbog.com/gallery/austria_pictures/salzburg_pictures_1.html" TargetMode="External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ffrench.net/photos/gallery-5_photo-875.php" TargetMode="External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73200" y="1292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 p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0800" y="3141720"/>
            <a:ext cx="75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bjectifs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)  Apprendre les noms de 7 pays et 7 lan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)  Utiliser les prépositions ‘à’ et ‘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Cj04136340000[1]"/>
          <p:cNvPicPr/>
          <p:nvPr/>
        </p:nvPicPr>
        <p:blipFill>
          <a:blip r:embed="rId1"/>
          <a:stretch/>
        </p:blipFill>
        <p:spPr>
          <a:xfrm>
            <a:off x="6589800" y="4005360"/>
            <a:ext cx="2311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67320" y="2708280"/>
            <a:ext cx="30672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395600" y="4869000"/>
            <a:ext cx="23738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MPj04339960000[1]"/>
          <p:cNvPicPr/>
          <p:nvPr/>
        </p:nvPicPr>
        <p:blipFill>
          <a:blip r:embed="rId1"/>
          <a:stretch/>
        </p:blipFill>
        <p:spPr>
          <a:xfrm>
            <a:off x="1116000" y="4437000"/>
            <a:ext cx="2865600" cy="214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aris-tour-eiffel"/>
          <p:cNvPicPr/>
          <p:nvPr/>
        </p:nvPicPr>
        <p:blipFill>
          <a:blip r:embed="rId2"/>
          <a:stretch/>
        </p:blipFill>
        <p:spPr>
          <a:xfrm>
            <a:off x="5435640" y="1052640"/>
            <a:ext cx="2552760" cy="3476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4698000" y="5945040"/>
            <a:ext cx="4022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27000" y="2708280"/>
            <a:ext cx="386712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sbon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41960" y="4869000"/>
            <a:ext cx="27306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MPj04339980000[1]"/>
          <p:cNvPicPr/>
          <p:nvPr/>
        </p:nvPicPr>
        <p:blipFill>
          <a:blip r:embed="rId1"/>
          <a:stretch/>
        </p:blipFill>
        <p:spPr>
          <a:xfrm>
            <a:off x="1547640" y="422100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apa_lisboa"/>
          <p:cNvPicPr/>
          <p:nvPr/>
        </p:nvPicPr>
        <p:blipFill>
          <a:blip r:embed="rId2"/>
          <a:stretch/>
        </p:blipFill>
        <p:spPr>
          <a:xfrm>
            <a:off x="5510160" y="1700280"/>
            <a:ext cx="2911680" cy="265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4640760" y="5945040"/>
            <a:ext cx="4351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portug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48320" y="2708280"/>
            <a:ext cx="351828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ardi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350240" y="4869000"/>
            <a:ext cx="3815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ys de G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MCj03918120000[1]"/>
          <p:cNvPicPr/>
          <p:nvPr/>
        </p:nvPicPr>
        <p:blipFill>
          <a:blip r:embed="rId1"/>
          <a:stretch/>
        </p:blipFill>
        <p:spPr>
          <a:xfrm>
            <a:off x="1332000" y="4365720"/>
            <a:ext cx="2611440" cy="1747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millennium_stadium1"/>
          <p:cNvPicPr/>
          <p:nvPr/>
        </p:nvPicPr>
        <p:blipFill>
          <a:blip r:embed="rId2"/>
          <a:stretch/>
        </p:blipFill>
        <p:spPr>
          <a:xfrm>
            <a:off x="5148360" y="1916280"/>
            <a:ext cx="3473280" cy="2313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4646160" y="5945040"/>
            <a:ext cx="37468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gall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27840" y="2781360"/>
            <a:ext cx="42512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dimbour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427640" y="4797360"/>
            <a:ext cx="2314440" cy="1068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Éco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Pj04340610000[1]"/>
          <p:cNvPicPr/>
          <p:nvPr/>
        </p:nvPicPr>
        <p:blipFill>
          <a:blip r:embed="rId1"/>
          <a:stretch/>
        </p:blipFill>
        <p:spPr>
          <a:xfrm>
            <a:off x="1477800" y="422100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edinburgh"/>
          <p:cNvPicPr/>
          <p:nvPr/>
        </p:nvPicPr>
        <p:blipFill>
          <a:blip r:embed="rId2"/>
          <a:stretch/>
        </p:blipFill>
        <p:spPr>
          <a:xfrm>
            <a:off x="5148360" y="1989000"/>
            <a:ext cx="1914480" cy="2552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49440" y="2781360"/>
            <a:ext cx="33840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ubl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427640" y="4797360"/>
            <a:ext cx="288108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rl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MCj01292010000[1]"/>
          <p:cNvPicPr/>
          <p:nvPr/>
        </p:nvPicPr>
        <p:blipFill>
          <a:blip r:embed="rId1"/>
          <a:stretch/>
        </p:blipFill>
        <p:spPr>
          <a:xfrm>
            <a:off x="971640" y="4149720"/>
            <a:ext cx="2624040" cy="190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MCj03986090000[1]"/>
          <p:cNvPicPr/>
          <p:nvPr/>
        </p:nvPicPr>
        <p:blipFill>
          <a:blip r:embed="rId2"/>
          <a:stretch/>
        </p:blipFill>
        <p:spPr>
          <a:xfrm>
            <a:off x="1979640" y="4508640"/>
            <a:ext cx="1805040" cy="2041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028%20%20Dublin%20chariot%201271"/>
          <p:cNvPicPr/>
          <p:nvPr/>
        </p:nvPicPr>
        <p:blipFill>
          <a:blip r:embed="rId3"/>
          <a:stretch/>
        </p:blipFill>
        <p:spPr>
          <a:xfrm>
            <a:off x="4572000" y="2133720"/>
            <a:ext cx="3232080" cy="2165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93720" y="2781360"/>
            <a:ext cx="39510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ew Y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427640" y="4797360"/>
            <a:ext cx="2881080" cy="10688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é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www.oakpointtexas.com/vertical/Sites/%7B8D590207-0A48-461B-BC46-80A9CE9D26D7%7D/uploads/American-Flag.jpg"/>
          <p:cNvPicPr/>
          <p:nvPr/>
        </p:nvPicPr>
        <p:blipFill>
          <a:blip r:embed="rId1"/>
          <a:stretch/>
        </p:blipFill>
        <p:spPr>
          <a:xfrm>
            <a:off x="611280" y="3933720"/>
            <a:ext cx="3422520" cy="269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315040" y="1844640"/>
            <a:ext cx="30448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En vacanc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http://www.traveljournals.net/pictures/l/8/82694-the-carribean-coast---bueno-tulum-mexico.jpg"/>
          <p:cNvPicPr/>
          <p:nvPr/>
        </p:nvPicPr>
        <p:blipFill>
          <a:blip r:embed="rId1"/>
          <a:stretch/>
        </p:blipFill>
        <p:spPr>
          <a:xfrm>
            <a:off x="4495680" y="1676520"/>
            <a:ext cx="3441960" cy="458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www.npl.co.uk/measurement_solutions/images/mini_case_studies/virgin_atlantic_aeroplane.jpg"/>
          <p:cNvPicPr/>
          <p:nvPr/>
        </p:nvPicPr>
        <p:blipFill>
          <a:blip r:embed="rId2"/>
          <a:stretch/>
        </p:blipFill>
        <p:spPr>
          <a:xfrm>
            <a:off x="838080" y="2895480"/>
            <a:ext cx="2743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Inside The Cathedral of St. John Lateran"/>
          <p:cNvPicPr/>
          <p:nvPr/>
        </p:nvPicPr>
        <p:blipFill>
          <a:blip r:embed="rId1"/>
          <a:stretch/>
        </p:blipFill>
        <p:spPr>
          <a:xfrm>
            <a:off x="533520" y="2133720"/>
            <a:ext cx="2590560" cy="194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rmalement je passe mes vacances en / au / au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Exterior View of  the Colosseum"/>
          <p:cNvPicPr/>
          <p:nvPr/>
        </p:nvPicPr>
        <p:blipFill>
          <a:blip r:embed="rId2"/>
          <a:stretch/>
        </p:blipFill>
        <p:spPr>
          <a:xfrm>
            <a:off x="3733920" y="1905120"/>
            <a:ext cx="1504800" cy="269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Leaning Tower of Pisa"/>
          <p:cNvPicPr/>
          <p:nvPr/>
        </p:nvPicPr>
        <p:blipFill>
          <a:blip r:embed="rId3"/>
          <a:stretch/>
        </p:blipFill>
        <p:spPr>
          <a:xfrm>
            <a:off x="5867280" y="1828800"/>
            <a:ext cx="2000520" cy="2660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Gondola Ride on the Grand Canal"/>
          <p:cNvPicPr/>
          <p:nvPr/>
        </p:nvPicPr>
        <p:blipFill>
          <a:blip r:embed="rId4"/>
          <a:stretch/>
        </p:blipFill>
        <p:spPr>
          <a:xfrm>
            <a:off x="533520" y="4495680"/>
            <a:ext cx="2549520" cy="1725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3429000" y="1943280"/>
            <a:ext cx="891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429000" y="1943280"/>
            <a:ext cx="5943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429000" y="194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Ragu Bolognese graphic"/>
          <p:cNvPicPr/>
          <p:nvPr/>
        </p:nvPicPr>
        <p:blipFill>
          <a:blip r:embed="rId5"/>
          <a:stretch/>
        </p:blipFill>
        <p:spPr>
          <a:xfrm>
            <a:off x="3886200" y="4762440"/>
            <a:ext cx="1376280" cy="17906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3429000" y="2286000"/>
            <a:ext cx="891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3429000" y="2286000"/>
            <a:ext cx="5943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429000" y="2286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Pizza graphic"/>
          <p:cNvPicPr/>
          <p:nvPr/>
        </p:nvPicPr>
        <p:blipFill>
          <a:blip r:embed="rId6"/>
          <a:stretch/>
        </p:blipFill>
        <p:spPr>
          <a:xfrm>
            <a:off x="617220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portugal-info.net/images/travel/algarve1.jpg"/>
          <p:cNvPicPr/>
          <p:nvPr/>
        </p:nvPicPr>
        <p:blipFill>
          <a:blip r:embed="rId1"/>
          <a:stretch/>
        </p:blipFill>
        <p:spPr>
          <a:xfrm>
            <a:off x="53352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ttp://www.portugal-info.net/images/travel/algarve2.jpg"/>
          <p:cNvPicPr/>
          <p:nvPr/>
        </p:nvPicPr>
        <p:blipFill>
          <a:blip r:embed="rId2"/>
          <a:stretch/>
        </p:blipFill>
        <p:spPr>
          <a:xfrm>
            <a:off x="4572000" y="457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portugal-info.net/images/travel/lisbon1.jpg"/>
          <p:cNvPicPr/>
          <p:nvPr/>
        </p:nvPicPr>
        <p:blipFill>
          <a:blip r:embed="rId3"/>
          <a:stretch/>
        </p:blipFill>
        <p:spPr>
          <a:xfrm>
            <a:off x="533520" y="35053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www.portugal-info.net/images/travel/albufeira1.jpg"/>
          <p:cNvPicPr/>
          <p:nvPr/>
        </p:nvPicPr>
        <p:blipFill>
          <a:blip r:embed="rId4"/>
          <a:stretch/>
        </p:blipFill>
        <p:spPr>
          <a:xfrm>
            <a:off x="4648320" y="3505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Title: Window on InnsbruckPanasonic DMC-LC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57200"/>
            <a:ext cx="2305080" cy="1736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Title: EggsSony Cyber-shot DSC-S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762120"/>
            <a:ext cx="2476440" cy="117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austria pictures, Tir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576520"/>
            <a:ext cx="3124080" cy="207792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"/>
          <p:cNvGrpSpPr/>
          <p:nvPr/>
        </p:nvGrpSpPr>
        <p:grpSpPr>
          <a:xfrm>
            <a:off x="457200" y="2149560"/>
            <a:ext cx="8229600" cy="2560680"/>
            <a:chOff x="457200" y="2149560"/>
            <a:chExt cx="8229600" cy="2560680"/>
          </a:xfrm>
        </p:grpSpPr>
        <p:sp>
          <p:nvSpPr>
            <p:cNvPr id="216" name="Rectangle 6"/>
            <p:cNvSpPr/>
            <p:nvPr/>
          </p:nvSpPr>
          <p:spPr>
            <a:xfrm>
              <a:off x="457200" y="2149560"/>
              <a:ext cx="8229600" cy="24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457200" y="2149560"/>
              <a:ext cx="82296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3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8" descr="http://www.bugbog.com/images/galleries/austria_pictures/austria_pictures_salzburg_4.jpg"/>
          <p:cNvPicPr/>
          <p:nvPr/>
        </p:nvPicPr>
        <p:blipFill>
          <a:blip r:embed="rId7"/>
          <a:stretch/>
        </p:blipFill>
        <p:spPr>
          <a:xfrm>
            <a:off x="4114800" y="2362320"/>
            <a:ext cx="32925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CFL00138_0000[1]"/>
          <p:cNvPicPr/>
          <p:nvPr/>
        </p:nvPicPr>
        <p:blipFill>
          <a:blip r:embed="rId1"/>
          <a:stretch/>
        </p:blipFill>
        <p:spPr>
          <a:xfrm>
            <a:off x="0" y="220500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MCj03918120000[1]"/>
          <p:cNvPicPr/>
          <p:nvPr/>
        </p:nvPicPr>
        <p:blipFill>
          <a:blip r:embed="rId2"/>
          <a:stretch/>
        </p:blipFill>
        <p:spPr>
          <a:xfrm>
            <a:off x="1979640" y="2349360"/>
            <a:ext cx="1414440" cy="94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FL00085_0000[1]"/>
          <p:cNvPicPr/>
          <p:nvPr/>
        </p:nvPicPr>
        <p:blipFill>
          <a:blip r:embed="rId3"/>
          <a:stretch/>
        </p:blipFill>
        <p:spPr>
          <a:xfrm>
            <a:off x="3851280" y="2205000"/>
            <a:ext cx="13240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FL00125_0000[1]"/>
          <p:cNvPicPr/>
          <p:nvPr/>
        </p:nvPicPr>
        <p:blipFill>
          <a:blip r:embed="rId4"/>
          <a:stretch/>
        </p:blipFill>
        <p:spPr>
          <a:xfrm>
            <a:off x="5435640" y="2205000"/>
            <a:ext cx="14479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FL00129_0000[1]"/>
          <p:cNvPicPr/>
          <p:nvPr/>
        </p:nvPicPr>
        <p:blipFill>
          <a:blip r:embed="rId5"/>
          <a:stretch/>
        </p:blipFill>
        <p:spPr>
          <a:xfrm>
            <a:off x="1908000" y="4365720"/>
            <a:ext cx="1221120" cy="95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FL00140_0000[1]"/>
          <p:cNvPicPr/>
          <p:nvPr/>
        </p:nvPicPr>
        <p:blipFill>
          <a:blip r:embed="rId6"/>
          <a:stretch/>
        </p:blipFill>
        <p:spPr>
          <a:xfrm>
            <a:off x="3419640" y="4292640"/>
            <a:ext cx="1320480" cy="103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Pj03628330000[1]"/>
          <p:cNvPicPr/>
          <p:nvPr/>
        </p:nvPicPr>
        <p:blipFill>
          <a:blip r:embed="rId7"/>
          <a:stretch/>
        </p:blipFill>
        <p:spPr>
          <a:xfrm>
            <a:off x="5076720" y="443700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CFL00079_0000[1]"/>
          <p:cNvPicPr/>
          <p:nvPr/>
        </p:nvPicPr>
        <p:blipFill>
          <a:blip r:embed="rId8"/>
          <a:stretch/>
        </p:blipFill>
        <p:spPr>
          <a:xfrm>
            <a:off x="6443640" y="4292640"/>
            <a:ext cx="1222560" cy="98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MCFL00128_0000[1]"/>
          <p:cNvPicPr/>
          <p:nvPr/>
        </p:nvPicPr>
        <p:blipFill>
          <a:blip r:embed="rId9"/>
          <a:stretch/>
        </p:blipFill>
        <p:spPr>
          <a:xfrm>
            <a:off x="0" y="4292640"/>
            <a:ext cx="1295280" cy="101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2895480" y="0"/>
            <a:ext cx="29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’est quel p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835280" y="4221000"/>
            <a:ext cx="2016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6516720" y="3716280"/>
            <a:ext cx="1008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0" y="3789360"/>
            <a:ext cx="16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1870200" y="5373720"/>
            <a:ext cx="1480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Allem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5507640" y="3429000"/>
            <a:ext cx="1488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Anglete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008240" y="3429000"/>
            <a:ext cx="10555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Eco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914480" y="3429000"/>
            <a:ext cx="1904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e Pays de G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182880" y="5373720"/>
            <a:ext cx="1151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ff"/>
                </a:solidFill>
                <a:latin typeface="Comic Sans MS"/>
              </a:rPr>
              <a:t>La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6415560" y="5373720"/>
            <a:ext cx="13467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e Portu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2124000" y="6021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003640" y="5373720"/>
            <a:ext cx="1268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Esp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3564000" y="5373720"/>
            <a:ext cx="1039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tal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6372360" y="6381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250920" y="3429000"/>
            <a:ext cx="12110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rl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8"/>
          <p:cNvSpPr/>
          <p:nvPr/>
        </p:nvSpPr>
        <p:spPr>
          <a:xfrm>
            <a:off x="1908000" y="378936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9"/>
          <p:cNvSpPr/>
          <p:nvPr/>
        </p:nvSpPr>
        <p:spPr>
          <a:xfrm>
            <a:off x="3995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550872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0" y="5732640"/>
            <a:ext cx="16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1908000" y="5732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3419640" y="573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5003640" y="573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>
            <a:off x="6516720" y="573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0" descr="http://www.flags.net/images/largeflags/UNKG0103.GIF"/>
          <p:cNvPicPr/>
          <p:nvPr/>
        </p:nvPicPr>
        <p:blipFill>
          <a:blip r:embed="rId10"/>
          <a:stretch/>
        </p:blipFill>
        <p:spPr>
          <a:xfrm>
            <a:off x="7451640" y="2349360"/>
            <a:ext cx="1490760" cy="900360"/>
          </a:xfrm>
          <a:prstGeom prst="rect">
            <a:avLst/>
          </a:prstGeom>
          <a:ln w="0">
            <a:noFill/>
          </a:ln>
        </p:spPr>
      </p:pic>
      <p:sp>
        <p:nvSpPr>
          <p:cNvPr id="84" name="Line 40"/>
          <p:cNvSpPr/>
          <p:nvPr/>
        </p:nvSpPr>
        <p:spPr>
          <a:xfrm>
            <a:off x="7308720" y="378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7190280" y="3429000"/>
            <a:ext cx="19209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66"/>
                </a:solidFill>
                <a:latin typeface="Comic Sans MS"/>
              </a:rPr>
              <a:t>l’Irlande du 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7" descr=""/>
          <p:cNvPicPr/>
          <p:nvPr/>
        </p:nvPicPr>
        <p:blipFill>
          <a:blip r:embed="rId11"/>
          <a:stretch/>
        </p:blipFill>
        <p:spPr>
          <a:xfrm>
            <a:off x="7770960" y="4243320"/>
            <a:ext cx="1373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8"/>
          <p:cNvSpPr/>
          <p:nvPr/>
        </p:nvSpPr>
        <p:spPr>
          <a:xfrm>
            <a:off x="7756200" y="5396040"/>
            <a:ext cx="13345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ffff"/>
                </a:solidFill>
                <a:latin typeface="Comic Sans MS"/>
              </a:rPr>
              <a:t>L’Amé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www.offrench.net/photos/pictures/paris/thumbs/notre-dame-tourist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ttp://www.offrench.net/photos/pictures/paris/thumbs/reverberes_concorde.jpg"/>
          <p:cNvPicPr/>
          <p:nvPr/>
        </p:nvPicPr>
        <p:blipFill>
          <a:blip r:embed="rId3"/>
          <a:stretch/>
        </p:blipFill>
        <p:spPr>
          <a:xfrm>
            <a:off x="3429000" y="1143000"/>
            <a:ext cx="1981080" cy="132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offrench.net/photos/pictures/paris/thumbs/etoile_place-cdg.jpg"/>
          <p:cNvPicPr/>
          <p:nvPr/>
        </p:nvPicPr>
        <p:blipFill>
          <a:blip r:embed="rId4"/>
          <a:stretch/>
        </p:blipFill>
        <p:spPr>
          <a:xfrm>
            <a:off x="6477120" y="838080"/>
            <a:ext cx="1663560" cy="251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offrench.net/photos/pictures/paris/thumbs/tour_eiffel_hiver.jpg"/>
          <p:cNvPicPr/>
          <p:nvPr/>
        </p:nvPicPr>
        <p:blipFill>
          <a:blip r:embed="rId5"/>
          <a:stretch/>
        </p:blipFill>
        <p:spPr>
          <a:xfrm>
            <a:off x="4191120" y="3657600"/>
            <a:ext cx="1706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ighlight for Album: Aragon - Photos &amp; Pictures"/>
          <p:cNvPicPr/>
          <p:nvPr/>
        </p:nvPicPr>
        <p:blipFill>
          <a:blip r:embed="rId1"/>
          <a:stretch/>
        </p:blipFill>
        <p:spPr>
          <a:xfrm>
            <a:off x="762120" y="990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Highlight for Album: Spanish Pyrenees: Photos &amp; Pictures"/>
          <p:cNvPicPr/>
          <p:nvPr/>
        </p:nvPicPr>
        <p:blipFill>
          <a:blip r:embed="rId2"/>
          <a:stretch/>
        </p:blipFill>
        <p:spPr>
          <a:xfrm>
            <a:off x="3809880" y="914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ighlight for Album: Sevilla - Photos &amp; Pictures"/>
          <p:cNvPicPr/>
          <p:nvPr/>
        </p:nvPicPr>
        <p:blipFill>
          <a:blip r:embed="rId3"/>
          <a:stretch/>
        </p:blipFill>
        <p:spPr>
          <a:xfrm>
            <a:off x="1066680" y="32004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946680" y="3033720"/>
            <a:ext cx="6651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228760" y="105552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2228760" y="1055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06676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06676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http://www.thomson.co.uk/asset/lpp/v00/233/202.jpg"/>
          <p:cNvPicPr/>
          <p:nvPr/>
        </p:nvPicPr>
        <p:blipFill>
          <a:blip r:embed="rId4"/>
          <a:stretch/>
        </p:blipFill>
        <p:spPr>
          <a:xfrm>
            <a:off x="3657600" y="2971800"/>
            <a:ext cx="4876920" cy="3249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5"/>
          <p:cNvSpPr/>
          <p:nvPr/>
        </p:nvSpPr>
        <p:spPr>
          <a:xfrm>
            <a:off x="144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6"/>
          <p:cNvGrpSpPr/>
          <p:nvPr/>
        </p:nvGrpSpPr>
        <p:grpSpPr>
          <a:xfrm>
            <a:off x="824040" y="2664000"/>
            <a:ext cx="7497720" cy="1531440"/>
            <a:chOff x="824040" y="2664000"/>
            <a:chExt cx="7497720" cy="1531440"/>
          </a:xfrm>
        </p:grpSpPr>
        <p:sp>
          <p:nvSpPr>
            <p:cNvPr id="238" name="Rectangle 17"/>
            <p:cNvSpPr/>
            <p:nvPr/>
          </p:nvSpPr>
          <p:spPr>
            <a:xfrm>
              <a:off x="824040" y="2664000"/>
              <a:ext cx="749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18"/>
            <p:cNvGrpSpPr/>
            <p:nvPr/>
          </p:nvGrpSpPr>
          <p:grpSpPr>
            <a:xfrm>
              <a:off x="824040" y="2709720"/>
              <a:ext cx="1486080" cy="1485720"/>
              <a:chOff x="824040" y="2709720"/>
              <a:chExt cx="1486080" cy="1485720"/>
            </a:xfrm>
          </p:grpSpPr>
          <p:sp>
            <p:nvSpPr>
              <p:cNvPr id="240" name="Rectangle 19"/>
              <p:cNvSpPr/>
              <p:nvPr/>
            </p:nvSpPr>
            <p:spPr>
              <a:xfrm>
                <a:off x="824040" y="2709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20"/>
              <p:cNvGrpSpPr/>
              <p:nvPr/>
            </p:nvGrpSpPr>
            <p:grpSpPr>
              <a:xfrm>
                <a:off x="824040" y="2709720"/>
                <a:ext cx="1486080" cy="1485720"/>
                <a:chOff x="824040" y="2709720"/>
                <a:chExt cx="1486080" cy="1485720"/>
              </a:xfrm>
            </p:grpSpPr>
            <p:sp>
              <p:nvSpPr>
                <p:cNvPr id="242" name="Rectangle 21"/>
                <p:cNvSpPr/>
                <p:nvPr/>
              </p:nvSpPr>
              <p:spPr>
                <a:xfrm>
                  <a:off x="824040" y="2709720"/>
                  <a:ext cx="1486080" cy="148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22"/>
                <p:cNvSpPr/>
                <p:nvPr/>
              </p:nvSpPr>
              <p:spPr>
                <a:xfrm>
                  <a:off x="824040" y="2709720"/>
                  <a:ext cx="1486080" cy="148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4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6532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06532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ttp://www.thomson.co.uk/asset/lpp/v00/476/985.jpg"/>
          <p:cNvPicPr/>
          <p:nvPr/>
        </p:nvPicPr>
        <p:blipFill>
          <a:blip r:embed="rId1"/>
          <a:stretch/>
        </p:blipFill>
        <p:spPr>
          <a:xfrm>
            <a:off x="609480" y="380880"/>
            <a:ext cx="4686480" cy="3086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206532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206532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07648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07648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http://www.thomson.co.uk/asset/lpp/v00/362/633.jpg"/>
          <p:cNvPicPr/>
          <p:nvPr/>
        </p:nvPicPr>
        <p:blipFill>
          <a:blip r:embed="rId2"/>
          <a:stretch/>
        </p:blipFill>
        <p:spPr>
          <a:xfrm>
            <a:off x="838080" y="3733920"/>
            <a:ext cx="3543480" cy="2738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2068560" y="1085760"/>
            <a:ext cx="6651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9216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206856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http://www.thomson.co.uk/asset/lpp/v00/334/431.jpg"/>
          <p:cNvPicPr/>
          <p:nvPr/>
        </p:nvPicPr>
        <p:blipFill>
          <a:blip r:embed="rId3"/>
          <a:stretch/>
        </p:blipFill>
        <p:spPr>
          <a:xfrm>
            <a:off x="5105520" y="4495680"/>
            <a:ext cx="28954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L’année dernière je suis allé(e)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http://www.toondoo.com/toondoo/public/louisem/toons/cool-cartoon-63974.png"/>
          <p:cNvPicPr/>
          <p:nvPr/>
        </p:nvPicPr>
        <p:blipFill>
          <a:blip r:embed="rId1"/>
          <a:stretch/>
        </p:blipFill>
        <p:spPr>
          <a:xfrm>
            <a:off x="0" y="2590920"/>
            <a:ext cx="8823240" cy="35780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380880" y="1523880"/>
            <a:ext cx="3048120" cy="1143000"/>
          </a:xfrm>
          <a:prstGeom prst="wedgeRoundRectCallout">
            <a:avLst>
              <a:gd name="adj1" fmla="val 13439"/>
              <a:gd name="adj2" fmla="val 156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ù est-ce que tu es allé en vacances l’année derniè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152280" y="6019920"/>
            <a:ext cx="2514600" cy="838080"/>
          </a:xfrm>
          <a:prstGeom prst="wedgeRoundRectCallout">
            <a:avLst>
              <a:gd name="adj1" fmla="val -29356"/>
              <a:gd name="adj2" fmla="val -209657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suis allé à Pise en 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3581280" y="1752480"/>
            <a:ext cx="2438640" cy="1067040"/>
          </a:xfrm>
          <a:prstGeom prst="wedgeRoundRectCallout">
            <a:avLst>
              <a:gd name="adj1" fmla="val -36523"/>
              <a:gd name="adj2" fmla="val 190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 allée à Lisbonne au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6400800" y="1676520"/>
            <a:ext cx="2438280" cy="990360"/>
          </a:xfrm>
          <a:prstGeom prst="wedgeRoundRectCallout">
            <a:avLst>
              <a:gd name="adj1" fmla="val -36523"/>
              <a:gd name="adj2" fmla="val 20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 allé à New York aux Etats-U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As-tu une bonne mémoire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you remember how to say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 went to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en we are talking about the name of a 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) There were three different ways to say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 w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en giving the name of a country. Can you remember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) Can you think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9480" y="2057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Je suis allé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(Lisbonne, New York, Pari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358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Je suis allé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n, au, aux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(Italie, Portugal, Etats-Un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480060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 femin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en It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 mascul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au Portugal, au Canada, au Pays de G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x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for plural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untrie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g. aux Etats-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Maintenant, c’est à to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uis en frança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Last year I went to Paris i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g. L’année dernière je suis allé à Paris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2) Yesterday I went to Berlin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3) Next year I’m going to Montreal in Canada 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(au Can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4) Normally I go to Madrid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5) Tomorrow I am going to Cardiff in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6) Last month I went to Los Angeles in America (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aux Etats-Unis</a:t>
            </a: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7) During the holidays I go to Lisbon in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8) Last year I went to Rome i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9) Last week I went to Athens in Greece (</a:t>
            </a:r>
            <a:r>
              <a:rPr b="1" i="1" lang="en-GB" sz="2000" spc="-1" strike="noStrike">
                <a:solidFill>
                  <a:srgbClr val="6600cc"/>
                </a:solidFill>
                <a:latin typeface="Arial"/>
              </a:rPr>
              <a:t>en Grê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10) Next month I am going to London in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8"/>
          <p:cNvSpPr/>
          <p:nvPr/>
        </p:nvSpPr>
        <p:spPr>
          <a:xfrm>
            <a:off x="5148360" y="4842000"/>
            <a:ext cx="187308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92200" y="36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9360" y="325440"/>
            <a:ext cx="4608720" cy="3024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79360" y="3494160"/>
            <a:ext cx="4608720" cy="30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148360" y="134136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148360" y="1947960"/>
            <a:ext cx="187308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148360" y="253836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148360" y="311292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148360" y="426564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rtu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093080" y="134136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7093080" y="19479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093080" y="253836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7093080" y="31129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7093080" y="3689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g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7093080" y="42656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7093080" y="4842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148360" y="368928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ays de G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7091280" y="5356080"/>
            <a:ext cx="18734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m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568840" y="604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un pays ou une lan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5459400" y="1341360"/>
            <a:ext cx="3530520" cy="432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did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8353E-006 L -0.22049 0.32955 E">
                                      <p:cBhvr>
                                        <p:cTn id="7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04186 L -0.51181 0.24121 E">
                                      <p:cBhvr>
                                        <p:cTn id="8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0.03978 L -0.2125 0.29163 E">
                                      <p:cBhvr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73543E-007 L -0.51181 -0.3691 E">
                                      <p:cBhvr>
                                        <p:cTn id="9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19796E-007 L -0.55122 -0.24329 E">
                                      <p:cBhvr>
                                        <p:cTn id="9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46 0.04001 L -0.27552 0.20791 E">
                                      <p:cBhvr>
                                        <p:cTn id="9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4 0.02544 L -0.5276 0.16165 E">
                                      <p:cBhvr>
                                        <p:cTn id="10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42276E-007 L -0.59844 -0.105 E">
                                      <p:cBhvr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79463E-006 L -0.42517 -0.15957 E">
                                      <p:cBhvr>
                                        <p:cTn id="11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73543E-007 L -0.79531 -0.26411 E">
                                      <p:cBhvr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19796E-007 L -0.74028 0.09251 E">
                                      <p:cBhvr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05E-007 L -0.73229 0.14477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4001 L -0.66927 0.19727 E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92200" y="36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836640"/>
            <a:ext cx="4608360" cy="6021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02160" y="836640"/>
            <a:ext cx="4641840" cy="602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093080" y="17733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093080" y="6093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093080" y="2492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484360" y="32148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7093080" y="537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rtu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484360" y="393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484360" y="537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484360" y="177336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484360" y="46544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093080" y="32148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g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7093080" y="393372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7093080" y="465444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484360" y="6093000"/>
            <a:ext cx="1871640" cy="51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Pays de G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2484360" y="2492280"/>
            <a:ext cx="187164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0" y="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 pays et les langu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44280" y="2178000"/>
            <a:ext cx="234180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untries have a capital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4608360" y="2133720"/>
            <a:ext cx="234000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languages do N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509920" y="1228680"/>
            <a:ext cx="1873080" cy="51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’Am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12303E-007 L -0.23611 -0.63136 E">
                                      <p:cBhvr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600200"/>
          <a:ext cx="8723160" cy="4348080"/>
        </p:xfrm>
        <a:graphic>
          <a:graphicData uri="http://schemas.openxmlformats.org/drawingml/2006/table">
            <a:tbl>
              <a:tblPr/>
              <a:tblGrid>
                <a:gridCol w="755640"/>
                <a:gridCol w="431640"/>
                <a:gridCol w="1584360"/>
                <a:gridCol w="1656000"/>
                <a:gridCol w="1871640"/>
                <a:gridCol w="1297080"/>
                <a:gridCol w="1126800"/>
              </a:tblGrid>
              <a:tr h="640440"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11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ar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Pj04339910000[1]"/>
          <p:cNvPicPr/>
          <p:nvPr/>
        </p:nvPicPr>
        <p:blipFill>
          <a:blip r:embed="rId1"/>
          <a:stretch/>
        </p:blipFill>
        <p:spPr>
          <a:xfrm>
            <a:off x="1332000" y="4292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Pj04340490000[1]"/>
          <p:cNvPicPr/>
          <p:nvPr/>
        </p:nvPicPr>
        <p:blipFill>
          <a:blip r:embed="rId2"/>
          <a:stretch/>
        </p:blipFill>
        <p:spPr>
          <a:xfrm>
            <a:off x="4427640" y="1916280"/>
            <a:ext cx="3225600" cy="214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618480" y="2708280"/>
            <a:ext cx="335376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rl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327920" y="4365720"/>
            <a:ext cx="313128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lem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01520" y="5516640"/>
            <a:ext cx="4290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ll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968400" y="2708280"/>
            <a:ext cx="349380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dr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4869000"/>
            <a:ext cx="27198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s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MPj04339940000[1]"/>
          <p:cNvPicPr/>
          <p:nvPr/>
        </p:nvPicPr>
        <p:blipFill>
          <a:blip r:embed="rId1"/>
          <a:stretch/>
        </p:blipFill>
        <p:spPr>
          <a:xfrm>
            <a:off x="1332000" y="4437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RealMadrid_Logo.jpg"/>
          <p:cNvPicPr/>
          <p:nvPr/>
        </p:nvPicPr>
        <p:blipFill>
          <a:blip r:embed="rId2"/>
          <a:stretch/>
        </p:blipFill>
        <p:spPr>
          <a:xfrm>
            <a:off x="5148360" y="1700280"/>
            <a:ext cx="2224080" cy="2674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2"/>
          <p:cNvSpPr/>
          <p:nvPr/>
        </p:nvSpPr>
        <p:spPr>
          <a:xfrm>
            <a:off x="4599360" y="5802480"/>
            <a:ext cx="4268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espag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62640" y="2708280"/>
            <a:ext cx="37832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ondr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14680" y="4869000"/>
            <a:ext cx="31280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gle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Pj04339890000[1]"/>
          <p:cNvPicPr/>
          <p:nvPr/>
        </p:nvPicPr>
        <p:blipFill>
          <a:blip r:embed="rId1"/>
          <a:stretch/>
        </p:blipFill>
        <p:spPr>
          <a:xfrm>
            <a:off x="1187280" y="4149720"/>
            <a:ext cx="2794320" cy="209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MPj04021610000[1]"/>
          <p:cNvPicPr/>
          <p:nvPr/>
        </p:nvPicPr>
        <p:blipFill>
          <a:blip r:embed="rId2"/>
          <a:stretch/>
        </p:blipFill>
        <p:spPr>
          <a:xfrm>
            <a:off x="5078520" y="1916280"/>
            <a:ext cx="3028680" cy="2423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630320" y="5873760"/>
            <a:ext cx="3874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252360" y="189000"/>
            <a:ext cx="4103640" cy="1655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ù v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33480" y="2708280"/>
            <a:ext cx="333972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 vai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Ro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448880" y="4869000"/>
            <a:ext cx="2043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t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MPj04339930000[1]"/>
          <p:cNvPicPr/>
          <p:nvPr/>
        </p:nvPicPr>
        <p:blipFill>
          <a:blip r:embed="rId1"/>
          <a:stretch/>
        </p:blipFill>
        <p:spPr>
          <a:xfrm>
            <a:off x="1258920" y="4221000"/>
            <a:ext cx="2651040" cy="198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432515~Colosseum-Rome-Italy-Posters"/>
          <p:cNvPicPr/>
          <p:nvPr/>
        </p:nvPicPr>
        <p:blipFill>
          <a:blip r:embed="rId2"/>
          <a:stretch/>
        </p:blipFill>
        <p:spPr>
          <a:xfrm>
            <a:off x="5003640" y="177336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4678920" y="5873760"/>
            <a:ext cx="3682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 je parle ita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9:07:08Z</dcterms:created>
  <dc:creator>Thomas</dc:creator>
  <dc:description/>
  <dc:language>en-US</dc:language>
  <cp:lastModifiedBy>Clare Seccombe</cp:lastModifiedBy>
  <dcterms:modified xsi:type="dcterms:W3CDTF">2014-04-15T06:15:30Z</dcterms:modified>
  <cp:revision>37</cp:revision>
  <dc:subject/>
  <dc:title>Slide 1</dc:title>
</cp:coreProperties>
</file>