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4CD-E2EA-4A1F-A180-EA8000D2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F54-71F7-45C9-AAC8-900F513F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7D2-3B5F-40F0-9779-E4AEA1B9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BBD-C455-4DA4-9C19-57ABF897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7D2-6402-4901-82DB-8F8C741B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72D-5E83-40E6-9DDC-45CD399E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715-701E-45C0-A039-60C4A25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6C1-35AF-42EE-A4D4-32E509E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3F9-8EF7-4211-A040-C6B03729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EB2-2397-4357-AFE2-B21F021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4A0-6B04-4BC7-8404-D776401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20A-99F3-45A0-A133-9A2C513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2D9-DE76-4649-926E-E1247FA0F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aftcorral.com/i/1my%2520photos/tn_girl_clipart.jpg&amp;imgrefurl=http://www.craftcorral.com/&amp;h=200&amp;w=134&amp;sz=7&amp;hl=en&amp;start=1&amp;um=1&amp;tbnid=z3oQr84khhqU6M:&amp;tbnh=104&amp;tbnw=70&amp;prev=/images%3Fq%3Dgirl%2Bclipart%26svnum%3D10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.uk/imgres?imgurl=http://www.freefever.com/freeclipart/clipart/man.gif&amp;imgrefurl=http://www.freefever.com/freeclipart/man.html&amp;h=190&amp;w=150&amp;sz=5&amp;hl=en&amp;start=1&amp;um=1&amp;tbnid=RCByAsld0s0usM:&amp;tbnh=103&amp;tbnw=81&amp;prev=/images%3Fq%3Dman%2Bclipart%26svnum%3D10%26um%3D1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14" Type="http://schemas.openxmlformats.org/officeDocument/2006/relationships/image" Target="../media/image26.jpeg"/><Relationship Id="rId15" Type="http://schemas.openxmlformats.org/officeDocument/2006/relationships/image" Target="../media/image10.png"/><Relationship Id="rId16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google.co.uk/imgres?imgurl=http://www.datakeypprep.com/images/clipart.jpg&amp;imgrefurl=http://www.datakeypprep.com/analyst.html&amp;h=127&amp;w=127&amp;sz=7&amp;hl=en&amp;start=17&amp;um=1&amp;tbnid=3MXLC10VcEY5nM:&amp;tbnh=90&amp;tbnw=90&amp;prev=/images%3Fq%3Dit%2Bconsultant%2Bclipart%26svnum%3D10%26um%3D1%26hl%3Den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aftcorral.com/i/1my%2520photos/tn_girl_clipart.jpg&amp;imgrefurl=http://www.craftcorral.com/&amp;h=200&amp;w=134&amp;sz=7&amp;hl=en&amp;start=1&amp;um=1&amp;tbnid=z3oQr84khhqU6M:&amp;tbnh=104&amp;tbnw=70&amp;prev=/images%3Fq%3Dgirl%2Bclipart%26svnum%3D10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.uk/imgres?imgurl=http://www.freefever.com/freeclipart/clipart/man.gif&amp;imgrefurl=http://www.freefever.com/freeclipart/man.html&amp;h=190&amp;w=150&amp;sz=5&amp;hl=en&amp;start=1&amp;um=1&amp;tbnid=RCByAsld0s0usM:&amp;tbnh=103&amp;tbnw=81&amp;prev=/images%3Fq%3Dman%2Bclipart%26svnum%3D10%26um%3D1%26hl%3De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Les m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  <a:ea typeface="Arial"/>
              </a:rPr>
              <a:t>étiers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learn masculine and feminine words for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76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581600">
            <a:off x="4355280" y="6165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7764800">
            <a:off x="1114920" y="24217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174200">
            <a:off x="6876720" y="5157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555200">
            <a:off x="250920" y="3573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469600">
            <a:off x="3132000" y="12679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9957600">
            <a:off x="7524720" y="2492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733400">
            <a:off x="4932360" y="549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394800">
            <a:off x="7524000" y="83700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6524640"/>
            <a:ext cx="417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LRichardson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Les r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  <a:ea typeface="Arial"/>
              </a:rPr>
              <a:t>ègles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i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i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e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i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- ien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413000"/>
            <a:ext cx="1017360" cy="1512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557360"/>
            <a:ext cx="10764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0"/>
            <a:ext cx="7632720" cy="6396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60280"/>
            <a:ext cx="4622760" cy="5184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2205000"/>
            <a:ext cx="3836880" cy="465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136000">
            <a:off x="1908000" y="691920"/>
            <a:ext cx="5348520" cy="53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64200">
            <a:off x="4284360" y="260280"/>
            <a:ext cx="4457520" cy="5977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58920" y="1268280"/>
            <a:ext cx="2468520" cy="252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19280" y="549360"/>
            <a:ext cx="5834160" cy="58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>
            <a:off x="611280" y="3141720"/>
            <a:ext cx="7777080" cy="993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1882200">
            <a:off x="2777760" y="620640"/>
            <a:ext cx="3822840" cy="4032360"/>
          </a:xfrm>
          <a:prstGeom prst="rect">
            <a:avLst/>
          </a:prstGeom>
          <a:ln w="0">
            <a:noFill/>
          </a:ln>
        </p:spPr>
      </p:pic>
      <p:sp>
        <p:nvSpPr>
          <p:cNvPr id="180" name="PubCross"/>
          <p:cNvSpPr/>
          <p:nvPr/>
        </p:nvSpPr>
        <p:spPr>
          <a:xfrm rot="2623800">
            <a:off x="1835280" y="404640"/>
            <a:ext cx="5767200" cy="5642280"/>
          </a:xfrm>
          <a:custGeom>
            <a:avLst/>
            <a:gdLst>
              <a:gd name="textAreaLeft" fmla="*/ 2017800 w 5767200"/>
              <a:gd name="textAreaRight" fmla="*/ 3749400 w 5767200"/>
              <a:gd name="textAreaTop" fmla="*/ 2028960 h 5642280"/>
              <a:gd name="textAreaBottom" fmla="*/ 3613320 h 564228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9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de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rof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i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sthérap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en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re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apeur-pom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g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nui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e d’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5805360"/>
            <a:ext cx="26654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o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ô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chôm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un/une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n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ère est pilote d’av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ma 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ère est femme d’aff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404640"/>
            <a:ext cx="201636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08000" y="333360"/>
            <a:ext cx="165564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iff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uisin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rv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de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rof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i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i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sthérap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en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om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re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apeur-pom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g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nui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rmi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142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e d’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auff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écan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nd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5805360"/>
            <a:ext cx="26654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o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mme 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c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ch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ô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chôm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89000"/>
            <a:ext cx="920880" cy="13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89000"/>
            <a:ext cx="1076400" cy="1368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ferm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coiff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coiff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erv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7"/>
                </a:solidFill>
                <a:latin typeface="Comic Sans MS"/>
              </a:rPr>
              <a:t>informatic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fffff7"/>
                </a:solidFill>
                <a:latin typeface="Comic Sans MS"/>
              </a:rPr>
              <a:t>écre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7"/>
                </a:solidFill>
                <a:latin typeface="Comic Sans MS"/>
              </a:rPr>
              <a:t>écanic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profess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comp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o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213000"/>
            <a:ext cx="2663640" cy="720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d’aff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33333E-006 C 0.00539 -0.00208 0.01042 -0.00393 0.01494 -0.00879 C 0.02049 -0.01481 0.03004 -0.02893 0.03004 -0.02893 C 0.03195 -0.03704 0.03508 -0.05324 0.03508 -0.05324 C 0.03317 -0.10162 0.03959 -0.0912 0.02171 -0.11551 C 0.01251 -0.12801 0.02587 -0.11736 0.01164 -0.12662 C -0.00208 -0.14491 0.01563 -0.12361 6.38889E-006 -0.13542 C -0.01267 -0.14491 0.00296 -0.14074 -0.01163 -0.14444 C -0.021 -0.14699 -0.03992 -0.15116 -0.03992 -0.15116 C -0.09357 -0.14745 -0.12794 -0.16111 -0.1684 -0.12662 C -0.18107 -0.11597 -0.18315 -0.11296 -0.18992 -0.1 C -0.19617 -0.08819 -0.20833 -0.06435 -0.20833 -0.06435 C -0.21944 -0.02292 -0.22482 0.01204 -0.22829 0.05556 C -0.22656 0.08958 -0.22569 0.12384 -0.22326 0.15787 C -0.21978 0.20718 -0.17951 0.27431 -0.14496 0.29121 C -0.1269 0.3 -0.10867 0.30232 -0.08992 0.30671 C -0.06215 0.30533 -0.03419 0.30648 -0.00659 0.30232 C 0.05001 0.29375 0.09758 0.23449 0.12831 0.1757 C 0.13056 0.15833 0.13699 0.14375 0.13994 0.12662 C 0.13837 0.0963 0.13803 0.06574 0.13508 0.03565 C 0.13212 0.00602 0.12206 -0.04514 0.10001 -0.06227 C 0.08872 -0.07106 0.07935 -0.07315 0.06667 -0.07778 C 0.01719 -0.07106 0.02397 -0.08518 0.00174 -0.05324 C -0.0026 -0.04699 -0.00711 -0.04143 -0.01163 -0.03542 C -0.0151 -0.02338 -0.01978 -0.01204 -0.02326 3.33333E-006 C -0.0269 0.01296 -0.02864 0.02685 -0.03159 0.04005 C -0.03038 0.05949 -0.03298 0.08033 -0.02673 0.09792 C 0.00556 0.18912 0.08039 0.22732 0.15174 0.23773 C 0.2165 0.23241 0.18785 0.23912 0.23837 0.22222 C 0.25278 0.21736 0.25574 0.20972 0.26667 0.20232 C 0.29167 0.18565 0.27813 0.19884 0.29341 0.18218 C 0.29862 0.16829 0.30278 0.15741 0.30504 0.14236 C 0.30261 0.12361 0.29601 0.10926 0.2816 0.1044 C 0.27379 0.09398 0.26511 0.09537 0.25504 0.10232 E">
                                      <p:cBhvr>
                                        <p:cTn id="43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07 -0.00139 0.02032 -0.00116 0.03004 -0.0044 C 0.04271 -0.00834 0.06632 -0.03056 0.075 -0.03774 C 0.11077 -0.0676 0.14132 -0.12431 0.15348 -0.17778 C 0.15105 -0.1919 0.15157 -0.20718 0.14671 -0.22014 C 0.14202 -0.23264 0.11771 -0.23797 0.11007 -0.24005 C 0.09341 -0.23565 0.07639 -0.23334 0.06007 -0.22663 C 0.04618 -0.22107 0.03542 -0.19792 0.02848 -0.1845 C -0.00329 -0.12315 0 -0.04144 -0.01007 0.02893 C -0.01527 0.11087 -0.03003 0.19328 -0.075 0.25324 C -0.08107 0.26134 -0.10382 0.27708 -0.10486 0.27777 C -0.10729 0.27962 -0.11041 0.27893 -0.11319 0.27986 C -0.12708 0.28425 -0.14079 0.28935 -0.15486 0.29328 C -0.16267 0.29537 -0.17048 0.2956 -0.17829 0.29768 C -0.28159 0.32523 -0.22222 0.31527 -0.28663 0.3243 C -0.2967 0.32129 -0.30711 0.32037 -0.31666 0.3155 C -0.3493 0.29907 -0.36579 0.25439 -0.38489 0.2199 C -0.39652 0.1787 -0.3927 0.19675 -0.39826 0.16666 C -0.40052 0.13726 -0.40034 0.11041 -0.39323 0.08217 C -0.39097 0.04745 -0.3934 0.06458 -0.38489 0.02662 C -0.38333 0.01921 -0.38159 0.0118 -0.37986 0.00439 C -0.37882 0 -0.37847 -0.01366 -0.37829 -0.00903 C -0.3776 0.00578 -0.37829 0.0206 -0.37829 0.03541 E">
                                      <p:cBhvr>
                                        <p:cTn id="4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8.51852E-006 C 0.03039 -0.00833 0.00626 -0.000460000000000002 0.06702 -0.04444 C 0.10122 -0.06921 0.13299 -0.09999 0.16529 -0.12893 C 0.17518 -0.13773 0.18369 -0.1493 0.19358 -0.15786 C 0.29636 -0.24675 0.22466 -0.17337 0.32032 -0.26666 C 0.33299 -0.27916 0.34289 -0.29722 0.35695 -0.30671 C 0.37588 -0.31921 0.39237 -0.3361 0.41025 -0.35115 C 0.4139 -0.35416 0.43404 -0.36944 0.44029 -0.37777 C 0.44202 -0.38009 0.44341 -0.38263 0.44532 -0.38448 C 0.4474 -0.38634 0.45365 -0.38657 0.45192 -0.38888 C 0.45174 -0.38911 0.43542 -0.38448 0.43525 -0.38448 C 0.41355 -0.36712 0.38681 -0.3662 0.36372 -0.35347 C 0.32709 -0.3331 0.28438 -0.31458 0.25192 -0.28448 C 0.12379 -0.1662 -0.01996 -0.08032 -0.14635 0.04214 C -0.20242 0.09653 -0.34183 0.23265 -0.40971 0.29561 C -0.50937 0.38797 -0.47378 0.36459 -0.53801 0.40209 C -0.52881 0.40626 -0.53558 0.40556 -0.52638 0.39329 C -0.52447 0.39075 -0.52187 0.3889 -0.51961 0.38658 C -0.49791 0.34005 -0.46215 0.29607 -0.43628 0.25741 C -0.37204 0.16251 -0.31666 0.09538 -0.23298 0.03334 C -0.21301 0.01852 -0.196 0.0051 -0.17465 -0.00439 C -0.14965 -0.0037 -0.1243 -0.00786 -0.09965 -0.00231 C -0.09305 -0.00092 -0.0894 0.00927 -0.08471 0.01552 C -0.071 0.0338 -0.07239 0.04005 -0.05642 0.04445 C -0.04513 0.05556 -0.03471 0.06714 -0.02308 0.07778 C -0.02135 0.0794 -0.00294 0.09468 -0.00294 0.10209 E">
                                      <p:cBhvr>
                                        <p:cTn id="44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62963E-006 C 0.01215 0.0044 0.025 0.00626 0.03663 0.0132 C 0.04514 0.01829 0.05069 0.04051 0.0533 0.05116 C 0.05226 0.05695 0.05174 0.0632 0.05 0.06876 C 0.04149 0.09491 0.0066 0.11528 -0.01181 0.12431 C -0.02535 0.13102 -0.03646 0.1345 -0.04514 0.15116 C -0.04392 0.15857 -0.04427 0.16667 -0.04167 0.17338 C -0.03351 0.19468 0.02205 0.19075 0.02326 0.19098 C 0.0349 0.20672 0.03385 0.22084 0.0283 0.24445 C 0.02778 0.24676 0.02483 0.24561 0.02326 0.24653 C 0.01597 0.25139 0.01094 0.2544 0.0033 0.25764 C -0.00521 0.26551 -0.00347 0.27292 -0.00347 0.28658 E">
                                      <p:cBhvr>
                                        <p:cTn id="45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C 0.00434 -0.01875 0.03385 -0.03472 0.04826 -0.03773 C 0.05764 -0.03634 0.06736 -0.0368 0.07656 -0.03333 C 0.07951 -0.03217 0.0809 -0.02731 0.08333 -0.02453 C 0.11996 0.01852 0.09566 -0.0162 0.1099 0.01111 C 0.12621 0.0426 0.13472 0.07477 0.14323 0.11111 C 0.14271 0.13635 0.15694 0.19306 0.13333 0.2088 C 0.12778 0.20741 0.12187 0.20741 0.11667 0.2044 C 0.1099 0.2007 0.10851 0.18936 0.10486 0.18218 C 0.08229 0.08565 0.14687 0.03588 0.2 0.00232 C 0.21667 -0.0081 0.23229 -0.02361 0.25 -0.03102 C 0.25608 -0.03935 0.25035 -0.03333 0.26163 -0.03773 C 0.27726 -0.04375 0.29219 -0.05046 0.30833 -0.05324 C 0.32726 -0.06203 0.32326 -0.05208 0.32326 -0.08449 E">
                                      <p:cBhvr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66667E-006 C 0.00834 -0.00786 0.01476 -0.01805 0.02327 -0.02684 C 0.02744 -0.03124 0.03317 -0.03124 0.03803 -0.03333 C 0.04584 -0.03194 0.05417 -0.03217 0.06164 -0.02893 C 0.06459 -0.02754 0.06633 -0.02337 0.06824 -0.02013 C 0.07935 -0.00208 0.08716 0.01066 0.1014 0.02663 C 0.13074 0.05927 0.1474 0.08242 0.18664 0.09538 C 0.24705 0.08867 0.2724 0.10117 0.31164 0.04885 C 0.3165 0.02501 0.32535 -0.0192 0.3099 -0.03795 C 0.30278 -0.04652 0.29358 -0.05069 0.2849 -0.05555 C 0.27883 -0.05485 0.27258 -0.05578 0.26667 -0.05346 C 0.2606 -0.05092 0.26268 -0.02708 0.26494 -0.02013 C 0.26719 -0.01342 0.28855 -0.00393 0.29324 -0.00231 C 0.31824 -0.00462 0.32067 -0.00161 0.33664 -0.02221 C 0.33612 -0.02962 0.33612 -0.03726 0.3349 -0.04444 C 0.33438 -0.04698 0.33247 -0.04883 0.3316 -0.05115 C 0.32327 -0.07314 0.30556 -0.09328 0.28664 -0.09791 C 0.28056 -0.0993 0.27431 -0.0993 0.26824 -0.09999 C 0.22883 -0.09629 0.19254 -0.09096 0.15487 -0.07569 C 0.13403 -0.06735 0.11442 -0.05601 0.09497 -0.04444 C 0.08351 -0.03772 0.08733 -0.04189 0.0764 -0.03795 C 0.06476 -0.03356 0.0533 -0.02708 0.04167 -0.02221 C 0.01789 -0.01249 -0.00572 0.00417 -0.03003 0.01112 C -0.04322 0.01482 -0.05676 0.01552 -0.07013 0.0176 C -0.08281 0.02455 -0.09079 0.02663 -0.10347 0.03103 C -0.24722 0.02917 -0.22621 0.03265 -0.30173 0.02223 C -0.31145 0.01783 -0.32239 0.01598 -0.33176 0.01112 C -0.34322 0.00533 -0.35329 -0.00069 -0.3651 -0.00462 C -0.3743 -0.01272 -0.38437 -0.01851 -0.3934 -0.02684 C -0.39444 -0.02893 -0.39548 -0.03124 -0.3967 -0.03333 C -0.39878 -0.03657 -0.40347 -0.04235 -0.40347 -0.04235 C -0.4085 -0.06365 -0.3901 -0.06643 -0.37847 -0.07129 C -0.36874 -0.07522 -0.36145 -0.08309 -0.35173 -0.0868 C -0.32985 -0.0949 -0.30729 -0.10092 -0.28506 -0.1067 C -0.27204 -0.1155 -0.25763 -0.12453 -0.2434 -0.12893 C -0.22638 -0.13425 -0.20867 -0.13657 -0.19166 -0.14235 C -0.1493 -0.15694 -0.16892 -0.15277 -0.13506 -0.16226 C -0.11284 -0.16851 -0.0894 -0.16944 -0.06666 -0.17129 C -0.05121 -0.16897 -0.03541 -0.16897 -0.02013 -0.16458 C -0.00729 -0.16087 -0.00624 -0.15231 0.0033 -0.14444 C 0.00608 -0.14212 0.02067 -0.13981 -0.00173 -0.14444 C -0.00798 -0.153 -0.0085 -0.16666 -0.00173 -0.17569 E">
                                      <p:cBhvr>
                                        <p:cTn id="45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55556E-006 C 0.01337 0.02385 0.01649 0.0507 0.02344 0.07779 C 0.02118 0.11969 0.0276 0.16621 -0.01163 0.17339 C -0.01771 0.17455 -0.02378 0.17501 -0.02986 0.1757 C -0.06215 0.16922 -0.06597 0.1801 -0.06996 0.14445 C -0.06615 0.12825 -0.06424 0.11089 -0.05833 0.09561 C -0.04496 0.06112 -0.0092 0.05464 0.0151 0.05117 C 0.03715 0.05487 0.05156 0.05811 0.0717 0.06899 C 0.08333 0.07524 0.09254 0.08566 0.10504 0.0889 C 0.12674 0.10348 0.14896 0.11297 0.1717 0.12455 C 0.18125 0.12941 0.19167 0.13033 0.20174 0.13334 C 0.20451 0.13404 0.21007 0.13566 0.21007 0.13566 C 0.21458 0.13519 0.26163 0.13473 0.28004 0.12455 C 0.30712 0.10973 0.33281 0.0757 0.34514 0.04006 C 0.3592 -0.000690000000000003 0.33594 0.06019 0.36007 -0.0199 C 0.3658 -0.03911 0.37309 -0.05763 0.37674 -0.07777 C 0.38351 -0.11457 0.37726 -0.08911 0.38177 -0.1067 C 0.38021 -0.13726 0.38524 -0.253 0.34167 -0.26666 C 0.3283 -0.27082 0.31736 -0.27592 0.30347 -0.27777 C 0.2967 -0.27638 0.28976 -0.27615 0.28333 -0.27337 C 0.27587 -0.27013 0.27257 -0.25045 0.27014 -0.24212 C 0.27118 -0.2317 0.27083 -0.22106 0.27344 -0.2111 C 0.27778 -0.19444 0.29445 -0.18749 0.30504 -0.18217 C 0.3184 -0.18448 0.33195 -0.18494 0.34514 -0.18888 C 0.37274 -0.19698 0.39983 -0.22754 0.4151 -0.25763 C 0.4191 -0.28194 0.42309 -0.29305 0.41667 -0.3199 C 0.41597 -0.32268 0.40313 -0.33703 0.40174 -0.33772 C 0.39531 -0.34073 0.38177 -0.34212 0.38177 -0.34212 C 0.36163 -0.33981 0.36389 -0.33934 0.34844 -0.32893 C 0.33299 -0.30717 0.32969 -0.27314 0.325 -0.24444 C 0.3224 -0.22823 0.32517 -0.21874 0.31337 -0.2111 C 0.31059 -0.21249 0.30747 -0.21319 0.30504 -0.2155 C 0.30347 -0.21712 0.30313 -0.22036 0.30174 -0.22221 C 0.29931 -0.22545 0.29583 -0.22777 0.2934 -0.23101 E">
                                      <p:cBhvr>
                                        <p:cTn id="46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C 0.01406 -0.00579 0.0217 -0.02315 0.03004 -0.03773 C 0.03247 -0.04699 0.03507 -0.06667 0.03507 -0.06667 C 0.03455 -0.0875 0.03646 -0.10856 0.03334 -0.12893 C 0.03125 -0.1419 0.02448 -0.15254 0.01997 -0.16435 C 0.00156 -0.21111 -0.02153 -0.21921 -0.05833 -0.22222 C -0.09305 -0.21435 -0.12465 -0.20856 -0.1467 -0.16875 C -0.16094 -0.14305 -0.16614 -0.10139 -0.1717 -0.07338 C -0.17812 -0.04167 -0.18316 -0.01042 -0.19166 0.02014 C -0.19913 0.04722 -0.20642 0.07778 -0.2283 0.09121 C -0.24514 0.10139 -0.24392 0.09977 -0.26163 0.1044 C -0.29028 0.10116 -0.31875 0.1007 -0.33993 0.07107 C -0.34774 0.04815 -0.35191 0.02477 -0.35503 3.33333E-006 C -0.35069 -0.07454 -0.35746 -0.18796 -0.28663 -0.20879 C -0.27604 -0.20741 -0.2651 -0.20903 -0.25503 -0.2044 C -0.24982 -0.20208 -0.24323 -0.18889 -0.24323 -0.18889 C -0.23767 -0.17384 -0.23333 -0.16458 -0.23003 -0.14884 C -0.23107 -0.13102 -0.2309 -0.11319 -0.23333 -0.0956 C -0.2342 -0.08912 -0.23802 -0.08379 -0.23993 -0.07778 C -0.25469 -0.02986 -0.29045 -0.00139 -0.3283 0.0044 C -0.33993 0.00371 -0.35173 0.00463 -0.36337 0.00232 C -0.37795 -0.00046 -0.38698 -0.02176 -0.39166 -0.03773 C -0.3941 -0.06574 -0.39687 -0.075 -0.38993 -0.10671 C -0.38923 -0.10972 -0.38646 -0.11088 -0.38489 -0.11319 C -0.37795 -0.12361 -0.37309 -0.13125 -0.36493 -0.14004 C -0.36232 -0.15069 -0.36337 -0.14421 -0.36337 -0.15995 E">
                                      <p:cBhvr>
                                        <p:cTn id="46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0.00295 -0.00162 0.0066 -0.00232 0.0092 -0.0044 C 0.01441 -0.00857 0.01528 -0.01574 0.01719 -0.0213 C 0.02448 -0.07686 -0.0184 -0.12361 -0.07743 -0.13449 C -0.14201 -0.12454 -0.10833 -0.13519 -0.13264 -0.11898 C -0.13576 -0.10371 -0.13125 -0.11875 -0.13889 -0.10787 C -0.14132 -0.10417 -0.14514 -0.0963 -0.14514 -0.0963 C -0.14566 -0.09398 -0.14566 -0.09144 -0.1467 -0.08936 C -0.14843 -0.08635 -0.15295 -0.08079 -0.15295 -0.08056 C -0.1552 -0.07361 -0.15764 -0.07199 -0.1625 -0.06667 C -0.16371 -0.06528 -0.16406 -0.06297 -0.16562 -0.06227 C -0.17205 -0.05949 -0.18298 -0.05695 -0.19097 -0.05533 C -0.25659 -0.06181 -0.32239 -0.06343 -0.37378 -0.10486 C -0.37864 -0.11297 -0.38767 -0.11829 -0.39288 -0.12593 C -0.40052 -0.13727 -0.40868 -0.14838 -0.41493 -0.16019 C -0.41857 -0.16736 -0.42083 -0.17523 -0.4243 -0.18264 C -0.4243 -0.18426 -0.42135 -0.2132 -0.41649 -0.21945 C -0.41545 -0.22107 -0.41319 -0.2213 -0.4118 -0.22223 C -0.4085 -0.22454 -0.40555 -0.22709 -0.40225 -0.2294 C -0.38802 -0.23889 -0.36909 -0.24607 -0.35173 -0.24931 C -0.34739 -0.24908 -0.31545 -0.25186 -0.31545 -0.23797 E">
                                      <p:cBhvr>
                                        <p:cTn id="47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6 C 0.00886 -0.00069 0.01789 -0.00022 0.02674 -0.00208 C 0.03681 -0.00416 0.04653 -0.02893 0.05348 -0.03772 C 0.0573 -0.06481 0.06233 -0.10763 0.03837 -0.11759 C 0.03004 -0.11666 0.02032 -0.11944 0.01337 -0.11319 C -0.00885 -0.09374 -0.01093 -0.08749 -0.03159 -0.05995 C -0.06979 -0.00902 -0.10503 0.06413 -0.16319 0.07339 C -0.17552 0.06876 -0.18975 0.06667 -0.19826 0.05116 C -0.20277 0.04306 -0.21163 0.02686 -0.21163 0.02686 C -0.21701 0.00325 -0.22118 -0.01735 -0.22326 -0.04212 C -0.22274 -0.05717 -0.22378 -0.07221 -0.22152 -0.0868 C -0.21961 -0.09907 -0.2052 -0.10833 -0.19826 -0.11319 C -0.19253 -0.11759 -0.18732 -0.12268 -0.18159 -0.12684 C -0.1743 -0.13147 -0.16614 -0.13263 -0.15833 -0.13564 C -0.13698 -0.14374 -0.11371 -0.14837 -0.09166 -0.15092 C -0.03368 -0.17106 0.04011 -0.16342 0.09514 -0.16434 C 0.13403 -0.16921 0.17466 -0.20208 0.19844 -0.24444 C 0.20348 -0.25323 0.20799 -0.26272 0.21337 -0.27106 C 0.21476 -0.27314 0.21702 -0.2736 0.21841 -0.27546 C 0.22084 -0.2787 0.22275 -0.28286 0.225 -0.2868 C 0.22934 -0.30323 0.23768 -0.31666 0.24167 -0.33356 C 0.2474 -0.35786 0.24931 -0.37569 0.26007 -0.39768 C 0.26198 -0.40717 0.26528 -0.41365 0.26841 -0.42221 C 0.27292 -0.43425 0.27709 -0.44305 0.28334 -0.45323 C 0.28455 -0.45532 0.28525 -0.45833 0.28681 -0.45995 C 0.29046 -0.46388 0.29566 -0.46434 0.3 -0.46666 C 0.30191 -0.47384 0.30174 -0.47083 0.30174 -0.47546 E">
                                      <p:cBhvr>
                                        <p:cTn id="47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C -0.0118 -0.00625 -0.01562 -0.00972 -0.025 -0.02222 C -0.02725 -0.02523 -0.03159 -0.03102 -0.03159 -0.03102 C -0.03593 -0.05463 -0.03767 -0.05602 -0.03333 -0.08657 C -0.03194 -0.0963 -0.01319 -0.11111 -0.00659 -0.11342 C 0.01546 -0.11111 0.01459 -0.11713 0.02014 -0.0956 C 0.01719 -0.05741 0.01684 -0.06852 -0.01666 -0.07338 C -0.0368 -0.10023 -0.02534 -0.13842 -0.03489 -0.17106 C -0.03923 -0.18565 -0.06111 -0.18704 -0.06996 -0.1912 C -0.08559 -0.18958 -0.10156 -0.19143 -0.11666 -0.18657 C -0.12534 -0.1838 -0.13993 -0.16898 -0.13993 -0.16898 C -0.15069 -0.15092 -0.16215 -0.13426 -0.16996 -0.11342 C -0.17465 -0.10116 -0.17708 -0.08796 -0.18159 -0.07546 C -0.19913 -0.08148 -0.21319 -0.08704 -0.23159 -0.08889 C -0.24583 -0.09352 -0.2618 -0.09699 -0.275 -0.10671 C -0.296 -0.12222 -0.31076 -0.1456 -0.32656 -0.16898 C -0.33489 -0.19676 -0.35121 -0.21435 -0.35833 -0.24444 C -0.36632 -0.27847 -0.37413 -0.30717 -0.37656 -0.34213 C -0.37517 -0.36065 -0.37656 -0.38032 -0.37152 -0.39768 C -0.36979 -0.40393 -0.36666 -0.40926 -0.36493 -0.41551 C -0.36267 -0.42338 -0.3625 -0.43217 -0.35989 -0.44005 C -0.3585 -0.44444 -0.35503 -0.44699 -0.35329 -0.45116 C -0.35017 -0.45833 -0.34878 -0.4669 -0.34496 -0.47338 C -0.3368 -0.4868 -0.3217 -0.49467 -0.30989 -0.5 C -0.2993 -0.49074 -0.30486 -0.49838 -0.30486 -0.46898 E">
                                      <p:cBhvr>
                                        <p:cTn id="47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43:21Z</dcterms:created>
  <dc:creator>Lynne</dc:creator>
  <dc:description/>
  <dc:language>en-US</dc:language>
  <cp:lastModifiedBy>Clare Seccombe</cp:lastModifiedBy>
  <dcterms:modified xsi:type="dcterms:W3CDTF">2014-04-25T12:29:39Z</dcterms:modified>
  <cp:revision>5</cp:revision>
  <dc:subject/>
  <dc:title>Les métiers</dc:title>
</cp:coreProperties>
</file>